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E40-9570-4EC7-914D-91DB3CA0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E05-32D3-49B0-8F58-165290E4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DA0-2994-469C-BE38-526963E3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34F-03E7-4D4D-93D2-58D24A4B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E863-B041-4E25-84B0-797107FF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D39-2072-4730-A107-F48A7020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7BE-8F10-44BE-B123-0BDF4146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311-396D-4BA8-819A-7C878897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D24E-0714-4F63-8B78-DA6A73B7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D59-0D12-4A6F-94F7-469F7671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144-7DBA-40AD-83FB-486DE0B5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176-C0BB-445B-AA80-5AA69136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CBAC-958F-40EF-A66F-AD263B7316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08000" y="189000"/>
            <a:ext cx="90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омента поступления уголовного дела в суд начинается судебное производство первой инстанции, первой стадией которого является подготовка к судебному заседанию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ая цель и назначение данной стадии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ение и установление процессуальных условий для назначения судебного разбирательства, то есть для рассмотрения дела по существ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92160" y="549360"/>
            <a:ext cx="90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авдание по любому из оснований означает признание подсудимого невиновным и влечет за собой его реаби­литаци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extBox 1" descr=""/>
          <p:cNvPicPr/>
          <p:nvPr/>
        </p:nvPicPr>
        <p:blipFill>
          <a:blip r:embed="rId1"/>
          <a:stretch/>
        </p:blipFill>
        <p:spPr>
          <a:xfrm>
            <a:off x="-176040" y="-122400"/>
            <a:ext cx="9588240" cy="693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TextBox 1" descr=""/>
          <p:cNvPicPr/>
          <p:nvPr/>
        </p:nvPicPr>
        <p:blipFill>
          <a:blip r:embed="rId1"/>
          <a:stretch/>
        </p:blipFill>
        <p:spPr>
          <a:xfrm>
            <a:off x="-92160" y="-103320"/>
            <a:ext cx="950436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108000" y="189000"/>
            <a:ext cx="903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й стадии решаются важные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          -проверяется наличие достаточных оснований для рассмотрения поступившего в суд уголовного дела в судебном разбирательстве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яется отсутствие  процессуальных препятствии для  дальнейшего движения уголовного дел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здаются организационные предпосылки для проведения судебного заседания в предусмотренном законом порядк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08000" y="189000"/>
            <a:ext cx="90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признаки стади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аличи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й задачи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ющейся в том, что не предрешая вопроса о виновности, а только с позиции обеспечения прав обвиняемого судья решает следующие задач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о-ревизионные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обеспечительные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дительны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189000"/>
            <a:ext cx="90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пецифические метод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й метод заключается в том, что 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дья изучает дело единоличн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ступившему в суд уголовному делу судья принимает единолично любое из названных в ст. 227 УПК решени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направлении дела по подсудност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назначении предварительного слушания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назначении судебного заседа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108000" y="189000"/>
            <a:ext cx="90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Особый, отличный от других стадий, круг участников уголовного процесс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ами данной стадии являются: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я, прокурор, потерпевший, гражданский истец, гражданский ответчик и их представители, частный обвинитель, обвиняемый, а в некоторых случаях также свидете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08000" y="189000"/>
            <a:ext cx="9036000" cy="70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ротяженность во времен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чальный момент определе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1 ст. 227 УПК РФ – срок стадии начинает течь с момента поступления дела в су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лжительность стадии тоже определен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. 3 ст. 227  УПК РФ и зависит от того, содержится ли обвиняемый под стражей или не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бвиняемый содержится под стражей, то решение по делу должно быть принято не позднее 14 суток с момента поступления дела в суд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бвиняемый не содержится под стражей (т.е. по остальным делам), то решение должно быть принято в срок не позднее 30 сут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ечный момент стади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то решение, которое принимает судья по уголовному де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108000" y="189000"/>
            <a:ext cx="9036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ка к судебному заседанию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остоятельная стадия уголовного процесса, в которой судья единолично, не предрешая вопроса о виновнос­ти обвиняемого, проверяет допустимость доказательств и нали­чие юридических оснований рассматривать дело в суде, прини­мает соответствующее решение и готовит дело к судебному за­седани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08000" y="189000"/>
            <a:ext cx="90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начение стадии «Подготовка к судебному заседанию»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ит в том, что здесь проверяются материалы уголовного дела и готовится его рассмотрение в судебном заседании, что обеспечивает необходимые условия для правильного разрешения дела и исключает возможность судебного разбирательства без достаточных к тому оснований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extBox 1" descr=""/>
          <p:cNvPicPr/>
          <p:nvPr/>
        </p:nvPicPr>
        <p:blipFill>
          <a:blip r:embed="rId1"/>
          <a:stretch/>
        </p:blipFill>
        <p:spPr>
          <a:xfrm>
            <a:off x="-36360" y="-139680"/>
            <a:ext cx="9564480" cy="2809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-73080" y="2133720"/>
            <a:ext cx="918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ОДГОТОВКИ К СУДЕБНОМУ ЗАСЕДАНИЮ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extBox 1" descr=""/>
          <p:cNvPicPr/>
          <p:nvPr/>
        </p:nvPicPr>
        <p:blipFill>
          <a:blip r:embed="rId1"/>
          <a:stretch/>
        </p:blipFill>
        <p:spPr>
          <a:xfrm>
            <a:off x="-49320" y="-92160"/>
            <a:ext cx="9248760" cy="70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-244440" y="-219240"/>
            <a:ext cx="10040760" cy="33768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-237960" y="1779480"/>
            <a:ext cx="995508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08000" y="0"/>
            <a:ext cx="9036000" cy="57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4) подлежат ли удовлетворению заявленные ходатайства и поданные жалоб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5) приняты ли меры по обеспечению возмещения вреда, причиненного преступлением, и возможной конфискации имуществ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6) имеются ли основания проведения предварительного слушания, предусмотренные частью второй статьи 229 УПК Р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08000" y="0"/>
            <a:ext cx="90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удно ли УД данному суду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окупность всех признако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ет определить, какому именно суду подсудно поступившее в суд уголовное дело. В случае выяснения обстоятельств позволяющих отнести дело к подсудности иного суда, нежели того, которым было получено дело, то оно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лжно быть немедленно направлено по подсудност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решение остальных вопросов теряет всякий смысл и соответственно не требуетс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08000" y="0"/>
            <a:ext cx="903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ит ли отмене или изменению избранная мера пресе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е необходимо изучить и оценить обоснованность и целесообразность применения всего комплекса вопросов, относящихся к использованию предусмотренных законом мер принуждени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 для избрания соответствующей меры пресечения по данному делу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вида этих мер в зависимости от обстоятельств дела и личности обвиняем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ли отсутствие продления срока содержания под стражей и д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08000" y="0"/>
            <a:ext cx="90360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лежат ли удовлетворению заявленные ходатайства и поданные жалоб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ходатайствами и заявлениями может обратиться любой участник, имеющий в деле собственный или представляемый интерес по любому вопросу находящемуся в сфере интересов сторо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08000" y="0"/>
            <a:ext cx="903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иняты ли меры по обеспечению возмещения вреда, причиненного преступлением и возможной конфискации имуще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ребованиями УПЗ потерпевшему обеспечивается возмещение имущественного вреда, причиненного преступлением. Потерпевший также вправе предъявить иск о возмещении в денежном выражении причиненного ему преступлением морального вреда (ст. 42 УПК РФ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ые права имеет гражданский исте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108000" y="0"/>
            <a:ext cx="9036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тся ли основания для проведения предварительного слушания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я вправе вынести на предварительное слушание указанные в ч. 2 ст. 229 УПК РФ вопросы дальнейшего производства по делу, которые требуют коллегиального профессионального обсужд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08000" y="0"/>
            <a:ext cx="9036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УПК РФ при отсутствии оснований для направления дела по подсудности либо назначения предварительного слушания судья выносит постановление о назначении судебного заседания, в котором указываются следующие вопрос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108000" y="28440"/>
            <a:ext cx="9036000" cy="69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есто, дата, время судебного заседани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 рассмотрении уголовного дела единолично или коллегиально.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 назначении защитника в случаях указанных в статье  51 УПК РФ, где говорится об основаниях обязательного участия защитни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 вызове в судебное заседание лиц по спискам представленным сторонами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108000" y="28440"/>
            <a:ext cx="903600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 рассмотрении уголовного дела в закрытом судебном заседании в случаях предусмотренных статьей 241 УПК РФ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 мере пресечения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Указание фамилии, имени, отчества каждого обвиняемого и квалификации вменяемого ему преступления, а также о мере пресечени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-73080" y="1687680"/>
            <a:ext cx="918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Е СЛУШАНИЕ: ОСНОВАН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РЯДОК ПРОВЕД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2" descr=""/>
          <p:cNvPicPr/>
          <p:nvPr/>
        </p:nvPicPr>
        <p:blipFill>
          <a:blip r:embed="rId1"/>
          <a:stretch/>
        </p:blipFill>
        <p:spPr>
          <a:xfrm>
            <a:off x="-122400" y="146160"/>
            <a:ext cx="938880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130320" y="0"/>
            <a:ext cx="9036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е слушание назначается судьей при наличии определен­ных законом оснований для его проведения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229 УПК)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30320" y="189000"/>
            <a:ext cx="90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ходатайство стороны об исключении доказательства из дел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аличие оснований для возвращения уголовного дела прокурор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личие оснований для приостановления или прекращения уголовно­го дел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ри наличии ходатайства стороны о проведении судебного разбирательства в порядке, предусмотренном ч. 5 ст. 247 УПК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решения вопроса о рассмотрении дела с участием присяжных заседа­теле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250920" y="260280"/>
            <a:ext cx="8569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при наличии не вступившего в законную силу приговора, предусматривающего условное осуждение лица, в отношении которого в суд поступило уголовное дело, за ранее совершенное им преступлени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при наличии основания для выделения уголовного де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144360" y="404640"/>
            <a:ext cx="903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я выносит решение о назначении предварительного слушания по собственной инициативе либо по ходатайству стороны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08000" y="189000"/>
            <a:ext cx="903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роки заявления стороной ходатайства о проведении предва­рительного слушания четко ограничены законом — оно может быть заявлено стороной после ознакомления с материалами уголовного дела либо после направления уголовного дела в суд в течение трех суток со дня получения обвиняемым копии обвинительного заключения или обвинительного а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179280" y="1159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значении предварительного слушания судья выносит постановление (ст. 227 УПК), в котором указываются конкретные основания его проведен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я постановления направляется обвиняемому, потерпевшему   и прокурору. Не менее чем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трое суток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дня проведения предварительного слушания сторонам направляются уведомления о вызове в судебное за­сед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108000" y="0"/>
            <a:ext cx="9036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е слушание начинается с открытия судебного заседа­ния, проверки явки в суд вызванных участников, установления личности подсудимого, объявления состава суда и рассмотрения заявления об отво­дах. Предварительное слушание проводится с участием обвиняемого, кроме случаев, когда обвиняемый заявил ходатайство о проведении предваритель­ного слушания в его отсутствие. Неявка других участников производства по уголовному делу не препятствует проведению предварительного слушания при условии, что все участники были надлежащим образом и своевременно уведомле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108000" y="476280"/>
            <a:ext cx="903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редварительного слушания в судебном заседании рассматривает­ся ходатайство или исследуются обстоятельства, послужившие основанием для назначения предварительного слушания, стороны высказывают свои мнения и возражения по данным вопрос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38240" y="404640"/>
            <a:ext cx="90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езультатам предварительного слушания судья выносит постановле­ние и оглашает его в судебном заседании. В совещательной комнате в обязательном порядке выносятся решения о возвращении уголовного дела проку­рору и прекращении уголовного дела, иные решения могут быть вынесены в зале судебного заседания (ст. 256 УПК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-73080" y="1687680"/>
            <a:ext cx="918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РЕШЕНИЙ, ПРИНИМАЕМЫХ СУДЬЕЙ НА ПРЕДВАРИТЕЛЬНОМ СЛУШАНИ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0" y="2602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ая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о-процессуальное право Российской Федерации в 2 ч. Часть 1 : учебник для вузов / Г. М. Резник [и др.] ; под общей редакцией Г. М. Резника. — 3-е изд., перераб. и доп. — Москва : Издательство Юрайт, 2020. — 457 с. — (Высшее образование). — ISBN 978-5-534-12202-2. — Текст : электронный // ЭБС Юрайт [сайт]. — URL: https://urait.ru/bcode/449440 (дата обращения: 23.11.2020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ый процесс современной России. Проблемные лекции в 2 т. Том 1. Общие положения уголовного судопроизводства : учебное пособие для вузов / В. Т. Томин [и др.] ; под редакцией В. Т. Томина, И. А. Зинченко. — 2-е изд., перераб. и доп. — Москва : Издательство Юрайт, 2020. — 366 с. — (Высшее образование). — ISBN 978-5-534-02249-0. — Текст : электронный // ЭБС Юрайт [сайт]. — URL: https://urait.ru/bcode/453288 (дата обращения: 23.11.2020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extBox 1" descr=""/>
          <p:cNvPicPr/>
          <p:nvPr/>
        </p:nvPicPr>
        <p:blipFill>
          <a:blip r:embed="rId1"/>
          <a:stretch/>
        </p:blipFill>
        <p:spPr>
          <a:xfrm>
            <a:off x="42840" y="-92160"/>
            <a:ext cx="927720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108000" y="0"/>
            <a:ext cx="903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ение уголовного дела прокурору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становление производства по уголовному делу;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кращение уголовного дела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судебного засед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108000" y="0"/>
            <a:ext cx="9036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ело поступило в суд с нарушением правил о подсудности, судья в соответствии со ст. 227 УПК принимает постановлени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авлении уго­ловного дела по подсудно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ринимает иных процессуальных решений по делу. Основания для направления дела по подсудности могут возникну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проведения предварительных слушаний тольк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случае, если обвине­ние было изменено прокурором в сторону смягч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орядке ч. 8 ст. 246 УПК и такое изменение повлекло за собой изменение подсудности де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108000" y="0"/>
            <a:ext cx="9036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оснований, определенных ст. 238 УПК, судья выносит </a:t>
            </a: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новление о приостановлении производства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головному делу, т. е. это обязанность судьи, а не предмет его усмотр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08000" y="0"/>
            <a:ext cx="90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несении постановления о приостановлении уголовного дела в отношении обвиняе­мого по основаниям, указанным в пп. 2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 ч. 1 ст. 238 УПК, суд одновре­менно с этим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праве избрать, изменить либо отменить избранную ему меру пресечения,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ив указанное решение в постановлении о приостановле­нии производства по дел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08000" y="0"/>
            <a:ext cx="9036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если по результатам предварительного слушания будут установлены обстоятельства, предусмотренные пп. 3-6 ч. 1, ч. 2 ст. 24 и пп. 3-6 ч. 1 ст. 27 УПК (основания прекращения уголовного дела и основания прекращения уголовного преследования), судья выносит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становление о прекращении уголовного дел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08000" y="0"/>
            <a:ext cx="90360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назначении судебного засед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имается судьей в случаях, когда по результатам предварительного слушания судья приходит к выводу, что дело подсудно этому суду, оснований для возвращения уголовного дела прокурору или приостановления производства по делу не имеется, основания для прекращения производства по делу также отсутствуют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-73080" y="1511280"/>
            <a:ext cx="9180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ОЕ РАЗБИРАТЕЛЬСТВО: ПОНЯТИЕ И ЗНАЧЕНИЕ. ОБЩИЕ УСЛОВИЯ СУДЕБНОГО РАЗБИРАТЕЛЬСТВА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79280" y="115560"/>
            <a:ext cx="878544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дебное разбирательство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регламентированную уголовно-процессуальным законом деятельность суда первой инстанции при участии других участников уголовного судопроизводства по установлению наличия или отсутствия фактических и юридических оснований для определения виновности подсудимого в совершении преступления и применения к нему мер уголовного наказа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целью стадии судебного разбирательства является разрешение уголовного дела по существу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. 2 ст. 15 УПК РФ)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Box 1" descr=""/>
          <p:cNvPicPr/>
          <p:nvPr/>
        </p:nvPicPr>
        <p:blipFill>
          <a:blip r:embed="rId1"/>
          <a:stretch/>
        </p:blipFill>
        <p:spPr>
          <a:xfrm>
            <a:off x="-79200" y="231840"/>
            <a:ext cx="922320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дебного разбирательства состоит в том, что в рамках специальной процедуры осуществляетс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и законных интересов лиц и организаций, потерпевших от преступлений; защита личности от незаконного и необоснованного обвинения, осуждения, ограничения ее прав и свобод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виновным справедливого наказ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бождение их от наказания, реабилитация каждого, кто необоснованно подвергся уголовному преследованию (ст. 6 УПК РФ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08000" y="115920"/>
            <a:ext cx="8578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дии судебного разбирательства заключается в том, чт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разрешение правоотношения, возникающего в результате совершения лицом преступления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ется надлежащая охрана и реализация конституционных и иных прав всех участников уголовного процесса, входящих в содержание их процессуального статуса, а также интересов общества и государств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анная стадия имеет и важное воспитательное значение, заключающееся в том, что именно в ней формируется судебная политика государства посредством вынесения правосудного, т.е. законного, обоснованного и справедливого приговора.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е условия судебного разбирательств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9280" y="33300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е условия судебного разбирательства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ют собой закрепленные в действующем законодательстве и вытекающие из содержания принципов уголовного судопроизводства правила, которые регулируют наиболее важные стороны судебного разбирательства в суде первой инстанции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о непосредственности, устности и гласности судебного разбирательств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менности состава суд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 председательствующего в судебном заседании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частниках судебного разбирательств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о непосредственности, устности и гласности судебного разбирательств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менности состава суд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и председательствующего в судебном заседании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частниках судебного разбирательства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роцессуальное равенство прав сторон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еделы судебного заседания;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егламент и протокол судебного засед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-73080" y="1511280"/>
            <a:ext cx="9180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АЯ ХАРАКТЕРИСТИКА ОБЩИХ УСЛОВИЙ СУДЕБНОГО  РАЗБИРАТЕЛЬСТ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сть и устность судебного разбиратель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240 УПК РФ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ность заключается в том, что судьи получают сведения об обстоятельствах, имеющих значение для разрешения дела, путем личного восприятия всех доказательств в судебном заседании и только на основе своего восприятия делают выводы по дел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08000" y="404640"/>
            <a:ext cx="9036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едварительное слушание: основание и порядок провед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иды решений, принимаемых судьей на предварительном слушан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удебное разбирательство: понятие и значение. Общие условия судебного разбирательст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ность судебного разбирательств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ет, что суд при непосредственном исследовании доказательств заслушивает показания подсудимого, потерпевшего, свидетелей, заключение эксперта, осматривает и обсуждает результаты осмотра вещественных доказательств, оглашает протокол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ные документы, а также заслушивает выступление сторон в судебных прения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ность судебного разбирательства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241 УПК РФ)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сть судебного разбирательства предполагает право граждан наблюдать за ходом процесса как непосредственно (присутствуя в зале суда), так и получая соответствующие сведения из средств массовой информац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ытое судебное разбирательство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ается на основании определения или постановления суда в случаях, когда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збирательство уголовного дела в суде может привести к разглашению государственной или иной охраняемой федеральным законом тайны (в их числе сведения, относящиеся к коммерческой, банковской, врачебной, иной профессиональной, а также личной и семейной тайне)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ассматриваются уголовные дела о преступлениях, совершенных лицами, не достигшими возраста 16 лет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ассмотрение уголовных дел о преступлениях против половой неприкосновенности и половой свободы личности и других преступлениях может привести к разглашению сведений об интимных сторонах жизни участников уголовного судопроизводства либо сведений, унижающих их честь и достоинство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этого требуют интересы обеспечения безопасности участников судебного разбирательства, их близких родственников, родственников или близких лиц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менность состава суда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42 УПК РФ)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неизменностью состава суда понимается рассмотрение каждого уголовного дела одним и тем же судьей или одним и тем же составом суда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08000" y="-360"/>
            <a:ext cx="9036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ы судебного разбиратель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252 УПК РФ)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 судебного исследования ограничена лишь пределами судебного разбирательства. Закон устанавливает пределы судебного разбирательства, то есть указывает, что может быть предметом судебного исследования и судебного решения по поступившему в суд делу и какие вопросы, рассматривая дело, суд разрешить не вправ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ствующий в судебном заседании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243 УПК РФ)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ым заседанием руководит председательствующий судья. Согласно п. 26 ст. 5 и ст. 243 УПК РФ председательствующий выполняет одинаковые функции и при коллегиальном и при единоличном рассмотрении дел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8000" y="115560"/>
            <a:ext cx="89280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ство прав сторон в судебном разбирательств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44 УПК РФ)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ч. 7 ст. 5 Федерального конституционного закона от 07 февраля 2011 г. № 1-ФКЗ «О судах общей юрисдикции в Российской Федерации» рассмотрение дел в судах общей юрисдикции осуществляется на основе состязательности и равноправия сторон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ирательство дела судом первой инстанции происходит с участием подсудимого, явка которого является обязательно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47 УПК РФ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е участие подсудимого в судебном заседании является важной гарантией осуществления им своих прав на участие в доказывании, высказывание своего мнения по существу предъявленного обвинения и по иным рассматриваемым судом вопросам, заявление ходатайств и обжалование действий и решений суд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19160" y="189000"/>
            <a:ext cx="8964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раткая характеристика общих условий судебного разбирательств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дготовительная часть судебного разбиратель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Судебное следствие, его зна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08000" y="-360"/>
            <a:ext cx="85788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ирательство дела в отсутствие подсудимого допускается в двух случаях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огда подсудимый обвиняется в совершении преступления небольшой или средней тяжести (преступления, за которые согласно уголовному закону может быть назначено наказание соответственно не свыше двух или пяти лет лишения свободы) и сам ходатайствует о рассмотрении дела в его отсутствие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 исключительных случаях по делам о тяжких и особо тяжких преступлениях, если подсудимый находится за пределами территории Российской Федерации и (или) уклоняется от явки в суд, если это лицо не было привлечено к ответственности на территории иностранного государства по данному уголовному дел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судебном разбирательстве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винителя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язательно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46 УПК РФ).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и обязательного участия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щитника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роизводстве по уголовному делу, в том числе и в судебном разбирательстве названы в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51, ч. 6 ст. 247, ст.  438 УПК РФ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50560" y="115920"/>
            <a:ext cx="8893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ерпевшего, а также гражданского истца, гражданского ответчика и их представителей</a:t>
            </a:r>
            <a:r>
              <a:rPr b="0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дебном разбирательстве характеризуется тем, что данные лица защищают в судебном разбирательстве свои или соответственно представляемые ими права и законные интересы и наделены для этого равными процессуальными возможностями, а также определенной свободой распоряжения своими процессуальными правами на участие в судебном разбирательстве по собственному усмотрен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 судебного заседания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57 УПК РФ). При входе судей все присутствующие в зале судебного заседания встают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астники судебного разбирательства обращаются к суду (Уважаемый суд, а к судье – Ваша честь), дают показания и делают заявления сто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ол судебного засед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. 259 УПК РФ). Все, что происходит в судебном разбирательстве, должно быть письменно зафиксировано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этой целью в судебном заседании обязательно ведется протокол. Протокол судебного заседания помогает суду в совещательной комнате при вынесении и мотивировке решений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79280" y="0"/>
            <a:ext cx="87854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, принимаемые в процессе судебного разбирательства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общим условиям судебного разбирательства относится порядок вынесения решений по вопросам, возникающим в ходе судебного засед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вопроса о мере пресечения (ст. 255 УПК РФ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щение уголовного дела в судебном заседании (ст. 254 УПК РФ)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ожение и приостановление судебного разбирательства (ст. 253 УПК РФ)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-73080" y="1511280"/>
            <a:ext cx="918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АЯ ЧАСТЬ СУДЕБНОГО РАЗБИРАТЕЛЬСТВ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и порядок судебного  разбирательств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9280" y="115560"/>
            <a:ext cx="885672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ое разбирательство состоит из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и этапо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следовательно сменяющих друг друга, к числу которых следует отнест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дготовительную часть судебного разбирательства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удебное следствие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ения сторон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оследнее слово подсудимого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постановление и провозглашение приговора.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08000" y="404640"/>
            <a:ext cx="871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Прения сторон и последнее слово подсудимог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Постановление приговора. Приговор: понятие и значени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08000" y="115920"/>
            <a:ext cx="903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щему правилу данные этапы протекают последовательно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составляют следующие случаи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судебном заседании суд прекращает уголовное дело в порядке, установленном ст. 254 УПК РФ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суд возобновляет судебное следствие после этапа прений сторон и последнего слова подсудимого в порядке, предусмотренном ст. 294 УПК РФ;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когда судебное разбирательство происходит в особом порядке при согласии обвиняемого с предъявленным ему обвинением в соответствии с положениями гл. 40 УПК РФ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дготовительная часть судебного разбирательств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ет собой начальный этап судебного разбирательства в суде первой инстанции, в ходе которого создаются надлежащие условия для последующего рассмотрения и разрешения уголовного дела, а также наиболее полным образом обеспечиваются права и законные интересы лиц, вовлеченных в уголовный процесс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39640" y="189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начение подготовительной части судебного разбирательства включает в себя следующие ее част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ытие судебного заседания (ст. 261 УПК РФ)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рка явки в суд (ст. 262 УПК РФ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ъяснение прав и обязанностей переводчику (ст. 263 УПК РФ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ление из зала судебного заседания свидетелей и лиц, в отношении которых УД выделено в отдельное производство в связи с заключением с ним ДСОС до начала их допроса (ст. 264 УПК РФ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личности подсудимого и своевременности вручения ему копий ОЗ, ОА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265 УПК РФ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0" y="0"/>
            <a:ext cx="903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вление состава суда, других участников разбирательства и разъяснение им права отвода (ст. 266 УПК РФ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ъяснение участникам судебного разбирательства их прав (ст. 267-270 УПК РФ)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явление и разрешение ходатайств (ст. 271 УПК РФ).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ие вопроса о возможности рассмотрения уголовного дела в отсутствие кого-либо из участников уголовного судопроизводства (ст. 272 УПК РФ)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-73080" y="1511280"/>
            <a:ext cx="918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ОЕ СЛЕДСТВИЕ,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ЗНАЧ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дебное следстви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ая часть судебного разбира­тельства, в которой суд в условиях наиболее полного осуществле­ния принципов уголовного процесса исследует все имеющиеся доказательства в целях установления фактических обстоятельств преступл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. 37 УПК РФ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08000" y="0"/>
            <a:ext cx="8856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судебного следствия (ст. 273 УПК РФ) государственный обвинитель излагает предъявленное подсудимому обвинени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этого председательствующий опрашивает подсудимого, понятно ли ему обвинение, признает ли он себя виновным и желает ли он или его защитник выразить свое отношение к предъявленному обвинению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исследования доказательств согласн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274 УПК РФ устанавливается той стороной, которая представляет соответствующие доказательства суду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Box 1" descr=""/>
          <p:cNvPicPr/>
          <p:nvPr/>
        </p:nvPicPr>
        <p:blipFill>
          <a:blip r:embed="rId1"/>
          <a:stretch/>
        </p:blipFill>
        <p:spPr>
          <a:xfrm>
            <a:off x="-36360" y="-139680"/>
            <a:ext cx="9564480" cy="2809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-36360" y="2349360"/>
            <a:ext cx="91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</a:rPr>
              <a:t>Понятие производства в суде первой инстанции. Полномочия судьи по поступившему в суд уголовному дел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79280" y="12600"/>
            <a:ext cx="8893440" cy="66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ое следствие не является повторением предварительного следствия. Это самостоятельное исследование всех фактических обстоятельств дела, осуществляемое независимо от предваритель­но собранных в ходе расследования материалов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ое след­ствие проводится судом при активной роли сторон и других участников процесса, причем обеспечивается одновременный анализ всех доказательств с разных позици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-73080" y="1511280"/>
            <a:ext cx="918072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ИЯ СТОРОН И ПОСЛЕДНЕЕ СЛОВО ПОДСУДИМОГО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ия стор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амостоятельный этап судебного разбирательства, в котором участники сторон в форме устной речи высказывают свою позицию по уголовному де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судебных прений не вправе ссылаться на доказательства, не бывшие предметом рассмотрения на судебном следствии. Поэтому в случае необходимости предъявления новых доказательств они могут ходатайствовать о возобновлении судебного следствия (ст. 294 УПК РФ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8920" y="26028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ее слово подсудим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его выступление перед судом непосредственно перед уходом суда в совещательную комнату для вынесения приговора, право на которое ему предоставляет закон (ст. 293 УПК РФ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последнем слове подсудимый сообщит о новых обстоятельствах, имеющих существенное значения для дела, или заявит о необходимости предъявить суду для исследования новые доказательства, то суд обязан возобновить судебное следствие (ст. 294 УПК РФ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extBox 1" descr=""/>
          <p:cNvPicPr/>
          <p:nvPr/>
        </p:nvPicPr>
        <p:blipFill>
          <a:blip r:embed="rId1"/>
          <a:stretch/>
        </p:blipFill>
        <p:spPr>
          <a:xfrm>
            <a:off x="-36360" y="-792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-73080" y="1511280"/>
            <a:ext cx="9180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ИГОВОРА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ВОР: ПОНЯТИЕ И ЗНАЧ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вор</a:t>
            </a:r>
            <a:r>
              <a:rPr b="0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ешение о невиновности или виновности подсудимого и назначении ему наказания либо освобождении его от наказания, вынесенное судом первой или апелляционной инстан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риговор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юдициально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уальное значен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е значени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вор должен отвечать определенным требованиям: он должен быть законным, обоснованным и справедливым (ст. 297 УПК РФ)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ность, обоснованность и справедливость тесно связаны между собой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108000" y="476280"/>
            <a:ext cx="9036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риговора не ограничивается рамками конкретного уголовного дела, оно гораздо шире и определяется его природой как акта, принятого одной из ветвей государственной власт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extBox 1" descr=""/>
          <p:cNvPicPr/>
          <p:nvPr/>
        </p:nvPicPr>
        <p:blipFill>
          <a:blip r:embed="rId1"/>
          <a:stretch/>
        </p:blipFill>
        <p:spPr>
          <a:xfrm>
            <a:off x="-19080" y="-60480"/>
            <a:ext cx="9004320" cy="70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05:34:37Z</dcterms:created>
  <dc:creator>Сабитова Олеся Александровна</dc:creator>
  <dc:description/>
  <dc:language>en-US</dc:language>
  <cp:lastModifiedBy>D</cp:lastModifiedBy>
  <dcterms:modified xsi:type="dcterms:W3CDTF">2021-04-01T15:43:42Z</dcterms:modified>
  <cp:revision>26</cp:revision>
  <dc:subject/>
  <dc:title>Презентация PowerPoint</dc:title>
</cp:coreProperties>
</file>