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0.jpeg" ContentType="image/jpeg"/>
  <Override PartName="/ppt/media/image30.wmf" ContentType="image/x-wmf"/>
  <Override PartName="/ppt/media/image5.wmf" ContentType="image/x-wmf"/>
  <Override PartName="/ppt/media/image27.jpeg" ContentType="image/jpeg"/>
  <Override PartName="/ppt/media/image31.jpeg" ContentType="image/jpeg"/>
  <Override PartName="/ppt/media/image33.png" ContentType="image/png"/>
  <Override PartName="/ppt/media/image16.wmf" ContentType="image/x-wmf"/>
  <Override PartName="/ppt/media/image35.png" ContentType="image/png"/>
  <Override PartName="/ppt/media/image20.wmf" ContentType="image/x-wmf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png" ContentType="image/png"/>
  <Override PartName="/ppt/media/image4.png" ContentType="image/png"/>
  <Override PartName="/ppt/media/image12.png" ContentType="image/png"/>
  <Override PartName="/ppt/media/image23.jpeg" ContentType="image/jpeg"/>
  <Override PartName="/ppt/media/image18.wmf" ContentType="image/x-wmf"/>
  <Override PartName="/ppt/media/image2.jpeg" ContentType="image/jpeg"/>
  <Override PartName="/ppt/media/image37.jpeg" ContentType="image/jpeg"/>
  <Override PartName="/ppt/media/image3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ECCDD-D164-4E32-BE53-C3640804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E5D71D-D8C8-44D5-B4D4-9C6DCCF293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EFB65-9235-45A2-8B44-1517195EB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C24-2BCE-4508-A83E-2DB58703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781-BCF8-4707-A906-038C033F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540-91D6-46B5-B08F-55B62440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B57-F5D8-46DB-BD50-7CF57269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D59E-3953-4EBE-B03A-F5955682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19F4-A6D3-4CF8-80F7-B2C256F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918-D0B1-4D2D-9D28-4EE477BA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2C6-84CF-4EA5-B2A1-8B486FF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6B09-6A27-4692-BCA7-789C3AB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F393-FD3A-49A7-9587-EFB81A3F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3EB-752C-41E0-B477-990F1CD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88A-F2BF-4F0B-B659-1E13B679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A056-27A6-497E-B765-F77D22A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AF6-E74A-4087-95D4-E5A2A91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C55-6A90-48CC-8AC5-A575590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C67-116A-4EF4-B12D-78123ED9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302D-06AD-42F2-A721-ACAAEA55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C342-5FC7-40CB-BE2E-2E4BC4D0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3850-DE5D-4ADE-99FA-20D383B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6C37-1DF4-4B3E-A4CA-782DD0A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2587-DD0B-4123-A0BC-B7ECF699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FB3A-10BB-4F30-A367-8010B8D0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34D-9683-403C-AF45-7B73042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5DC0-9865-4429-91E2-5626320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15E3-54F3-4B39-B8C4-879865F2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8E45-8054-42F8-B67B-EDF7243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35F1-26D7-4D1F-BC53-4A91187D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047B-E077-4B42-84A4-A7B662A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FBC8-C01A-4DC3-8B76-0F9325A6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17F6-8BD8-4B67-8758-C3C60A0B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0B99-2D7F-4C29-A211-5F932E06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1087-1AD3-49DB-A74C-F524E0AD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0B61-63B1-4204-9CAB-25CBAD97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60C-9587-4D9B-B9BA-9511ECB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6EC2-DB5E-4A22-921E-6F8B961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C003-4704-44A8-97F0-66F9FD7C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30DA-1F00-4B4D-AA76-FBCBC276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4984-BD0B-43C5-9E0C-0409FCF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D762-2B08-4D9A-94F6-8748382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29CC-29FE-4927-B61B-B4CF4F1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991F-C762-4AED-8E58-9C30045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2D30-7225-4FC6-9531-2BE20081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A6E3-AD6F-45BF-9995-4410A439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B83C-B262-4959-B93E-48B86397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1D6-3179-4521-9836-FD084BDE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1DB8C-7E26-4C48-8C78-145D2FD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7BDE-F0C8-4960-98EE-BC89BA3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6753-1D91-4660-8810-EA73F54C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9DEF-93AE-4740-B8EB-F6490BB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4FD6-BE92-448D-BFD1-ECC8AEC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0DBB-B2B1-478E-BD67-F5C766C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B617-1D9A-4379-8E6D-B244CE5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02EB5-0FE3-4C7D-8ADE-3ED95C6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17B5-D94C-4F35-BE86-49148AB0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4ED2-4B3D-48F2-83C5-ECE37D06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5AC-73DF-4088-BDF9-9686DBA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8E8F1-8A0A-42EF-9F08-6830DFAE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65EE-2C02-42AD-8F21-4BA3211C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31D7-78A4-4839-87A4-155EDF6F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A4E8-0C9A-4755-B35D-F5B5D71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05E4-434F-4993-952E-E6F5DF6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2490-A349-41DF-8D1A-C532993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064E2-7DF5-4E53-B9B6-20370FA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56A4-09E1-4ED5-8284-9CB4BD2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9924-595C-4C80-A90C-8599AA9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92E3-F0D8-4626-82E1-0C165D0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094-C9C2-4F41-961E-6BB1D2E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62AD-4209-458B-A422-EF80413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5E326-260D-49FA-8962-0F599046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02C4-68D0-410A-B6FB-E64DFE61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47A-6CBC-4AED-A714-AEEA3F1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602-44BD-4A82-A742-7FBC490E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3"/>
          <p:cNvSpPr/>
          <p:nvPr/>
        </p:nvSpPr>
        <p:spPr>
          <a:xfrm>
            <a:off x="905040" y="3648240"/>
            <a:ext cx="7314840" cy="127908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4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Прямоугольник 5"/>
          <p:cNvSpPr/>
          <p:nvPr/>
        </p:nvSpPr>
        <p:spPr>
          <a:xfrm>
            <a:off x="905040" y="3648240"/>
            <a:ext cx="228240" cy="127908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6" name="Прямоугольник 6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400800" y="6354720"/>
            <a:ext cx="22856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898720" y="6354720"/>
            <a:ext cx="347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1216080" y="6354720"/>
            <a:ext cx="1218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CA466C-953C-476D-8606-F90264B86D73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7732D9E-D7D4-4065-B203-DE1D35FECFAA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92F6F71-6319-41EB-8042-5268C064F09F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 hidden="1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Прямая соединительная линия 10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2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C763EE3-C963-402A-B856-316F8C941698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Равнобедренный треугольник 9"/>
          <p:cNvSpPr/>
          <p:nvPr/>
        </p:nvSpPr>
        <p:spPr>
          <a:xfrm rot="5400000">
            <a:off x="419400" y="6467400"/>
            <a:ext cx="190080" cy="1202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10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9494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56A1BF7-42AF-4866-B301-6B7CEB24900E}" type="slidenum">
              <a:rPr b="0" lang="ru-RU" sz="1400" spc="-1" strike="noStrike">
                <a:solidFill>
                  <a:srgbClr val="94949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99937" sy="99937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8CFDC-E7B2-4D77-8FA4-271916607BA7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6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6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992720" cy="309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indent="0" algn="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 прямолінійний рух. Прискорення. 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1732680" y="4077000"/>
            <a:ext cx="252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Урок фізики в 9 кла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1593720" y="5220000"/>
            <a:ext cx="25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танційне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Object 8"/>
          <p:cNvGraphicFramePr/>
          <p:nvPr/>
        </p:nvGraphicFramePr>
        <p:xfrm>
          <a:off x="1116000" y="4724280"/>
          <a:ext cx="307440" cy="4312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24280"/>
                    <a:ext cx="307440" cy="43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2"/>
          <p:cNvGraphicFramePr/>
          <p:nvPr/>
        </p:nvGraphicFramePr>
        <p:xfrm>
          <a:off x="1042920" y="5877000"/>
          <a:ext cx="309240" cy="3934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1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877000"/>
                    <a:ext cx="309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1042920" y="5229360"/>
          <a:ext cx="363240" cy="5029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5229360"/>
                    <a:ext cx="36324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"/>
          <p:cNvSpPr/>
          <p:nvPr/>
        </p:nvSpPr>
        <p:spPr>
          <a:xfrm>
            <a:off x="828720" y="345960"/>
            <a:ext cx="79196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скор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векторна ФВ, яка характеризує швидкість зміни швидкості руху тіла й дорівнює відношенню зміни швидкості руху тіла до інтервалу часу, за який ця зміна відбувала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971640" y="4754520"/>
            <a:ext cx="7776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скорення руху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початкова швидк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швидкість руху тіла через деякий інтервал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0"/>
          <p:cNvGraphicFramePr/>
          <p:nvPr/>
        </p:nvGraphicFramePr>
        <p:xfrm>
          <a:off x="971640" y="3068640"/>
          <a:ext cx="2304720" cy="13744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2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3068640"/>
                    <a:ext cx="2304720" cy="13744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6" name="Picture 20" descr=""/>
          <p:cNvPicPr/>
          <p:nvPr/>
        </p:nvPicPr>
        <p:blipFill>
          <a:blip r:embed="rId9"/>
          <a:stretch/>
        </p:blipFill>
        <p:spPr>
          <a:xfrm>
            <a:off x="3537000" y="3260880"/>
            <a:ext cx="519084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3"/>
          <p:cNvGraphicFramePr/>
          <p:nvPr/>
        </p:nvGraphicFramePr>
        <p:xfrm>
          <a:off x="5651640" y="2195640"/>
          <a:ext cx="2333160" cy="871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195640"/>
                    <a:ext cx="2333160" cy="87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495680" y="3716280"/>
            <a:ext cx="4468320" cy="266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рафік прискорення – пряма лінія  паралельна віссі час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282920" y="428760"/>
            <a:ext cx="446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ла для розрахунку прискор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5"/>
          <p:cNvGraphicFramePr/>
          <p:nvPr/>
        </p:nvGraphicFramePr>
        <p:xfrm>
          <a:off x="830160" y="463680"/>
          <a:ext cx="3341160" cy="1568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160" y="463680"/>
                    <a:ext cx="3341160" cy="15681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33" name="Picture 4" descr=""/>
          <p:cNvPicPr/>
          <p:nvPr/>
        </p:nvPicPr>
        <p:blipFill>
          <a:blip r:embed="rId5"/>
          <a:srcRect l="66366" t="28999" r="-396" b="-1148"/>
          <a:stretch/>
        </p:blipFill>
        <p:spPr>
          <a:xfrm>
            <a:off x="971640" y="3154320"/>
            <a:ext cx="3311280" cy="26571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"/>
          <p:cNvSpPr/>
          <p:nvPr/>
        </p:nvSpPr>
        <p:spPr>
          <a:xfrm>
            <a:off x="845640" y="2421000"/>
            <a:ext cx="460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Одиниця вимір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C:\Users\User\Desktop\fizika-9-zasekina-pogl-352.jpg"/>
          <p:cNvPicPr/>
          <p:nvPr/>
        </p:nvPicPr>
        <p:blipFill>
          <a:blip r:embed="rId1"/>
          <a:stretch/>
        </p:blipFill>
        <p:spPr>
          <a:xfrm>
            <a:off x="671400" y="1773360"/>
            <a:ext cx="8076960" cy="37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Объект 3" descr=""/>
          <p:cNvPicPr/>
          <p:nvPr/>
        </p:nvPicPr>
        <p:blipFill>
          <a:blip r:embed="rId1"/>
          <a:srcRect l="0" t="0" r="47268" b="-1229"/>
          <a:stretch/>
        </p:blipFill>
        <p:spPr>
          <a:xfrm>
            <a:off x="826920" y="333360"/>
            <a:ext cx="6224400" cy="41749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755640" y="4508640"/>
            <a:ext cx="82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кщо  тіло гальмує, рух сповільнений, проекція прискорення від’ємна, то графік розташований під віссю абсц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івноприскоре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прямолінійний</a:t>
            </a:r>
            <a:r>
              <a:rPr b="1" lang="uk-UA" sz="40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ру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85800" y="1413000"/>
            <a:ext cx="777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івноприскорений прямолінійний ру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– це рух, під час якого тіло рухається прямолінійною траєкторією з незмінним прискоренн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6" descr="C:\Users\User\Desktop\fizika-9-zasekina-pogl-347.jpg"/>
          <p:cNvPicPr/>
          <p:nvPr/>
        </p:nvPicPr>
        <p:blipFill>
          <a:blip r:embed="rId1"/>
          <a:stretch/>
        </p:blipFill>
        <p:spPr>
          <a:xfrm>
            <a:off x="1598760" y="4076640"/>
            <a:ext cx="5951160" cy="22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0840" y="193680"/>
            <a:ext cx="8229240" cy="1498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Швидкість рівноприскореного прямолінійного рух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789120" y="1692360"/>
            <a:ext cx="777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 час рівноприскореного руху швидкість весь час зміню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728640" y="2847960"/>
            <a:ext cx="756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иттєва швидкіс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це швидкість руху тіла в даний момент часу, швидкість у даній точці траєктор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7" descr=""/>
          <p:cNvPicPr/>
          <p:nvPr/>
        </p:nvPicPr>
        <p:blipFill>
          <a:blip r:embed="rId1"/>
          <a:stretch/>
        </p:blipFill>
        <p:spPr>
          <a:xfrm>
            <a:off x="5362560" y="4005360"/>
            <a:ext cx="2974680" cy="23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4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820680" cy="3816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cc"/>
                </a:solidFill>
                <a:latin typeface="Bookman Old Style"/>
              </a:rPr>
              <a:t>Залежність швидкості від часу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1763640" y="3284640"/>
          <a:ext cx="2231640" cy="5997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4640"/>
                    <a:ext cx="2231640" cy="5997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9" name="Text Box 8"/>
          <p:cNvSpPr/>
          <p:nvPr/>
        </p:nvSpPr>
        <p:spPr>
          <a:xfrm>
            <a:off x="611280" y="1484280"/>
            <a:ext cx="475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афік швидкості – це  пряма, нахилена під певним кутом до осі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755640" y="4149720"/>
            <a:ext cx="475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додатня 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i="1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uk-UA" sz="2300" spc="-1" strike="noStrike">
                <a:solidFill>
                  <a:srgbClr val="000000"/>
                </a:solidFill>
                <a:latin typeface="Times New Roman"/>
              </a:rPr>
              <a:t>0),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 то графік швидкості підіймається (1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Якщо проекція прискорення – від`ємна (а</a:t>
            </a:r>
            <a:r>
              <a:rPr b="0" lang="uk-UA" sz="23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0), то графік швидкості опускається. 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228600"/>
            <a:ext cx="8857800" cy="2552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наприкінці 5 секунди. Чому дорівнює прискорення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5724360" y="3278160"/>
            <a:ext cx="313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4824000" cy="3615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078600" y="261144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 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84360" y="1197000"/>
            <a:ext cx="79927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інемати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розділ механіки, що вивчає рух тіл і при цьому не розглядає причини, якими цей виклик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790560" y="2581200"/>
            <a:ext cx="799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еханічний рух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це зміна з часом положення тіла в просторі відносно інших т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7" descr="slide-42-638"/>
          <p:cNvPicPr/>
          <p:nvPr/>
        </p:nvPicPr>
        <p:blipFill>
          <a:blip r:embed="rId1"/>
          <a:srcRect l="7701" t="77592" r="7701" b="9248"/>
          <a:stretch/>
        </p:blipFill>
        <p:spPr>
          <a:xfrm>
            <a:off x="755640" y="4292640"/>
            <a:ext cx="80640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5" descr=""/>
          <p:cNvPicPr/>
          <p:nvPr/>
        </p:nvPicPr>
        <p:blipFill>
          <a:blip r:embed="rId2"/>
          <a:srcRect l="5080" t="8310" r="7884" b="12527"/>
          <a:stretch/>
        </p:blipFill>
        <p:spPr>
          <a:xfrm>
            <a:off x="250920" y="260280"/>
            <a:ext cx="4922640" cy="2450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9280" y="2852640"/>
            <a:ext cx="8353080" cy="3671640"/>
          </a:xfrm>
          <a:prstGeom prst="rect">
            <a:avLst/>
          </a:prstGeom>
          <a:solidFill>
            <a:srgbClr val="2e823c"/>
          </a:soli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 малюнку крапками позначені положення п'яти тіл, що рухаються зліва направо, через рівні проміжки часу. Проміжки часу між двома позначками на всіх смужках однакові. На якій смужці зареєстровано рівномірний рух з найменшою швидкістю? З найбільшою швидкістю? Рівноприскорений рух? Рівносповільнений рух?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520" cy="171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4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. Чому дорівню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724360" y="3409920"/>
            <a:ext cx="29998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2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- 4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1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Группа 5"/>
          <p:cNvGrpSpPr/>
          <p:nvPr/>
        </p:nvGrpSpPr>
        <p:grpSpPr>
          <a:xfrm>
            <a:off x="468360" y="2016000"/>
            <a:ext cx="4463640" cy="3860280"/>
            <a:chOff x="468360" y="2016000"/>
            <a:chExt cx="4463640" cy="3860280"/>
          </a:xfrm>
        </p:grpSpPr>
        <p:pic>
          <p:nvPicPr>
            <p:cNvPr id="360" name="Picture 2" descr=""/>
            <p:cNvPicPr/>
            <p:nvPr/>
          </p:nvPicPr>
          <p:blipFill>
            <a:blip r:embed="rId2"/>
            <a:stretch/>
          </p:blipFill>
          <p:spPr>
            <a:xfrm>
              <a:off x="468360" y="2016000"/>
              <a:ext cx="4463640" cy="3860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1" name="Прямая соединительная линия 6"/>
            <p:cNvCxnSpPr/>
            <p:nvPr/>
          </p:nvCxnSpPr>
          <p:spPr>
            <a:xfrm flipH="1">
              <a:off x="4462200" y="3946320"/>
              <a:ext cx="2160" cy="142920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  <p:cxnSp>
          <p:nvCxnSpPr>
            <p:cNvPr id="362" name="Прямая соединительная линия 7"/>
            <p:cNvCxnSpPr/>
            <p:nvPr/>
          </p:nvCxnSpPr>
          <p:spPr>
            <a:xfrm>
              <a:off x="1447560" y="5373360"/>
              <a:ext cx="3026160" cy="1152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63" name="Picture 2" descr=""/>
          <p:cNvPicPr/>
          <p:nvPr/>
        </p:nvPicPr>
        <p:blipFill>
          <a:blip r:embed="rId3"/>
          <a:stretch/>
        </p:blipFill>
        <p:spPr>
          <a:xfrm>
            <a:off x="6012000" y="2476440"/>
            <a:ext cx="2425320" cy="8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3320" y="84240"/>
            <a:ext cx="8787960" cy="248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За графіком швидкості визначити швидкість тіла в момент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2 с. Чому дорівн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є прискорення?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5651640" y="4016520"/>
            <a:ext cx="24285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3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4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50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36 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Группа 3"/>
          <p:cNvGrpSpPr/>
          <p:nvPr/>
        </p:nvGrpSpPr>
        <p:grpSpPr>
          <a:xfrm>
            <a:off x="395280" y="2527200"/>
            <a:ext cx="4333680" cy="3061800"/>
            <a:chOff x="395280" y="2527200"/>
            <a:chExt cx="4333680" cy="3061800"/>
          </a:xfrm>
        </p:grpSpPr>
        <p:grpSp>
          <p:nvGrpSpPr>
            <p:cNvPr id="367" name="Группа 2"/>
            <p:cNvGrpSpPr/>
            <p:nvPr/>
          </p:nvGrpSpPr>
          <p:grpSpPr>
            <a:xfrm>
              <a:off x="395280" y="2527200"/>
              <a:ext cx="4333680" cy="3061800"/>
              <a:chOff x="395280" y="2527200"/>
              <a:chExt cx="4333680" cy="3061800"/>
            </a:xfrm>
          </p:grpSpPr>
          <p:pic>
            <p:nvPicPr>
              <p:cNvPr id="368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27200"/>
                <a:ext cx="4333680" cy="30618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69" name="Прямая соединительная линия 28"/>
              <p:cNvCxnSpPr/>
              <p:nvPr/>
            </p:nvCxnSpPr>
            <p:spPr>
              <a:xfrm flipV="1">
                <a:off x="4262400" y="3457440"/>
                <a:ext cx="1800" cy="1590840"/>
              </a:xfrm>
              <a:prstGeom prst="straightConnector1">
                <a:avLst/>
              </a:prstGeom>
              <a:ln w="57150">
                <a:solidFill>
                  <a:srgbClr val="c00000"/>
                </a:solidFill>
                <a:prstDash val="dash"/>
                <a:round/>
              </a:ln>
            </p:spPr>
          </p:cxnSp>
        </p:grpSp>
        <p:cxnSp>
          <p:nvCxnSpPr>
            <p:cNvPr id="370" name="Прямая соединительная линия 29"/>
            <p:cNvCxnSpPr/>
            <p:nvPr/>
          </p:nvCxnSpPr>
          <p:spPr>
            <a:xfrm>
              <a:off x="1353960" y="3490560"/>
              <a:ext cx="2941920" cy="2160"/>
            </a:xfrm>
            <a:prstGeom prst="straightConnector1">
              <a:avLst/>
            </a:prstGeom>
            <a:ln w="57150">
              <a:solidFill>
                <a:srgbClr val="c00000"/>
              </a:solidFill>
              <a:prstDash val="dash"/>
              <a:round/>
            </a:ln>
          </p:spPr>
        </p:cxnSp>
      </p:grpSp>
      <p:pic>
        <p:nvPicPr>
          <p:cNvPr id="371" name="Picture 2" descr="f23"/>
          <p:cNvPicPr/>
          <p:nvPr/>
        </p:nvPicPr>
        <p:blipFill>
          <a:blip r:embed="rId3"/>
          <a:stretch/>
        </p:blipFill>
        <p:spPr>
          <a:xfrm>
            <a:off x="5837400" y="2624040"/>
            <a:ext cx="2303280" cy="729720"/>
          </a:xfrm>
          <a:prstGeom prst="rect">
            <a:avLst/>
          </a:prstGeom>
          <a:ln w="635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0000cc"/>
                </a:solidFill>
                <a:latin typeface="Bookman Old Style"/>
              </a:rPr>
              <a:t>Дякую за увагу!!!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84360" y="119700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теріальна точк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е фізична модель тіла, розмірами якого в умовах задачі можна знехтув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84360" y="2133720"/>
            <a:ext cx="799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 саме тіло в умовах однієї задачі можна вважати матеріальною точкою, а в умовах іншої – не мо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матеріальна точка"/>
          <p:cNvPicPr/>
          <p:nvPr/>
        </p:nvPicPr>
        <p:blipFill>
          <a:blip r:embed="rId1"/>
          <a:srcRect l="7296" t="28833" r="7296" b="10715"/>
          <a:stretch/>
        </p:blipFill>
        <p:spPr>
          <a:xfrm>
            <a:off x="1325520" y="3154320"/>
            <a:ext cx="6710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5018040" y="192564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24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2"/>
          <p:cNvGraphicFramePr/>
          <p:nvPr/>
        </p:nvGraphicFramePr>
        <p:xfrm>
          <a:off x="3851280" y="4581360"/>
          <a:ext cx="298080" cy="4633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9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581360"/>
                    <a:ext cx="2980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3"/>
          <p:cNvSpPr/>
          <p:nvPr/>
        </p:nvSpPr>
        <p:spPr>
          <a:xfrm>
            <a:off x="684360" y="1052640"/>
            <a:ext cx="7992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єкторія тіл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лінія, яку описує рухоме ті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52600" y="1677960"/>
            <a:ext cx="5544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видом траєкторії рухи був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ям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45072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иволін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Траектория самолета"/>
          <p:cNvPicPr/>
          <p:nvPr/>
        </p:nvPicPr>
        <p:blipFill>
          <a:blip r:embed="rId4"/>
          <a:stretch/>
        </p:blipFill>
        <p:spPr>
          <a:xfrm>
            <a:off x="7020000" y="1476360"/>
            <a:ext cx="2015640" cy="17712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1"/>
          <p:cNvSpPr/>
          <p:nvPr/>
        </p:nvSpPr>
        <p:spPr>
          <a:xfrm>
            <a:off x="611280" y="3716280"/>
            <a:ext cx="460800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Шлях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– довжина траєкторії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скаляр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51"/>
              </a:spcBef>
              <a:tabLst>
                <a:tab algn="l" pos="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Переміщення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напрямлений відрізок прямої, який з'єднує початкове і кінцеве положення  тіла – векторна фізична велич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slide-43-638"/>
          <p:cNvPicPr/>
          <p:nvPr/>
        </p:nvPicPr>
        <p:blipFill>
          <a:blip r:embed="rId5"/>
          <a:srcRect l="53312" t="8041" r="7701" b="78799"/>
          <a:stretch/>
        </p:blipFill>
        <p:spPr>
          <a:xfrm>
            <a:off x="5307120" y="4556160"/>
            <a:ext cx="37429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Згадуємо</a:t>
            </a:r>
            <a:r>
              <a:rPr b="1" lang="uk-UA" sz="3200" spc="-1" strike="noStrike">
                <a:solidFill>
                  <a:schemeClr val="accent2"/>
                </a:solidFill>
                <a:latin typeface="Bookman Old Style"/>
              </a:rPr>
              <a:t> </a:t>
            </a: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кінематику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7"/>
          <p:cNvGraphicFramePr/>
          <p:nvPr/>
        </p:nvGraphicFramePr>
        <p:xfrm>
          <a:off x="3132000" y="5229360"/>
          <a:ext cx="2014200" cy="894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9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5229360"/>
                    <a:ext cx="2014200" cy="89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22"/>
          <p:cNvGraphicFramePr/>
          <p:nvPr/>
        </p:nvGraphicFramePr>
        <p:xfrm>
          <a:off x="6084720" y="2924280"/>
          <a:ext cx="2020680" cy="2160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0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2924280"/>
                    <a:ext cx="2020680" cy="21603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Text Box 3"/>
          <p:cNvSpPr/>
          <p:nvPr/>
        </p:nvSpPr>
        <p:spPr>
          <a:xfrm>
            <a:off x="644400" y="1316160"/>
            <a:ext cx="7992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Рівномірний прямолінійний ру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– механічний рух, під час якого тіло за будь-які рівні інтервали часу здійснює однакові переміщ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84360" y="3397320"/>
            <a:ext cx="4463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ість рівномірного прямолінійного руху протягом усього час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остереження не змінюється ані за значенням, ані за напрям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160" cy="63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0000cc"/>
                </a:solidFill>
                <a:latin typeface="Arial Black"/>
              </a:rPr>
              <a:t>Що спільного і в чому відмінність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Объект 3" descr=""/>
          <p:cNvPicPr/>
          <p:nvPr/>
        </p:nvPicPr>
        <p:blipFill>
          <a:blip r:embed="rId1"/>
          <a:stretch/>
        </p:blipFill>
        <p:spPr>
          <a:xfrm>
            <a:off x="465120" y="1219320"/>
            <a:ext cx="821340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5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Живі істоти теж рухаютьс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Объект 3" descr=""/>
          <p:cNvPicPr/>
          <p:nvPr/>
        </p:nvPicPr>
        <p:blipFill>
          <a:blip r:embed="rId1"/>
          <a:stretch/>
        </p:blipFill>
        <p:spPr>
          <a:xfrm>
            <a:off x="561960" y="1219320"/>
            <a:ext cx="8019720" cy="49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044920" cy="148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 fontScale="80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Прилад –</a:t>
            </a:r>
            <a:r>
              <a:rPr b="0" i="1" lang="ru-RU" sz="2700" spc="-1" strike="noStrike">
                <a:solidFill>
                  <a:srgbClr val="464653"/>
                </a:solidFill>
                <a:latin typeface="Times New Roman"/>
              </a:rPr>
              <a:t>  смайлик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Величина –</a:t>
            </a:r>
            <a:r>
              <a:rPr b="0" i="1" lang="ru-RU" sz="2700" spc="-1" strike="noStrike">
                <a:solidFill>
                  <a:srgbClr val="464653"/>
                </a:solidFill>
                <a:latin typeface="Times New Roman"/>
              </a:rPr>
              <a:t> піднята рука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диниця вимірювання –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</a:rPr>
              <a:t>руку опустили. </a:t>
            </a: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46000" y="1628640"/>
            <a:ext cx="7829280" cy="466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 Координата.                9.   Час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Спідометр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 Метр 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 Шлях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  Рулетка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  Швидкість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.  М    етр на секунду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.  Секундомір.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043680" y="2637000"/>
            <a:ext cx="2518920" cy="30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7" descr=""/>
          <p:cNvPicPr/>
          <p:nvPr/>
        </p:nvPicPr>
        <p:blipFill>
          <a:blip r:embed="rId1"/>
          <a:stretch/>
        </p:blipFill>
        <p:spPr>
          <a:xfrm>
            <a:off x="5765760" y="2946240"/>
            <a:ext cx="3095280" cy="2322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>
                <a:solidFill>
                  <a:srgbClr val="0000cc"/>
                </a:solidFill>
                <a:latin typeface="Bookman Old Style"/>
              </a:rPr>
              <a:t>Прискоренн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201840" y="1382760"/>
            <a:ext cx="5689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усіх прикладах  швидкість руху кульки з часом збільшується. Тіло рухається 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прискорен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784080" y="5470560"/>
            <a:ext cx="8127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і збільшенням кута нахилу жолоба, швидкість руху кульки збільшується ще швид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"/>
          <p:cNvPicPr/>
          <p:nvPr/>
        </p:nvPicPr>
        <p:blipFill>
          <a:blip r:embed="rId2"/>
          <a:stretch/>
        </p:blipFill>
        <p:spPr>
          <a:xfrm>
            <a:off x="763560" y="1204920"/>
            <a:ext cx="2207880" cy="34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  <Words>563</Words>
  <Paragraphs>71</Paragraphs>
  <Company>WareZ Provid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12:30Z</dcterms:created>
  <dc:creator>Marico</dc:creator>
  <dc:description/>
  <dc:language>en-US</dc:language>
  <cp:lastModifiedBy>User</cp:lastModifiedBy>
  <dcterms:modified xsi:type="dcterms:W3CDTF">2022-02-07T22:19:01Z</dcterms:modified>
  <cp:revision>118</cp:revision>
  <dc:subject/>
  <dc:title>Атом і атомне ядро. Досліди Резерфор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