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0.jpeg" ContentType="image/jpeg"/>
  <Override PartName="/ppt/media/image30.wmf" ContentType="image/x-wmf"/>
  <Override PartName="/ppt/media/image5.wmf" ContentType="image/x-wmf"/>
  <Override PartName="/ppt/media/image27.jpeg" ContentType="image/jpeg"/>
  <Override PartName="/ppt/media/image31.jpeg" ContentType="image/jpeg"/>
  <Override PartName="/ppt/media/image33.png" ContentType="image/png"/>
  <Override PartName="/ppt/media/image16.wmf" ContentType="image/x-wmf"/>
  <Override PartName="/ppt/media/image35.png" ContentType="image/png"/>
  <Override PartName="/ppt/media/image20.wmf" ContentType="image/x-wmf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4.png" ContentType="image/png"/>
  <Override PartName="/ppt/media/image12.png" ContentType="image/png"/>
  <Override PartName="/ppt/media/image23.jpeg" ContentType="image/jpeg"/>
  <Override PartName="/ppt/media/image18.wmf" ContentType="image/x-wmf"/>
  <Override PartName="/ppt/media/image2.jpeg" ContentType="image/jpeg"/>
  <Override PartName="/ppt/media/image37.jpeg" ContentType="image/jpeg"/>
  <Override PartName="/ppt/media/image3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EAC6B-3434-4A74-96D5-60FBDA6D5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8C4BFF-0A9B-4D00-AB0A-4C1108840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2D9E7-ADCF-4E00-95D7-023810A94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61A-0D3D-4F41-9B76-371045A2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61A-B65D-40A7-9311-DCDFF0C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FE7-4247-4670-961C-D21B02FE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03D-8E39-48C8-A4E7-4D02D694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859C-F9C4-4D62-8C50-227C2253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AA1-9170-40CB-997A-62E9A8F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CAC4-D3AF-40A0-A04E-738DC57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720F-37E1-4894-A526-8311814F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51AA-7827-484B-B755-A3B039C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77AA-76DF-4652-9665-4DC38E76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5F1-2867-45C9-A8CA-161147C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8A2-FC58-4BB1-8B8E-0410BC97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223-0751-461A-AC6A-5D54190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F5C-B054-45AD-8F30-D083D81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E01-F899-4FBF-B17C-6BE6694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5D5-4C3A-40DE-9627-D8CC5C12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AD54-A594-48AF-B511-9CA86C0C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EFCE-88E8-49DB-BBB6-6629931D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54B6-0584-4C24-B941-7E0AC0F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C2C5-76F3-416C-A8A0-6D611F46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25CA-6826-4BB3-B006-1A92964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C5AE-7105-4EFB-8E52-5309F524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3E4-CFC3-42B1-A3AF-4468016A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D14C-39A0-449D-831B-681F7BE0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684D-1AA9-4514-8CA4-889F6751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9D6C-282C-45F3-860A-4006258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3021-CB39-4A34-8A62-7684836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F4CA-6FBD-4137-897F-0DDF6020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33FA-45BA-4DAA-8209-1CD3DE96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E9A1-CD9A-436F-850B-6F3BEC9D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5AF6-5A71-4081-A23A-61500960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6154-5882-47F6-9E99-637B08E1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C8C6-F1DD-459B-B4B5-2D1766EC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F59-A328-4220-BAF5-743B51B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432B-9428-48BF-B24C-250D342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2EAA-3A28-4DE0-BE1D-E66D571C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D887-9093-4127-B4B9-E06AB01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430B-B516-4832-9C87-2751AF9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2B9D-59AB-4ECF-8ADD-FFB8954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C643-A74F-4CB9-9217-3823DF3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551B-DDA4-401D-8FA5-BA80DFCC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5F58-1173-478F-A113-123F493E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7675-DB7F-4BDE-A725-97E36CB9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500D-1492-42A7-83EC-635FA583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E08-7753-44C1-836B-B150691F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6295-7712-4416-BEA6-565420A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6D4F-2F8E-4EC1-B308-C211E3A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2F7E-8DAB-4243-9EBA-1FADCB49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6B41-DD40-4EC8-9FC6-B6D45633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7FCB-7C53-4B09-9E5A-48C3659E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30D39-2345-417E-9C66-8873BA3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5FF3-CE5F-47D1-AA04-3958947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066C-DFCB-4EB2-B463-83870DC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9F3A-B5D2-41A1-9975-BAC9CC47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B9AB-8ECD-4139-9E85-0F36CAB6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169-AFC4-42A4-859F-EAF3D96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DC48-C94E-40A1-8CE8-7DAAE176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8958-8283-441F-9604-10AD9932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3242-EF4C-441E-9A4D-41ABCA1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C19A-3C71-493F-8912-A8DDAA0D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8B17-A90D-4DA6-92D7-5406FABF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3E42-6D75-4EF5-8DF7-972173C5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35A5-9920-4B1F-BE86-B17AF0CE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9F5F-63E3-486F-A6BD-B91BEEE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44BC-8143-4C0A-99DD-AB9FC9C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514E-1265-4902-94B0-F349307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B07-3003-4539-A861-088599A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B06F-7517-4E88-BB73-1FBDBF4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F450-623D-4823-B478-48CFEE63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4E0E8-747A-4552-9F0D-0755E07F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9AA-DEB5-4305-89AD-FFEA20F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DC1-7CF4-4C40-98AC-54FA1DE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3"/>
          <p:cNvSpPr/>
          <p:nvPr/>
        </p:nvSpPr>
        <p:spPr>
          <a:xfrm>
            <a:off x="905040" y="3648240"/>
            <a:ext cx="7314840" cy="127908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4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Прямоугольник 5"/>
          <p:cNvSpPr/>
          <p:nvPr/>
        </p:nvSpPr>
        <p:spPr>
          <a:xfrm>
            <a:off x="905040" y="3648240"/>
            <a:ext cx="228240" cy="127908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6" name="Прямоугольник 6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400800" y="6354720"/>
            <a:ext cx="2285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898720" y="6354720"/>
            <a:ext cx="347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1216080" y="6354720"/>
            <a:ext cx="1218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74175B-E5D9-4231-9E8D-CEB42FDF35F8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44A02F8-1EBC-4E97-A413-05FF9AD93F6B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F2FCCC-B9B5-4432-9BFA-4AB34E93039F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Прямая соединительная линия 10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2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BB871BE-F4E0-4035-A41B-C726174B8D18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BBFCB2-57B2-4EF7-894E-5552D8BC4989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66654-47FE-4644-A983-4CB46EDF8E6B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992720" cy="309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indent="0" algn="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 прямолінійний рух. Прискорення. 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1732680" y="4077000"/>
            <a:ext cx="252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Урок фізики в 9 кла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1593720" y="5220000"/>
            <a:ext cx="25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танцій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Object 8"/>
          <p:cNvGraphicFramePr/>
          <p:nvPr/>
        </p:nvGraphicFramePr>
        <p:xfrm>
          <a:off x="1116000" y="4724280"/>
          <a:ext cx="307440" cy="4312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24280"/>
                    <a:ext cx="307440" cy="43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2"/>
          <p:cNvGraphicFramePr/>
          <p:nvPr/>
        </p:nvGraphicFramePr>
        <p:xfrm>
          <a:off x="1042920" y="5877000"/>
          <a:ext cx="309240" cy="3934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1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877000"/>
                    <a:ext cx="309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1042920" y="5229360"/>
          <a:ext cx="363240" cy="5029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229360"/>
                    <a:ext cx="3632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"/>
          <p:cNvSpPr/>
          <p:nvPr/>
        </p:nvSpPr>
        <p:spPr>
          <a:xfrm>
            <a:off x="828720" y="345960"/>
            <a:ext cx="7919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векторна ФВ, яка характеризує швидкість зміни швидкості руху тіла й дорівнює відношенню зміни швидкості руху тіла до інтервалу часу, за який ця зміна відбувала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971640" y="4754520"/>
            <a:ext cx="7776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корення руху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початкова швидк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швидкість руху тіла через деякий інтервал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0"/>
          <p:cNvGraphicFramePr/>
          <p:nvPr/>
        </p:nvGraphicFramePr>
        <p:xfrm>
          <a:off x="971640" y="3068640"/>
          <a:ext cx="2304720" cy="13744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068640"/>
                    <a:ext cx="2304720" cy="13744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6" name="Picture 20" descr=""/>
          <p:cNvPicPr/>
          <p:nvPr/>
        </p:nvPicPr>
        <p:blipFill>
          <a:blip r:embed="rId9"/>
          <a:stretch/>
        </p:blipFill>
        <p:spPr>
          <a:xfrm>
            <a:off x="3537000" y="3260880"/>
            <a:ext cx="519084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3"/>
          <p:cNvGraphicFramePr/>
          <p:nvPr/>
        </p:nvGraphicFramePr>
        <p:xfrm>
          <a:off x="5651640" y="2195640"/>
          <a:ext cx="2333160" cy="871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195640"/>
                    <a:ext cx="2333160" cy="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495680" y="3716280"/>
            <a:ext cx="4468320" cy="266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рафік прискорення – пряма лінія  паралельна віссі час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282920" y="428760"/>
            <a:ext cx="446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ла для розрахунку приск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830160" y="463680"/>
          <a:ext cx="3341160" cy="1568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463680"/>
                    <a:ext cx="3341160" cy="15681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33" name="Picture 4" descr=""/>
          <p:cNvPicPr/>
          <p:nvPr/>
        </p:nvPicPr>
        <p:blipFill>
          <a:blip r:embed="rId5"/>
          <a:srcRect l="66366" t="28999" r="-396" b="-1148"/>
          <a:stretch/>
        </p:blipFill>
        <p:spPr>
          <a:xfrm>
            <a:off x="971640" y="3154320"/>
            <a:ext cx="3311280" cy="26571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"/>
          <p:cNvSpPr/>
          <p:nvPr/>
        </p:nvSpPr>
        <p:spPr>
          <a:xfrm>
            <a:off x="845640" y="2421000"/>
            <a:ext cx="460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диниця вимір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C:\Users\User\Desktop\fizika-9-zasekina-pogl-352.jpg"/>
          <p:cNvPicPr/>
          <p:nvPr/>
        </p:nvPicPr>
        <p:blipFill>
          <a:blip r:embed="rId1"/>
          <a:stretch/>
        </p:blipFill>
        <p:spPr>
          <a:xfrm>
            <a:off x="671400" y="1773360"/>
            <a:ext cx="8076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Объект 3" descr=""/>
          <p:cNvPicPr/>
          <p:nvPr/>
        </p:nvPicPr>
        <p:blipFill>
          <a:blip r:embed="rId1"/>
          <a:srcRect l="0" t="0" r="47268" b="-1229"/>
          <a:stretch/>
        </p:blipFill>
        <p:spPr>
          <a:xfrm>
            <a:off x="826920" y="333360"/>
            <a:ext cx="6224400" cy="41749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755640" y="4508640"/>
            <a:ext cx="82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що  тіло гальмує, рух сповільнений, проекція прискорення від’ємна, то графік розташований під віссю абсц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прямоліній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у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85800" y="1413000"/>
            <a:ext cx="777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івноприскорений прямолінійний ру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це рух, під час якого тіло рухається прямолінійною траєкторією з незмінним прискоренн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6" descr="C:\Users\User\Desktop\fizika-9-zasekina-pogl-347.jpg"/>
          <p:cNvPicPr/>
          <p:nvPr/>
        </p:nvPicPr>
        <p:blipFill>
          <a:blip r:embed="rId1"/>
          <a:stretch/>
        </p:blipFill>
        <p:spPr>
          <a:xfrm>
            <a:off x="1598760" y="4076640"/>
            <a:ext cx="5951160" cy="22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0840" y="193680"/>
            <a:ext cx="822924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789120" y="1692360"/>
            <a:ext cx="777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 час рівноприскореного руху швидкість весь час зміню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728640" y="2847960"/>
            <a:ext cx="756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ттєва швидкіс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швидкість руху тіла в даний момент часу, швидкість у даній точці траєктор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"/>
          <p:cNvPicPr/>
          <p:nvPr/>
        </p:nvPicPr>
        <p:blipFill>
          <a:blip r:embed="rId1"/>
          <a:stretch/>
        </p:blipFill>
        <p:spPr>
          <a:xfrm>
            <a:off x="5362560" y="4005360"/>
            <a:ext cx="2974680" cy="23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4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820680" cy="3816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Залежність швидкості від час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1763640" y="3284640"/>
          <a:ext cx="2231640" cy="5997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4640"/>
                    <a:ext cx="2231640" cy="5997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9" name="Text Box 8"/>
          <p:cNvSpPr/>
          <p:nvPr/>
        </p:nvSpPr>
        <p:spPr>
          <a:xfrm>
            <a:off x="611280" y="1484280"/>
            <a:ext cx="475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афік швидкості – це  пряма, нахилена під певним кутом до осі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755640" y="4149720"/>
            <a:ext cx="475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додатня 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i="1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0),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 то графік швидкості підіймається (1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від`ємна (а</a:t>
            </a:r>
            <a:r>
              <a:rPr b="0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0), то графік швидкості опускається. 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8857800" cy="255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наприкінці 5 секунди. Чому дорівнює прискорення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5724360" y="3278160"/>
            <a:ext cx="313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4824000" cy="3615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078600" y="261144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 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84360" y="1197000"/>
            <a:ext cx="7992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інемат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розділ механіки, що вивчає рух тіл і при цьому не розглядає причини, якими цей виклик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790560" y="2581200"/>
            <a:ext cx="799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ханічний рух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зміна з часом положення тіла в просторі відносно інших т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7" descr="slide-42-638"/>
          <p:cNvPicPr/>
          <p:nvPr/>
        </p:nvPicPr>
        <p:blipFill>
          <a:blip r:embed="rId1"/>
          <a:srcRect l="7701" t="77592" r="7701" b="9248"/>
          <a:stretch/>
        </p:blipFill>
        <p:spPr>
          <a:xfrm>
            <a:off x="755640" y="4292640"/>
            <a:ext cx="80640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5" descr=""/>
          <p:cNvPicPr/>
          <p:nvPr/>
        </p:nvPicPr>
        <p:blipFill>
          <a:blip r:embed="rId2"/>
          <a:srcRect l="5080" t="8310" r="7884" b="12527"/>
          <a:stretch/>
        </p:blipFill>
        <p:spPr>
          <a:xfrm>
            <a:off x="250920" y="260280"/>
            <a:ext cx="4922640" cy="2450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9280" y="2852640"/>
            <a:ext cx="8353080" cy="3671640"/>
          </a:xfrm>
          <a:prstGeom prst="rect">
            <a:avLst/>
          </a:prstGeom>
          <a:solidFill>
            <a:srgbClr val="2e823c"/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 малюнку крапками позначені положення п'яти тіл, що рухаються зліва направо, через рівні проміжки часу. Проміжки часу між двома позначками на всіх смужках однакові. На якій смужці зареєстровано рівномірний рух з найменшою швидкістю? З найбільшою швидкістю? Рівноприскорений рух? Рівносповільнений рух?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520" cy="171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4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. Чому дорівню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724360" y="3409920"/>
            <a:ext cx="2999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- 4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1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Группа 5"/>
          <p:cNvGrpSpPr/>
          <p:nvPr/>
        </p:nvGrpSpPr>
        <p:grpSpPr>
          <a:xfrm>
            <a:off x="468360" y="2016000"/>
            <a:ext cx="4463640" cy="3860280"/>
            <a:chOff x="468360" y="2016000"/>
            <a:chExt cx="4463640" cy="3860280"/>
          </a:xfrm>
        </p:grpSpPr>
        <p:pic>
          <p:nvPicPr>
            <p:cNvPr id="360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2016000"/>
              <a:ext cx="4463640" cy="3860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1" name="Прямая соединительная линия 6"/>
            <p:cNvCxnSpPr/>
            <p:nvPr/>
          </p:nvCxnSpPr>
          <p:spPr>
            <a:xfrm flipH="1">
              <a:off x="4462200" y="3946320"/>
              <a:ext cx="2160" cy="142920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  <p:cxnSp>
          <p:nvCxnSpPr>
            <p:cNvPr id="362" name="Прямая соединительная линия 7"/>
            <p:cNvCxnSpPr/>
            <p:nvPr/>
          </p:nvCxnSpPr>
          <p:spPr>
            <a:xfrm>
              <a:off x="1447560" y="5373360"/>
              <a:ext cx="3026160" cy="1152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63" name="Picture 2" descr=""/>
          <p:cNvPicPr/>
          <p:nvPr/>
        </p:nvPicPr>
        <p:blipFill>
          <a:blip r:embed="rId3"/>
          <a:stretch/>
        </p:blipFill>
        <p:spPr>
          <a:xfrm>
            <a:off x="6012000" y="247644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3320" y="84240"/>
            <a:ext cx="8787960" cy="248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 с. Чому дорівн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5651640" y="4016520"/>
            <a:ext cx="24285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3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4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5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3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Группа 3"/>
          <p:cNvGrpSpPr/>
          <p:nvPr/>
        </p:nvGrpSpPr>
        <p:grpSpPr>
          <a:xfrm>
            <a:off x="395280" y="2527200"/>
            <a:ext cx="4333680" cy="3061800"/>
            <a:chOff x="395280" y="2527200"/>
            <a:chExt cx="4333680" cy="3061800"/>
          </a:xfrm>
        </p:grpSpPr>
        <p:grpSp>
          <p:nvGrpSpPr>
            <p:cNvPr id="367" name="Группа 2"/>
            <p:cNvGrpSpPr/>
            <p:nvPr/>
          </p:nvGrpSpPr>
          <p:grpSpPr>
            <a:xfrm>
              <a:off x="395280" y="2527200"/>
              <a:ext cx="4333680" cy="3061800"/>
              <a:chOff x="395280" y="2527200"/>
              <a:chExt cx="4333680" cy="3061800"/>
            </a:xfrm>
          </p:grpSpPr>
          <p:pic>
            <p:nvPicPr>
              <p:cNvPr id="368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27200"/>
                <a:ext cx="4333680" cy="30618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69" name="Прямая соединительная линия 28"/>
              <p:cNvCxnSpPr/>
              <p:nvPr/>
            </p:nvCxnSpPr>
            <p:spPr>
              <a:xfrm flipV="1">
                <a:off x="4262400" y="3457440"/>
                <a:ext cx="1800" cy="1590840"/>
              </a:xfrm>
              <a:prstGeom prst="straightConnector1">
                <a:avLst/>
              </a:prstGeom>
              <a:ln w="57150">
                <a:solidFill>
                  <a:srgbClr val="c00000"/>
                </a:solidFill>
                <a:prstDash val="dash"/>
                <a:round/>
              </a:ln>
            </p:spPr>
          </p:cxnSp>
        </p:grpSp>
        <p:cxnSp>
          <p:nvCxnSpPr>
            <p:cNvPr id="370" name="Прямая соединительная линия 29"/>
            <p:cNvCxnSpPr/>
            <p:nvPr/>
          </p:nvCxnSpPr>
          <p:spPr>
            <a:xfrm>
              <a:off x="1353960" y="3490560"/>
              <a:ext cx="2941920" cy="216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71" name="Picture 2" descr="f23"/>
          <p:cNvPicPr/>
          <p:nvPr/>
        </p:nvPicPr>
        <p:blipFill>
          <a:blip r:embed="rId3"/>
          <a:stretch/>
        </p:blipFill>
        <p:spPr>
          <a:xfrm>
            <a:off x="5837400" y="2624040"/>
            <a:ext cx="2303280" cy="729720"/>
          </a:xfrm>
          <a:prstGeom prst="rect">
            <a:avLst/>
          </a:prstGeom>
          <a:ln w="635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0000cc"/>
                </a:solidFill>
                <a:latin typeface="Bookman Old Style"/>
              </a:rPr>
              <a:t>Дякую за увагу!!!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84360" y="119700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теріальна точк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е фізична модель тіла, розмірами якого в умовах задачі можна знехтув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84360" y="213372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 саме тіло в умовах однієї задачі можна вважати матеріальною точкою, а в умовах іншої – не 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матеріальна точка"/>
          <p:cNvPicPr/>
          <p:nvPr/>
        </p:nvPicPr>
        <p:blipFill>
          <a:blip r:embed="rId1"/>
          <a:srcRect l="7296" t="28833" r="7296" b="10715"/>
          <a:stretch/>
        </p:blipFill>
        <p:spPr>
          <a:xfrm>
            <a:off x="1325520" y="3154320"/>
            <a:ext cx="6710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5018040" y="1925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2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2"/>
          <p:cNvGraphicFramePr/>
          <p:nvPr/>
        </p:nvGraphicFramePr>
        <p:xfrm>
          <a:off x="3851280" y="4581360"/>
          <a:ext cx="298080" cy="4633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9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81360"/>
                    <a:ext cx="2980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3"/>
          <p:cNvSpPr/>
          <p:nvPr/>
        </p:nvSpPr>
        <p:spPr>
          <a:xfrm>
            <a:off x="684360" y="1052640"/>
            <a:ext cx="79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єкторія тіл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лінія, яку описує рухоме ті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52600" y="1677960"/>
            <a:ext cx="5544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видом траєкторії рухи був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ям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в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Траектория самолета"/>
          <p:cNvPicPr/>
          <p:nvPr/>
        </p:nvPicPr>
        <p:blipFill>
          <a:blip r:embed="rId4"/>
          <a:stretch/>
        </p:blipFill>
        <p:spPr>
          <a:xfrm>
            <a:off x="7020000" y="1476360"/>
            <a:ext cx="2015640" cy="17712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1"/>
          <p:cNvSpPr/>
          <p:nvPr/>
        </p:nvSpPr>
        <p:spPr>
          <a:xfrm>
            <a:off x="611280" y="3716280"/>
            <a:ext cx="460800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Шлях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– довжина траєкторії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скаляр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Переміщення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напрямлений відрізок прямої, який з'єднує початкове і кінцеве положення  тіла – векторна фізич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slide-43-638"/>
          <p:cNvPicPr/>
          <p:nvPr/>
        </p:nvPicPr>
        <p:blipFill>
          <a:blip r:embed="rId5"/>
          <a:srcRect l="53312" t="8041" r="7701" b="78799"/>
          <a:stretch/>
        </p:blipFill>
        <p:spPr>
          <a:xfrm>
            <a:off x="5307120" y="4556160"/>
            <a:ext cx="37429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7"/>
          <p:cNvGraphicFramePr/>
          <p:nvPr/>
        </p:nvGraphicFramePr>
        <p:xfrm>
          <a:off x="3132000" y="5229360"/>
          <a:ext cx="2014200" cy="894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5229360"/>
                    <a:ext cx="2014200" cy="89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22"/>
          <p:cNvGraphicFramePr/>
          <p:nvPr/>
        </p:nvGraphicFramePr>
        <p:xfrm>
          <a:off x="6084720" y="2924280"/>
          <a:ext cx="2020680" cy="2160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0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924280"/>
                    <a:ext cx="2020680" cy="21603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Text Box 3"/>
          <p:cNvSpPr/>
          <p:nvPr/>
        </p:nvSpPr>
        <p:spPr>
          <a:xfrm>
            <a:off x="644400" y="1316160"/>
            <a:ext cx="7992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івномірний прямолінійний ру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механічний рух, під час якого тіло за будь-які рівні інтервали часу здійснює однакові переміщ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84360" y="3397320"/>
            <a:ext cx="4463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ість рівномірного прямолінійного руху протягом усього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остереження не змінюється ані за значенням, ані за напря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160" cy="63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0000cc"/>
                </a:solidFill>
                <a:latin typeface="Arial Black"/>
              </a:rPr>
              <a:t>Що спільного і в чому відмінність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Объект 3" descr=""/>
          <p:cNvPicPr/>
          <p:nvPr/>
        </p:nvPicPr>
        <p:blipFill>
          <a:blip r:embed="rId1"/>
          <a:stretch/>
        </p:blipFill>
        <p:spPr>
          <a:xfrm>
            <a:off x="465120" y="1219320"/>
            <a:ext cx="821340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5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Живі істоти теж рухаютьс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Объект 3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1972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044920" cy="148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Прилад –</a:t>
            </a:r>
            <a:r>
              <a:rPr b="0" i="1" lang="ru-RU" sz="2700" spc="-1" strike="noStrike">
                <a:solidFill>
                  <a:srgbClr val="464653"/>
                </a:solidFill>
                <a:latin typeface="Times New Roman"/>
              </a:rPr>
              <a:t>  смайлик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Величина –</a:t>
            </a:r>
            <a:r>
              <a:rPr b="0" i="1" lang="ru-RU" sz="2700" spc="-1" strike="noStrike">
                <a:solidFill>
                  <a:srgbClr val="464653"/>
                </a:solidFill>
                <a:latin typeface="Times New Roman"/>
              </a:rPr>
              <a:t> піднята рука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диниця вимірювання –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руку опустили. </a:t>
            </a: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46000" y="1628640"/>
            <a:ext cx="7829280" cy="466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 Координата.                9.   Час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Спідометр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 Метр 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 Шлях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  Рулетка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  Швидкість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.  М    етр на секунду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.  Секундомір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043680" y="2637000"/>
            <a:ext cx="2518920" cy="30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7" descr=""/>
          <p:cNvPicPr/>
          <p:nvPr/>
        </p:nvPicPr>
        <p:blipFill>
          <a:blip r:embed="rId1"/>
          <a:stretch/>
        </p:blipFill>
        <p:spPr>
          <a:xfrm>
            <a:off x="5765760" y="2946240"/>
            <a:ext cx="3095280" cy="2322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Прискоренн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201840" y="1382760"/>
            <a:ext cx="5689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усіх прикладах  швидкість руху кульки з часом збільшується. Тіло рухається 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прискорен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784080" y="5470560"/>
            <a:ext cx="8127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і збільшенням кута нахилу жолоба, швидкість руху кульки збільшується ще швид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"/>
          <p:cNvPicPr/>
          <p:nvPr/>
        </p:nvPicPr>
        <p:blipFill>
          <a:blip r:embed="rId2"/>
          <a:stretch/>
        </p:blipFill>
        <p:spPr>
          <a:xfrm>
            <a:off x="763560" y="1204920"/>
            <a:ext cx="2207880" cy="34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  <Words>563</Words>
  <Paragraphs>71</Paragraphs>
  <Company>WareZ Provid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12:30Z</dcterms:created>
  <dc:creator>Marico</dc:creator>
  <dc:description/>
  <dc:language>en-US</dc:language>
  <cp:lastModifiedBy>User</cp:lastModifiedBy>
  <dcterms:modified xsi:type="dcterms:W3CDTF">2022-02-07T22:19:01Z</dcterms:modified>
  <cp:revision>118</cp:revision>
  <dc:subject/>
  <dc:title>Атом і атомне ядро. Досліди Резерфор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