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21.jpeg" ContentType="image/jpeg"/>
  <Override PartName="/ppt/media/audio1.wav" ContentType="audio/x-wav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dt" idx="3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ftr" idx="3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 type="sldNum" idx="3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DF7F76-1CDE-423B-A44E-F638C8484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41BBC8-5682-4F0A-88A7-4DE470E2174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E4263-53FB-4CF3-B8BA-A1E5E3DD68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9C51C3-C31F-4A5D-B9F3-7DC969AE347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D11-097D-4A90-B125-73218158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11A-B7B3-4782-B697-199DC8A5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B1CD1-77F6-4F97-8EBE-A3771066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3D73F-4525-44D4-B511-A73B699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39B363-2706-4070-A95C-DC580D6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C8533-A340-4232-BF73-10F8CEA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DA0C4-C014-4134-AD69-B74C51DF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764DE6-02B4-4CD7-9560-8DA6C7B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62C4B-7879-4090-A6F1-A9BB8506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8031E-FCCE-48ED-84DB-CECFA797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1AC954-55DB-4537-8248-F9B9E2AD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3864C-6EAF-4EB4-B067-D69DE881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C55-D96F-4FD8-A3D0-78D1689B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AA51C-3836-4954-86EF-66C4D218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D8E2C-BB9D-40A6-A6E0-237C4978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DA444-2FBC-43DC-9F4B-B6FD19C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623C1-9A16-4718-94D9-EEF70036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8FB01-F571-4D61-B7B9-07A75554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BAD54-5F69-4033-BB1A-89C768D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B7619-FE93-4254-A2DB-40E8D94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E4ABD-73F7-45DB-9265-46D9B22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98C1F-653E-4047-ADD6-63EBE567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738F2-C700-40D0-96AA-5BDFDE22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449-AA33-4564-9537-8120B70E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A8B82-8B15-450A-A124-0232A697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F4D1-6BC6-4113-AFB4-F259F7DC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48E1-54A3-4ECF-A0E1-5FB671A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7F4A-2FC2-4185-AFB4-73058280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C212-1D67-4482-A68B-AF4E8C47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85AC-2141-429E-84F6-554A6F8A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5229-EA31-4BC0-B94A-9D8036B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D0F5-3DE3-4532-BCED-0048BD3B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CE2-7D7F-4E63-AAD4-242EB57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A73E-FCAE-4C82-9216-7DD8728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16D3-F941-4EB8-8644-C02EB12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2D39-EED5-4073-8B3E-2F910D99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7A48-AEF7-4FA3-AFA1-CFCEDF7B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3844-BF85-4E62-A204-5C080484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5E2A-5320-4CC0-BCC7-E1C37E71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212A-4EA4-4615-9777-121AF21E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550B-760F-46DF-852D-40F09B87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56A0-611F-45F6-9D26-461132F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3E97-9B99-4043-A764-27F9328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7BE-FEB4-4F98-B986-B369A4C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9A99-DCF1-49B7-9618-290D3D83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D8EA-0BE6-4F2F-A2D7-42AD7F5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C48A-1193-4A5C-BA93-3D7EE6A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0339-F93A-484D-8FDC-2C7C45E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D372-3CE9-4DB5-A741-665BE9E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A2D62-C045-44C0-B118-FC4F5FF7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63E2-7EB1-493C-95E2-252F1473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A578-9EAC-406C-87A9-0C50F2F3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EFFA-68FA-4404-8CBE-2284E5F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CAD5-27E4-401B-BFDA-2589096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455-D147-483F-A992-6E2DC883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069D-AE6A-4C29-89CC-A05617A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0BDF-D725-4D74-8A65-1CFAD6F0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6859-AD9F-422F-AF2E-5006E7D5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B8A5-9781-4D94-AE2D-E3B3BAA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DC8B-F66E-4157-B44D-D6ED94A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31CE-44AA-46EE-8DDC-B86820F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4527-B823-4BE7-973D-4223368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5B45-75E6-46C1-A8B7-EFA27486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270C-D6B0-4158-9D00-B5C23CF9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3996-67A9-4A6C-8F2A-FF400A8C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B0A-6BEC-4FD7-AE2A-31BC98E8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56F6B-4AD9-4246-97AD-B4841EF0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9374-2B6E-4F27-97DE-3BB976F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4D80-90CB-40D1-ABA9-4141196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D3AD2-3C63-4969-A725-B8D0C774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A3A3-8E56-461F-BB0A-0B1C1B7A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02D1-41BD-4348-8897-F4C93F8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1E7E-F286-4C5A-B36C-3AC3AE3A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215E4-59F0-4788-9928-774EA6F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DDAEE-0019-4ED8-B6FF-154B1F7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ED6B-8943-46DD-B460-1DB59E8C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412-87C8-44F4-8DC0-91F22925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72F0-1E5D-4242-8E6A-33856478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5892-70EB-42C1-9D08-41C62D3A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52670-CA09-4935-B933-CC3B3668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71818-962A-4C74-90FC-CC94208C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744F7-F396-43AA-A2EC-3FC969F3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8D219-EBAF-4C31-9E88-A1BE5A3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A097-4E64-43C0-B87E-E9D9808C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308C-4C86-46D0-B523-6B3D70BF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D3C84-3307-49C3-987A-E586CCC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F37C-666A-45F9-9DDD-0AFA8E85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C95-76B4-4CFC-BFE3-C4BC1B5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8D43-DEFB-4CA7-B7A5-96BDA9F0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C0A9-3E41-4A42-86ED-46848D0C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3CBB-2D6A-4863-A707-BAAC3E98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BA33D-7C8C-4075-AA86-392C0268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9C6E6-B96E-4E11-A554-CFAA6A36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B5761-B763-4918-9CAA-D234815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95F99-E898-4FA2-90D9-756086A2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FEE72-5DDE-45A8-B273-D3860B36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9AC8F-E67A-4F31-8143-EA24486A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27B4B-3E1D-4CD2-B955-A24505C0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465-9561-4DAE-B94A-259ACB6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76B84-8E21-4730-B431-E4F56277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F21F2-31D2-4226-8B62-14684EB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3D908-1AE9-4B0E-8F54-E65EBD65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EC6A6-8C7A-4490-8771-7FD93F18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A3DD9-9866-423F-A825-76D302F7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76CEA-4D93-44EE-B880-2BD31B15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9269F-16F9-4197-9A18-E217281F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A2C6-36D8-4FB0-A017-1F90E0FF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44D0E-A39B-4136-BF92-38C4D25E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82DD-AEE0-41FA-91A3-396AF71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86F-D10C-4DD1-9776-BE34F970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B20F-2841-4280-93B0-63B76B11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38488-E489-4B39-A525-1742302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27E93-60FB-46E8-9901-922F836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725E6-7B04-440B-AD38-15268BB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0D4F-4727-4E16-9801-00800BDC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3BE1F-D461-4AB4-80CA-EA718301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75C09-C290-433D-9882-6CEAD616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CCE5C-7D56-4155-B865-C68505D5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92BC4-1498-4C34-AB75-9751222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54AC8D-02C0-499E-ABA8-64499803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4E4EE3-1B9C-40AC-AF5F-F522CB335F2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7997" sy="3799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D0D5CE4-AF40-403B-A8A5-940732F21CF5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D3CFEB-1134-4A2F-A546-1FCF3509EB54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E934D4-D8ED-4025-92A9-0782114BBDCE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34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96464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88414BE-929A-4FE0-A774-9D682D91DF33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b4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51E5D4-32CD-45F5-87E5-1EF58F339E72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88466F-3DDC-4961-A0C1-9FA39B36E34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E7A1E9-3D2B-49D5-8B5F-957E9B30627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1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7A90D30-6AF8-4D3E-BB0B-736F696E623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7997" sy="3799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A60858-2DE3-494E-8AB5-315CE17583C8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audio" Target="../media/audio1.wav"/><Relationship Id="rId9" Type="http://schemas.openxmlformats.org/officeDocument/2006/relationships/slideLayout" Target="../slideLayouts/slideLayout6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1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1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68644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000000"/>
                </a:solidFill>
                <a:latin typeface="Arial Black"/>
              </a:rPr>
              <a:t>ОБЖ 9 класс</a:t>
            </a:r>
            <a:br>
              <a:rPr sz="3600"/>
            </a:b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Тема: </a:t>
            </a: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«Единая государственная система предупреждения и ликвидации чрезвычайных ситуаций.</a:t>
            </a: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(рсчс)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2"/>
          <p:cNvSpPr/>
          <p:nvPr/>
        </p:nvSpPr>
        <p:spPr>
          <a:xfrm>
            <a:off x="2267640" y="494100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сько Александр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СОШ №-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ор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0" descr=""/>
          <p:cNvPicPr/>
          <p:nvPr/>
        </p:nvPicPr>
        <p:blipFill>
          <a:blip r:embed="rId1"/>
          <a:stretch/>
        </p:blipFill>
        <p:spPr>
          <a:xfrm>
            <a:off x="446760" y="2813760"/>
            <a:ext cx="2214360" cy="1757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57" name="Picture 11" descr=""/>
          <p:cNvPicPr/>
          <p:nvPr/>
        </p:nvPicPr>
        <p:blipFill>
          <a:blip r:embed="rId2"/>
          <a:stretch/>
        </p:blipFill>
        <p:spPr>
          <a:xfrm>
            <a:off x="3445200" y="2833920"/>
            <a:ext cx="2221200" cy="1737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58" name="Picture 12" descr=""/>
          <p:cNvPicPr/>
          <p:nvPr/>
        </p:nvPicPr>
        <p:blipFill>
          <a:blip r:embed="rId3"/>
          <a:stretch/>
        </p:blipFill>
        <p:spPr>
          <a:xfrm>
            <a:off x="6370200" y="2800440"/>
            <a:ext cx="2361960" cy="1771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59" name="PlaceHolder 1"/>
          <p:cNvSpPr>
            <a:spLocks noGrp="1"/>
          </p:cNvSpPr>
          <p:nvPr>
            <p:ph type="sldNum" idx="34"/>
          </p:nvPr>
        </p:nvSpPr>
        <p:spPr>
          <a:xfrm>
            <a:off x="6553080" y="63244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C47CFE-9DC7-43B3-93B1-37ACEE725767}" type="slidenum">
              <a:rPr b="0" lang="ru-RU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3"/>
          <p:cNvSpPr/>
          <p:nvPr/>
        </p:nvSpPr>
        <p:spPr>
          <a:xfrm>
            <a:off x="212760" y="51840"/>
            <a:ext cx="877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600" spc="-1" strike="noStrike">
                <a:solidFill>
                  <a:srgbClr val="ff0000"/>
                </a:solidFill>
                <a:latin typeface="Book Antiqua"/>
              </a:rPr>
              <a:t>ФЗ от 21.12.1994 г. № 68 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«О защите населения и территорий от чрезвычайных ситуаций природного и техногенного характер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4"/>
          <p:cNvSpPr/>
          <p:nvPr/>
        </p:nvSpPr>
        <p:spPr>
          <a:xfrm>
            <a:off x="212760" y="636480"/>
            <a:ext cx="86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Граждане Российской Федерации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5"/>
          <p:cNvSpPr/>
          <p:nvPr/>
        </p:nvSpPr>
        <p:spPr>
          <a:xfrm>
            <a:off x="254160" y="1124640"/>
            <a:ext cx="8686440" cy="1770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соблюдать законы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и иные нормативные правовые акты РФ, законы и иные нормативные правовые акты субъектов РФ в области защиты населения и территорий от Ч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кругленный прямоугольник 6"/>
          <p:cNvSpPr/>
          <p:nvPr/>
        </p:nvSpPr>
        <p:spPr>
          <a:xfrm>
            <a:off x="0" y="4419720"/>
            <a:ext cx="9143640" cy="2321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соблюдать меры безопасности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быту и повседневной трудовой деятельности,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не допускать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нарушений производственной и технологической дисциплины, требований экологической безопасности, которые могут привести к возникновению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4" name="audio1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3"/>
          <p:cNvSpPr/>
          <p:nvPr/>
        </p:nvSpPr>
        <p:spPr>
          <a:xfrm>
            <a:off x="3200400" y="152280"/>
            <a:ext cx="579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200" spc="-1" strike="noStrike">
                <a:solidFill>
                  <a:srgbClr val="ff0000"/>
                </a:solidFill>
                <a:latin typeface="Book Antiqua"/>
              </a:rPr>
              <a:t>ФЗ от 21.12.1994 г. № 68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«О защите населения и территорий от чрезвычайных ситуаций природного и техногенного характе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212760" y="636480"/>
            <a:ext cx="868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Граждане Российской Федераци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обяз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ый прямоугольник 7"/>
          <p:cNvSpPr/>
          <p:nvPr/>
        </p:nvSpPr>
        <p:spPr>
          <a:xfrm>
            <a:off x="212760" y="1340640"/>
            <a:ext cx="8778600" cy="532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зуч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сновные способы защиты населения и территорий от Ч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емы оказания первой помощи пострадавш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авила охраны жизни людей на водных объе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авила пользования коллективными и индивидуальными средствами защи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постоянно совершенствовать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вои знания и практические навыки в указан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Num" idx="35"/>
          </p:nvPr>
        </p:nvSpPr>
        <p:spPr>
          <a:xfrm>
            <a:off x="6553080" y="63244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E3279-3718-451C-A764-9F5DB235070B}" type="slidenum">
              <a:rPr b="0" lang="ru-RU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15000"/>
              </a:lnSpc>
              <a:spcAft>
                <a:spcPts val="1199"/>
              </a:spcAft>
              <a:buNone/>
            </a:pPr>
            <a:r>
              <a:rPr b="1" lang="ru-RU" sz="4000" spc="-1" strike="noStrike">
                <a:solidFill>
                  <a:srgbClr val="333333"/>
                </a:solidFill>
                <a:latin typeface="Tahoma"/>
                <a:ea typeface="Calibri"/>
              </a:rPr>
              <a:t>Постоянно действующие органы управления РСЧС. </a:t>
            </a:r>
            <a:br>
              <a:rPr sz="2800"/>
            </a:b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712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Рабочими органами комиссий по чрезвычайным ситуациям являются соответствующие постоянно действующие органы управления РСЧС, специально уполномоченные на решение задач в области защиты населения и территорий от чрезвычайных ситуаций (органы управления ГОЧС). </a:t>
            </a:r>
            <a:endParaRPr b="0" lang="ru-RU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0000"/>
          </a:bodyPr>
          <a:p>
            <a:pPr indent="0" algn="ctr">
              <a:lnSpc>
                <a:spcPct val="115000"/>
              </a:lnSpc>
              <a:spcAft>
                <a:spcPts val="1199"/>
              </a:spcAft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333333"/>
                </a:solidFill>
                <a:latin typeface="Tahoma"/>
                <a:ea typeface="Calibri"/>
              </a:rPr>
              <a:t>Постоянно действующие органы управления РСЧС </a:t>
            </a: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1" name="Содержимое 3" descr="http://culture.mchs.gov.ru/upload/learning/img/Les1/1dfgh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4"/>
          <p:cNvSpPr/>
          <p:nvPr/>
        </p:nvSpPr>
        <p:spPr>
          <a:xfrm>
            <a:off x="179640" y="1859400"/>
            <a:ext cx="8784720" cy="5208840"/>
          </a:xfrm>
          <a:prstGeom prst="rect">
            <a:avLst/>
          </a:prstGeom>
          <a:solidFill>
            <a:srgbClr val="ffe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Нормальная - производственная, промышленная , Радиационная ,  Химическая , Биологическая , сейсмическая, гидрометеорологическая обстановка , отсутствие эпидемий , эпизоотий, эпифито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Ухудшение обстановки , получение прогноза  о возможности возникновения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Возникновение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Двойная стрелка влево/вправо 5"/>
          <p:cNvSpPr/>
          <p:nvPr/>
        </p:nvSpPr>
        <p:spPr>
          <a:xfrm>
            <a:off x="0" y="0"/>
            <a:ext cx="9143640" cy="170028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chemeClr val="tx2">
              <a:lumMod val="75000"/>
            </a:schemeClr>
          </a:solidFill>
          <a:ln w="76200">
            <a:solidFill>
              <a:srgbClr val="00ff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8e58b6"/>
                </a:solidFill>
                <a:uFillTx/>
                <a:latin typeface="Constantia"/>
                <a:hlinkClick r:id="rId4" action="ppaction://hlinksldjump"/>
              </a:rPr>
              <a:t>Режимы</a:t>
            </a:r>
            <a:r>
              <a:rPr b="1" lang="ru-RU" sz="4400" spc="-1" strike="noStrike" u="sng">
                <a:solidFill>
                  <a:srgbClr val="8e58b6"/>
                </a:solidFill>
                <a:uFillTx/>
                <a:latin typeface="Constantia"/>
                <a:hlinkClick r:id="rId5" action="ppaction://hlinksldjump"/>
              </a:rPr>
              <a:t> </a:t>
            </a:r>
            <a:r>
              <a:rPr b="1" lang="ru-RU" sz="2800" spc="-1" strike="noStrike" u="sng">
                <a:solidFill>
                  <a:srgbClr val="8e58b6"/>
                </a:solidFill>
                <a:uFillTx/>
                <a:latin typeface="Constantia"/>
                <a:hlinkClick r:id="rId6" action="ppaction://hlinksldjump"/>
              </a:rPr>
              <a:t>функционирования </a:t>
            </a:r>
            <a:r>
              <a:rPr b="1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7" action="ppaction://hlinksldjump"/>
              </a:rPr>
              <a:t> РС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8" name="audio1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07640" y="116640"/>
            <a:ext cx="8928720" cy="648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1" action="ppaction://hlinksldjump"/>
              </a:rPr>
              <a:t>Действия РСЧС  в режиме повседневной </a:t>
            </a:r>
            <a:r>
              <a:rPr b="1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2" action="ppaction://hlinksldjump"/>
              </a:rPr>
              <a:t>деятельности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Наблюдение за состоянием окружающей среды и обстановки на потенциально опасных объектах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Планирование и выполнение мер по предупреждению ЧС и обеспечению защиты населения 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Подготовка органов управления 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Сил и средств к действиям при ЧС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Создание и пополнение финансовых и материальных резервов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5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9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5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4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0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71760" y="70416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buNone/>
            </a:pPr>
            <a:endParaRPr b="0" lang="ru-RU" sz="4000" spc="-100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7640" y="44640"/>
            <a:ext cx="8928720" cy="6813000"/>
          </a:xfrm>
          <a:prstGeom prst="rect">
            <a:avLst/>
          </a:prstGeom>
          <a:solidFill>
            <a:srgbClr val="d9d9d9"/>
          </a:solidFill>
          <a:ln w="57240">
            <a:noFill/>
          </a:ln>
        </p:spPr>
        <p:txBody>
          <a:bodyPr lIns="90000" rIns="90000" tIns="45000" bIns="45000" anchor="t">
            <a:normAutofit/>
          </a:bodyPr>
          <a:p>
            <a:pPr marL="68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 Black"/>
              </a:rPr>
              <a:t>ДЕЙСТВИЯ РСЧС в режиме ПОВЫШЕННОЙ ГОТОВНОСТИ: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вление причин ухудшения обстановки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отка предложений по её нормализации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иление дежурно-диспетчерской  службы и наблюдение за состоянием природной сред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становкой на потенциально опасных объектах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ы по защите населения и окружающей сред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едение в готовность сил и средств. 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точнение планов действий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7" name="Picture 2" descr="object_44"/>
          <p:cNvPicPr/>
          <p:nvPr/>
        </p:nvPicPr>
        <p:blipFill>
          <a:blip r:embed="rId8"/>
          <a:stretch/>
        </p:blipFill>
        <p:spPr>
          <a:xfrm rot="622200">
            <a:off x="7666200" y="5441760"/>
            <a:ext cx="1068120" cy="133020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6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45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55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79640" y="332640"/>
            <a:ext cx="8784720" cy="633636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57240">
            <a:noFill/>
          </a:ln>
        </p:spPr>
        <p:txBody>
          <a:bodyPr lIns="90000" rIns="90000" tIns="45000" bIns="45000"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100" spc="-1" strike="noStrike">
                <a:solidFill>
                  <a:srgbClr val="ff3300"/>
                </a:solidFill>
                <a:latin typeface="Arial Black"/>
              </a:rPr>
              <a:t>ДЕЙСТВИЯ РСЧС в режиме ЧРЕЗВЫЧАЙНОЙ СИТУАЦИИ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рганизация защиты населения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пределение границ ЧС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рганизация  ликвидации</a:t>
            </a:r>
            <a:r>
              <a:rPr b="1" lang="en-US" sz="41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ЧС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Работы по первоочередному обеспечению пострадавшего населения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Непрерывный контроль за состоянием окружающей среды и обстановкой на аварийных объектах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00560" cy="796680"/>
          </a:xfrm>
          <a:prstGeom prst="rect">
            <a:avLst/>
          </a:prstGeom>
          <a:solidFill>
            <a:srgbClr val="ffe697"/>
          </a:solidFill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000000"/>
                </a:solidFill>
                <a:latin typeface="Constantia"/>
              </a:rPr>
              <a:t>Структура сил и средств РСЧС</a:t>
            </a:r>
            <a:r>
              <a:rPr b="0" lang="ru-RU" sz="2800" spc="-100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0" name="Содержимое 3" descr="http://culture.mchs.gov.ru/upload/learning/img/Les1/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93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93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193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193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74100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К силам и средствам ликвидации чрезвычайных ситуаций РСЧС относят: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йска гражданской обороны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исково-спасательную службу МЧС Росси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енизированные и невоенизированные противопожарные, аварийно-спасательные, аварийно-восстановительные, восстановительные и аварийно-технические формирования федеральных органов исполнительной власт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я и учреждения Всероссийской службы медицины катастроф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я ветеринарной службы и службы защиты растений Минсельхозпрода Росси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енизированные службы Росгидромета по активисту воздей­ствию на гидрометеорологические процессы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1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Домашнее задание:</a:t>
            </a: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1. Подготовить реферат на тему – «Состав сил и средств наблюдения и контроля РСЧС».</a:t>
            </a: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Подготовиться к тестовой работе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3" descr="http://culture.mchs.gov.ru/upload/learning/img/Les1/123werthyjuk.JPG"/>
          <p:cNvPicPr/>
          <p:nvPr/>
        </p:nvPicPr>
        <p:blipFill>
          <a:blip r:embed="rId1"/>
          <a:stretch/>
        </p:blipFill>
        <p:spPr>
          <a:xfrm>
            <a:off x="3420000" y="260640"/>
            <a:ext cx="2592000" cy="1944000"/>
          </a:xfrm>
          <a:prstGeom prst="rect">
            <a:avLst/>
          </a:prstGeom>
          <a:ln w="9525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07640" y="2277000"/>
            <a:ext cx="8928720" cy="458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исково-спасательной службы в России раньше не было. 27 декабря 1990 г. было принято постановление Совета Министров России «Об образовании Российского корпуса спасателей на правах государственного комитета РСФСР»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Этот день - 27 декабря, с 1995 г. отмечается как День  спасателя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2" name="audio1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195640" y="116640"/>
            <a:ext cx="6840360" cy="66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360000" algn="just">
              <a:lnSpc>
                <a:spcPct val="110000"/>
              </a:lnSpc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виация МЧС Росс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лючает в себя государственное унитарное авиационное предприятие и отдельные вертолетные отряды, находящиеся в подчинении региональных центров министерств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располагает разнообразной по своим возможностям и предназначению авиационной техникой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5" name="Содержимое 4" descr="http://culture.mchs.gov.ru/upload/img/%7B38FC82C4-627B-49CD-BF2B-C28CC04B4A04%7D.jpg"/>
          <p:cNvPicPr/>
          <p:nvPr/>
        </p:nvPicPr>
        <p:blipFill>
          <a:blip r:embed="rId1"/>
          <a:stretch/>
        </p:blipFill>
        <p:spPr>
          <a:xfrm>
            <a:off x="0" y="0"/>
            <a:ext cx="2016000" cy="216000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Противопожарная служба МЧС России </a:t>
            </a:r>
            <a:br>
              <a:rPr sz="2400"/>
            </a:b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7" name="Содержимое 5" descr="http://culture.mchs.gov.ru/upload/learning/img/Les1/%7bB507F377-171E-4FEC-9467-C0F25E04DBD2%7d.jpg"/>
          <p:cNvPicPr/>
          <p:nvPr/>
        </p:nvPicPr>
        <p:blipFill>
          <a:blip r:embed="rId1"/>
          <a:stretch/>
        </p:blipFill>
        <p:spPr>
          <a:xfrm>
            <a:off x="683640" y="1124640"/>
            <a:ext cx="7488360" cy="518436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34000"/>
          </a:bodyPr>
          <a:p>
            <a:pPr indent="0">
              <a:lnSpc>
                <a:spcPct val="115000"/>
              </a:lnSpc>
              <a:spcAft>
                <a:spcPts val="1199"/>
              </a:spcAft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Медицина катастроф</a:t>
            </a:r>
            <a:r>
              <a:rPr b="0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 </a:t>
            </a:r>
            <a:br>
              <a:rPr sz="2400"/>
            </a:br>
            <a:r>
              <a:rPr b="0" lang="ru-RU" sz="2200" spc="-100" strike="noStrike">
                <a:solidFill>
                  <a:srgbClr val="333333"/>
                </a:solidFill>
                <a:latin typeface="Tahoma"/>
                <a:ea typeface="Times New Roman"/>
              </a:rPr>
              <a:t>Госпиталь МЧС России. Кабул. 2002 г. 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9" name="Содержимое 3" descr="http://culture.mchs.gov.ru/upload/learning/img/Les1/%7B9DF931B4-3BF5-4FE3-86D6-EDDC7ECDDF45%7D.jpg"/>
          <p:cNvPicPr/>
          <p:nvPr/>
        </p:nvPicPr>
        <p:blipFill>
          <a:blip r:embed="rId1"/>
          <a:stretch/>
        </p:blipFill>
        <p:spPr>
          <a:xfrm>
            <a:off x="683640" y="1268640"/>
            <a:ext cx="7920360" cy="496836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К силам и средствам наблюдения и контроля РСЧС относятся: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лужбы (учреждения) и организации федеральных органов исполнительной власти, осуществляющие наблюдение и контроль за состоянием окружающей природной среды, обстановкой на потенциально опасных объектах и прилегающих к ним территори­ях, анализ воздействия вредных факторов на здоровье населения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формирования Госсанэпиднадзор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ветеринарная служба Минсельхозпрод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лужбы (учреждения) наблюдения и лабораторного контроля за качеством пищевого сырья и продуктов питания Минсельхозпрода и Минторг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геофизическая служба Российской академии наук, оператив­ные группы постоянной готовности Росгидромета и подразделе­ния Минатом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учреждения Агентства по мониторингу чрезвычайных ситуа­ций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учреждения сети наблюдения и лабораторного контроля ГО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000000"/>
                </a:solidFill>
                <a:latin typeface="Constantia"/>
              </a:rPr>
              <a:t>Состав сил и средств наблюдения и контроля РСЧС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186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РСЧС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908640"/>
            <a:ext cx="9036000" cy="541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Постановлением Правительства РФ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от 18 апреля 1992 г. № 261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была создана Российская система предупреждения и действий в чрезвычайных ситуациях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(сокращенно РСЧС),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преобразованная 5 ноября 1995 г. постановлением Правительства Российской Федерации № 1113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в единую государственную систему предупреждения и ликвидации чрезвычайных ситуаций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21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Franklin Gothic Book"/>
                <a:hlinkClick r:id="rId1" action="ppaction://hlinksldjump"/>
              </a:rPr>
              <a:t>Российская система </a:t>
            </a:r>
            <a:r>
              <a:rPr b="1" lang="ru-RU" sz="4400" spc="-1" strike="noStrike" u="sng">
                <a:solidFill>
                  <a:srgbClr val="cc9900"/>
                </a:solidFill>
                <a:uFillTx/>
                <a:latin typeface="Franklin Gothic Book"/>
                <a:hlinkClick r:id="rId2" action="ppaction://hlinksldjump"/>
              </a:rPr>
              <a:t>предупреждения и действий в чрезвычайных ситуациях</a:t>
            </a:r>
            <a:endParaRPr b="0" lang="ru-RU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24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3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Создана для предупреждения и действий в чрезвычайных  ситуациях , объединяет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: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4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ы управления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5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силы и средства Федеральных  органов исполнительной власти 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6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ов исполнительной власти субъектов РФ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7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ов местного самоуправления  и организаций , в полномочия которых входит решение вопросов защиты населения и территорий от чрезвычайных ситуаций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5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45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3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5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fdc9f"/>
            </a:gs>
            <a:gs pos="100000">
              <a:srgbClr val="f3e7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410082"/>
                </a:solidFill>
                <a:uFillTx/>
                <a:latin typeface="Lucida Sans"/>
                <a:hlinkClick r:id="rId1" action="ppaction://hlinksldjump"/>
              </a:rPr>
              <a:t>Чрезвычайные ситуации</a:t>
            </a:r>
            <a:endParaRPr b="0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9640" y="1143000"/>
            <a:ext cx="871272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Чрезвычайная ситуация(ЧС) - </a:t>
            </a: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обстановка на определё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ли окружающей среде, значительные материальные потери и нарушение условий жизнедеятельности людей.</a:t>
            </a:r>
            <a:endParaRPr b="0" lang="ru-RU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5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4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Цели и задачи РСЧС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9" name="Содержимое 3" descr="http://culture.mchs.gov.ru/upload/learning/img/Les1/ta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"/>
          </a:bodyPr>
          <a:p>
            <a:pPr indent="0" algn="ctr">
              <a:lnSpc>
                <a:spcPct val="115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3100" spc="-1" strike="noStrike">
                <a:solidFill>
                  <a:srgbClr val="333333"/>
                </a:solidFill>
                <a:latin typeface="Calibri"/>
                <a:ea typeface="Calibri"/>
              </a:rPr>
              <a:t>Структура РСЧС</a:t>
            </a:r>
            <a:r>
              <a:rPr b="1" lang="ru-RU" sz="3100" spc="-1" strike="noStrike">
                <a:solidFill>
                  <a:srgbClr val="333333"/>
                </a:solidFill>
                <a:latin typeface="Tahoma"/>
                <a:ea typeface="Calibri"/>
              </a:rPr>
              <a:t> </a:t>
            </a:r>
            <a:br>
              <a:rPr sz="3600"/>
            </a:b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640" y="404640"/>
            <a:ext cx="885672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СЧС строится по территориально-производственному принцип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состоит из территориальных и функциональных подсистем и 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5 уровней управления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едер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гион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рритори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стный,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indent="397800" algn="just">
              <a:lnSpc>
                <a:spcPct val="120000"/>
              </a:lnSpc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ъектовый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альные подсистемы РСЧС создаются в субъектах Российской Федерации для предупреждения и ликвидации чрезвычайных ситуаций в пределах их территорий и состоят из звеньев, соответствующих административно-территориальному делению этих территорий.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indent="397800" algn="just">
              <a:lnSpc>
                <a:spcPct val="120000"/>
              </a:lnSpc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венья (местный уровень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здаются в муниципальных образованиях (район, населенный пункт) для предупреждения ликвидации чрезвычайных ситуаций в пределах их территорий.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453" name="Содержимое 3" descr="http://culture.mchs.gov.ru/upload/learning/video/Les1/%7bE2F9D7AD-3740-49D9-A300-CAF9BA838F1A%7d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455" name="Содержимое 3" descr="http://culture.mchs.gov.ru/upload/learning/video/Les1/1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1_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1_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8474</TotalTime>
  <Application>LibreOffice/7.4.7.2$Linux_X86_64 LibreOffice_project/40$Build-2</Application>
  <AppVersion>15.0000</AppVersion>
  <Words>841</Words>
  <Paragraphs>9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Важный</cp:category>
  <dcterms:created xsi:type="dcterms:W3CDTF">2009-02-19T12:04:56Z</dcterms:created>
  <dc:creator>Иванов М.А.</dc:creator>
  <dc:description/>
  <cp:keywords>Основы безопасности жизнедеятельности</cp:keywords>
  <dc:language>en-US</dc:language>
  <cp:lastModifiedBy>Васько Александр Васильевич</cp:lastModifiedBy>
  <dcterms:modified xsi:type="dcterms:W3CDTF">2022-10-25T05:29:02Z</dcterms:modified>
  <cp:revision>1198</cp:revision>
  <dc:subject>ОБЖ</dc:subject>
  <dc:title>РСЧС-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