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10.png" ContentType="image/png"/>
  <Override PartName="/ppt/media/image6.jpeg" ContentType="image/jpeg"/>
  <Override PartName="/ppt/media/image9.png" ContentType="image/png"/>
  <Override PartName="/ppt/media/image7.jpeg" ContentType="image/jpeg"/>
  <Override PartName="/ppt/media/image11.jpeg" ContentType="image/jpeg"/>
  <Override PartName="/ppt/media/image8.png" ContentType="image/png"/>
  <Override PartName="/ppt/media/image5.jpeg" ContentType="image/jpeg"/>
  <Override PartName="/ppt/media/image4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21.jpeg" ContentType="image/jpeg"/>
  <Override PartName="/ppt/media/audio1.wav" ContentType="audio/x-wav"/>
  <Override PartName="/ppt/media/image17.jpeg" ContentType="image/jpe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dt" idx="3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ftr" idx="3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 type="sldNum" idx="3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5E44DC0-EC91-4EDC-80BA-025FB1BBA6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sldNum" idx="37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BD358E-1FCC-45D2-8D7E-4007B7FB6EEE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sldNum" idx="38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EA2511-1EE9-4DC7-9D04-063569C668AA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36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F3A4DA4-E8F0-4488-9617-1B0A269B85A7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AF01-6123-4425-A1D0-CE89BB417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4794A-720A-41DB-9218-8F9EEFF5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BA4805-3F3D-4A47-BFFD-040D60E2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13CF0FD-29A3-4B63-AC56-D52019A6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537253D-0686-4D26-BB2B-AB2FF4FBD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D6A6DB-4550-465B-91A4-BA04609B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94A9557-B341-4271-8744-75E7B9B74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D5E8DC7-87FF-41F1-9ADF-1AE216C7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76CB09-12C2-403D-96FE-9DFBEF838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2F88C9-8EE8-49E2-BF0B-14919693B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BB1EF1-B72B-4DF0-9F49-97027D78E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E62026-721E-4518-A049-67D44D392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FDA9-D83B-4A85-B3E5-4E33329A7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8C242C-E689-4722-AB67-A2B5882C8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D57B32-6852-46D0-A592-A24B72BD1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04CFC8-0FB1-4D97-9191-A85FBDB8C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DD844F-F7E2-451F-B298-DDC2405A4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8EE03D-8B92-43C0-B88D-340AD00A3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CE5355-C5A1-4682-A684-3D8981A5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2DB6BC-F9DD-4B3B-B945-99ED4975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03B916-8EC3-444D-982A-B9ADDE613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3409B-2DBB-42C8-A1DB-631A8CA5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3D3A06-4635-432F-80B1-98572D45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12F9-BEF4-446F-9E9C-82A8B86D6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24CAB6-797F-401F-A219-51B20B07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9F89C-E10C-46DB-87F1-5C9016812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5B07-9215-494F-B158-1FBAFF132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C8885-A7F5-467A-86C3-043AC25D8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7A87-1B60-47FB-902E-12E002AD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C21B8-10BC-464F-B5C2-74BE6D43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25AA-97D9-4EBA-A3E0-A6B4928C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8973F-7A66-4699-A6CF-D31AED29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7C29-EECC-4E1D-B01C-1E8948BA0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0231-FBB8-41DD-ACA2-F80A30FB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0E895-99D3-4E19-A87A-D31F28C8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01E6-09B6-463D-95A6-33A5451DD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6CB19-13A4-4BCB-BC67-2337E8CC6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2062B-88F7-426E-AE4E-767147769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C867E-7C21-4CC2-B9BF-93A813177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D82AE9-E91E-4AEE-AD27-4D0154FB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892188-D163-48B0-954E-465F1EAE6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8FE3D-645A-4FE2-800D-52A14593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14C6C-1ABD-4646-91DD-71E2B9EB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2D69-D481-4A41-AFB7-D0BEE6390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74D30-8A75-4FE2-A5AA-3FCC1BB06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5461CD-1FCD-414F-A97A-7CF7239A6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550DF-1B92-4F1D-9D0A-5B086C1AF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B658D2-F4D7-4398-9397-2BBC7E21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7E442-8F8A-41EB-ACC8-D2F65D5C0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02363-A4E4-4148-98BF-0DD87C007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6C50B5-20B2-4FC6-A13B-F1311939B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AB0AD6-9C6B-41B3-8B90-BDF04DA81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49E783-485E-4737-A7FC-B6F1AF65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2DDB5-13E8-48E2-8C9A-0832D882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FD5C-FCBC-4CB6-8471-1153DC317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B70E5-A8E3-413E-BC9E-1FD7627D6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17B295-535B-48C3-A475-5599B9529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65761-39E7-49C1-BDDF-28DF80C06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C9F038-A60E-4BCD-8E5D-4D1D8F190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1169F-2BAA-45A7-AC25-E3600A28F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4938E-EC10-4CD0-838F-E99B5E78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E8505-39BD-43DE-A453-91EA51824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217D4-E04D-42A8-B38A-CAE2718BA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CC93FC-231D-42DE-8DCE-77E47980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42C11-8B9A-42AF-A208-DD7D89217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16F2-941A-440C-9AF0-DF77733C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E51BF3-4759-4AF7-BB8D-884F7C09C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C952E3-3365-410C-A46B-FA678435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A66FDB-19E7-4987-B118-9E2D3D785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5EE39A-B450-4445-B801-4938E3927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B66410-4FB8-45CF-81B1-487624DDD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02739-A82C-4F6F-875A-E786D396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2FE9C-6D85-4738-B040-B3E7FF15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31717-8725-4E8A-9FCB-7D0A15BD0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296D5B-8037-4216-BEEC-7A8E45B8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4B19BC-4503-427D-8BBD-16F282A57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2BB1-6E16-4FAF-A28E-98CA4E6F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764E99-7909-4064-A9E7-4FAAAB50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A6EE38-E93D-4DD8-887B-D7A46AFDB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55BC5-D471-4DA6-8DCE-BDC33A869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530CF8-6469-4A2C-84F8-2C799E3E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7A8D94-B2E2-4F57-B2BF-6AB12EEB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77015-720D-46D5-BB48-9BAA57ED0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1D6A10-ED1F-4EE9-86EA-654C69C4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33BC74-5CE6-414E-A5E4-04BE08F1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213BD8-5080-49DC-B2CD-E4303E0B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B3DC68-44F2-4E5D-816B-D718B021C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4711-42D8-4B2C-9891-00D02DA6F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410A44-2B3F-409F-A290-C8ABB2073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B8E2F-175A-49DB-A742-AD72B7BFF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B20A0-F313-4C4B-AC01-6AE844570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D56C1F-A235-4BE2-9B4C-0BEC11B0A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DF228E-B8F2-4950-86EE-7E83CAAF1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EEA080-E8CA-42D9-92C8-2975EF67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B4CAAF6-6F7A-4934-AEE4-2DD689D23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686CEA-D0FF-4A45-A306-A26C08031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84E11B1-285A-4CE9-90AC-DE481B55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5C8B29-F53E-48A4-94C1-DDE323C5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20BB-3D69-4AE8-BB90-4CC74D92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7A1413-AEC5-4457-BA0E-F165E62E3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9967E2-C7A3-4907-A262-11ED8DAD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563411-AA92-495D-A1C7-B09E141B8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239C258-5653-4B70-A5D2-BFE2CDB26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1D7F3FD-013A-43C1-B3D4-1E7C1A4F8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BE433A-B8E0-4709-AC9D-BC9587FAD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4F814-D2A5-4C1E-A61B-DD4D6E450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3298FA-C31D-4FE6-902B-634217143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F60978-8A5F-41E2-8319-78D735FE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44CE28-F53D-43E4-9483-0595D2FB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40C-FF32-4176-A809-43A84F98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24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6250DC-8118-4CC3-8990-BE06E526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BA05AB-EDFF-4AA7-A924-4A70C135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50D5E-4D90-4902-93CB-E4E91C70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D154B-E174-4E72-8D04-D3FE3D092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12120"/>
            <a:ext cx="822924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650814-D199-41DE-BCD0-9B647570A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1212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29D195-7CE2-41DC-806A-47A9B109A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1212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7EF99-6A9E-483F-8D6C-B05CD17B1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CDD8AF-2DA5-43ED-B578-A6A182129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C44E0C6-B4C0-4251-B9E6-D515122C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88F1822-E864-4D0A-BFCB-97D29A685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EFB494-3BC3-4E8D-A214-03DF1F8D9E19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7997" sy="3799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dt" idx="28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ftr" idx="29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sldNum" idx="30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5AD810D0-1852-439E-B605-692518F81D88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444d26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6" name="PlaceHolder 6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444d26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9BF8804-AD4B-4767-BB62-3483BB4E51D4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f0a22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457200"/>
            <a:ext cx="8686440" cy="84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4e3b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304920" y="1600200"/>
            <a:ext cx="419076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4648320" y="1600200"/>
            <a:ext cx="4343040" cy="472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Образец текста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0a22e"/>
              </a:buClr>
              <a:buSzPct val="70000"/>
              <a:buFont typeface="Wingdings 2" charset="2"/>
              <a:buChar char=""/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торой уровень</a:t>
            </a:r>
            <a:endParaRPr b="0" lang="ru-RU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"/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Третий уровень</a:t>
            </a:r>
            <a:endParaRPr b="0" lang="ru-RU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70000"/>
              <a:buFont typeface="Wingdings 2" charset="2"/>
              <a:buChar char="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Четвер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f0a22e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4e3b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3124080" y="76320"/>
            <a:ext cx="33523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8229600" y="6477120"/>
            <a:ext cx="761760" cy="24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d38e28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A195497-1C86-4BDF-B3B6-E20B85701E4C}" type="slidenum">
              <a:rPr b="0" lang="ru-RU" sz="1200" spc="-1" strike="noStrike">
                <a:solidFill>
                  <a:srgbClr val="d38e28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8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solidFill>
            <a:srgbClr val="ffffff"/>
          </a:solidFill>
          <a:ln>
            <a:noFill/>
          </a:ln>
        </p:spPr>
        <p:style>
          <a:lnRef idx="2">
            <a:schemeClr val="accent1"/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 useBgFill="1">
        <p:nvSpPr>
          <p:cNvPr id="134" name="Скругленный прямоугольник 7"/>
          <p:cNvSpPr/>
          <p:nvPr/>
        </p:nvSpPr>
        <p:spPr>
          <a:xfrm>
            <a:off x="64080" y="69840"/>
            <a:ext cx="9012960" cy="6693120"/>
          </a:xfrm>
          <a:prstGeom prst="roundRect">
            <a:avLst>
              <a:gd name="adj" fmla="val 4929"/>
            </a:avLst>
          </a:prstGeom>
          <a:ln cap="sq" w="6350">
            <a:solidFill>
              <a:srgbClr val="000000">
                <a:alpha val="100000"/>
              </a:srgbClr>
            </a:solidFill>
            <a:round/>
          </a:ln>
          <a:effectLst>
            <a:outerShdw algn="t" blurRad="38160" dir="5400000" dist="25560" rotWithShape="0">
              <a:srgbClr val="000000">
                <a:alpha val="50000"/>
              </a:srgbClr>
            </a:outerShdw>
          </a:effectLst>
        </p:spPr>
        <p:style>
          <a:lnRef idx="3">
            <a:schemeClr val="lt1"/>
          </a:lnRef>
          <a:fillRef idx="1001">
            <a:schemeClr val="l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Perpetua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4680"/>
            <a:ext cx="77720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" strike="noStrike">
                <a:solidFill>
                  <a:srgbClr val="696464"/>
                </a:solidFill>
                <a:latin typeface="Franklin Gothic Book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6172200" y="6191280"/>
            <a:ext cx="247608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696464"/>
                </a:solidFill>
                <a:latin typeface="Perpet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400" spc="-1" strike="noStrike">
                <a:solidFill>
                  <a:srgbClr val="696464"/>
                </a:solidFill>
                <a:latin typeface="Perpetu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914400" y="6172200"/>
            <a:ext cx="3962160" cy="45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146160" y="6210360"/>
            <a:ext cx="456840" cy="456840"/>
          </a:xfrm>
          <a:prstGeom prst="rect">
            <a:avLst/>
          </a:prstGeom>
          <a:solidFill>
            <a:schemeClr val="accent1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B5FA210-4FF4-441F-B7B8-E3AF0D35A4F7}" type="slidenum">
              <a:rPr b="0" lang="ru-RU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81"/>
              </a:spcBef>
              <a:buClr>
                <a:srgbClr val="d3481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Perpetu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8640" indent="-228600">
              <a:lnSpc>
                <a:spcPct val="100000"/>
              </a:lnSpc>
              <a:spcBef>
                <a:spcPts val="371"/>
              </a:spcBef>
              <a:buClr>
                <a:srgbClr val="9b2d1f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000000"/>
                </a:solidFill>
                <a:latin typeface="Perpetu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Perpetua"/>
            </a:endParaRPr>
          </a:p>
          <a:p>
            <a:pPr lvl="2" marL="822960" indent="-228600">
              <a:lnSpc>
                <a:spcPct val="100000"/>
              </a:lnSpc>
              <a:spcBef>
                <a:spcPts val="371"/>
              </a:spcBef>
              <a:buClr>
                <a:srgbClr val="e5b1ab"/>
              </a:buClr>
              <a:buSzPct val="85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3" marL="109728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SzPct val="80000"/>
              <a:buFont typeface="Wingdings 2" charset="2"/>
              <a:buChar char="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lnSpc>
                <a:spcPct val="100000"/>
              </a:lnSpc>
              <a:spcBef>
                <a:spcPts val="371"/>
              </a:spcBef>
              <a:buClr>
                <a:srgbClr val="a28e6a"/>
              </a:buClr>
              <a:buFont typeface="StarSymbol"/>
              <a:buChar char="o"/>
            </a:pPr>
            <a:r>
              <a:rPr b="0" lang="ru-RU" sz="2000" spc="-1" strike="noStrike">
                <a:solidFill>
                  <a:srgbClr val="000000"/>
                </a:solidFill>
                <a:latin typeface="Perpetu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4b4b4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Образец заголовка</a:t>
            </a:r>
            <a:endParaRPr b="0" lang="ru-RU" sz="4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0" lang="ru-RU" sz="2800" spc="-1" strike="noStrike">
                <a:solidFill>
                  <a:srgbClr val="000000"/>
                </a:solidFill>
                <a:latin typeface="Book Antiqua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lvl="1" marL="868680" indent="-28332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80000"/>
              <a:buFont typeface="Wingdings 2" charset="2"/>
              <a:buChar char=""/>
            </a:pPr>
            <a:r>
              <a:rPr b="0" lang="ru-RU" sz="2400" spc="-1" strike="noStrike">
                <a:solidFill>
                  <a:srgbClr val="000000"/>
                </a:solidFill>
                <a:latin typeface="Book Antiqu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Book Antiqua"/>
            </a:endParaRPr>
          </a:p>
          <a:p>
            <a:pPr lvl="2" marL="1134000" indent="-228600">
              <a:lnSpc>
                <a:spcPct val="100000"/>
              </a:lnSpc>
              <a:spcBef>
                <a:spcPts val="439"/>
              </a:spcBef>
              <a:buClr>
                <a:srgbClr val="000000"/>
              </a:buClr>
              <a:buSzPct val="95000"/>
              <a:buFont typeface="Wingdings" charset="2"/>
              <a:buChar char=""/>
            </a:pPr>
            <a:r>
              <a:rPr b="0" lang="ru-RU" sz="2200" spc="-1" strike="noStrike">
                <a:solidFill>
                  <a:srgbClr val="000000"/>
                </a:solidFill>
                <a:latin typeface="Book Antiqua"/>
              </a:rPr>
              <a:t>Третий уровень</a:t>
            </a:r>
            <a:endParaRPr b="0" lang="ru-RU" sz="2200" spc="-1" strike="noStrike">
              <a:solidFill>
                <a:srgbClr val="000000"/>
              </a:solidFill>
              <a:latin typeface="Book Antiqua"/>
            </a:endParaRPr>
          </a:p>
          <a:p>
            <a:pPr lvl="3" marL="1353240" indent="-182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 3" charset="2"/>
              <a:buChar char=""/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Book Antiqua"/>
            </a:endParaRPr>
          </a:p>
          <a:p>
            <a:pPr lvl="4" marL="1545480" indent="-182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Wingdings 2" charset="2"/>
              <a:buChar char=""/>
            </a:pPr>
            <a:r>
              <a:rPr b="0" lang="ru-RU" sz="2000" spc="-1" strike="noStrike">
                <a:solidFill>
                  <a:srgbClr val="000000"/>
                </a:solidFill>
                <a:latin typeface="Book Antiqua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45720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3124080" y="641664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7924680" y="6416640"/>
            <a:ext cx="7617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F645B9D-3140-4480-BC77-0DCE50B14168}" type="slidenum">
              <a:rPr b="0" lang="ru-RU" sz="12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dt" idx="16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7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8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A4BDE31-FC42-4EF9-95A4-9D19F3CA4738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body"/>
          </p:nvPr>
        </p:nvSpPr>
        <p:spPr>
          <a:xfrm>
            <a:off x="45720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 type="body"/>
          </p:nvPr>
        </p:nvSpPr>
        <p:spPr>
          <a:xfrm>
            <a:off x="4648320" y="1523880"/>
            <a:ext cx="405972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44d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fefac9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ffffff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ffffff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ffffff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ffffff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ffffff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ffffff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fefac9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20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fefac9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B66F6EF-1AD3-4490-8C73-7C853B41A1C5}" type="slidenum">
              <a:rPr b="0" lang="ru-RU" sz="1600" spc="-1" strike="noStrike">
                <a:solidFill>
                  <a:srgbClr val="fefac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21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5000">
              <a:srgbClr val="000000"/>
            </a:gs>
            <a:gs pos="100000">
              <a:srgbClr val="5b77a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Прямоугольник 6"/>
          <p:cNvSpPr/>
          <p:nvPr/>
        </p:nvSpPr>
        <p:spPr>
          <a:xfrm>
            <a:off x="0" y="0"/>
            <a:ext cx="365400" cy="6854040"/>
          </a:xfrm>
          <a:prstGeom prst="rect">
            <a:avLst/>
          </a:prstGeom>
          <a:solidFill>
            <a:srgbClr val="ffffff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1" name="Прямоугольник 7"/>
          <p:cNvSpPr/>
          <p:nvPr/>
        </p:nvSpPr>
        <p:spPr>
          <a:xfrm>
            <a:off x="255240" y="5047560"/>
            <a:ext cx="72720" cy="169128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2" name="Прямоугольник 8"/>
          <p:cNvSpPr/>
          <p:nvPr/>
        </p:nvSpPr>
        <p:spPr>
          <a:xfrm>
            <a:off x="255240" y="4796640"/>
            <a:ext cx="72720" cy="228240"/>
          </a:xfrm>
          <a:prstGeom prst="rect">
            <a:avLst/>
          </a:prstGeom>
          <a:solidFill>
            <a:schemeClr val="accent3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3" name="Прямоугольник 9"/>
          <p:cNvSpPr/>
          <p:nvPr/>
        </p:nvSpPr>
        <p:spPr>
          <a:xfrm>
            <a:off x="255240" y="4637520"/>
            <a:ext cx="72720" cy="136800"/>
          </a:xfrm>
          <a:prstGeom prst="rect">
            <a:avLst/>
          </a:prstGeom>
          <a:solidFill>
            <a:schemeClr val="bg2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4" name="Прямоугольник 10"/>
          <p:cNvSpPr/>
          <p:nvPr/>
        </p:nvSpPr>
        <p:spPr>
          <a:xfrm>
            <a:off x="255240" y="4542480"/>
            <a:ext cx="72720" cy="72720"/>
          </a:xfrm>
          <a:prstGeom prst="rect">
            <a:avLst/>
          </a:prstGeom>
          <a:solidFill>
            <a:schemeClr val="accent2">
              <a:alpha val="100000"/>
            </a:schemeClr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28080" bIns="2808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5" name="Прямоугольник 11"/>
          <p:cNvSpPr/>
          <p:nvPr/>
        </p:nvSpPr>
        <p:spPr>
          <a:xfrm>
            <a:off x="309600" y="680400"/>
            <a:ext cx="4536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6" name="Прямоугольник 14"/>
          <p:cNvSpPr/>
          <p:nvPr/>
        </p:nvSpPr>
        <p:spPr>
          <a:xfrm>
            <a:off x="268920" y="680400"/>
            <a:ext cx="2700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7" name="Прямоугольник 15"/>
          <p:cNvSpPr/>
          <p:nvPr/>
        </p:nvSpPr>
        <p:spPr>
          <a:xfrm>
            <a:off x="25020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8" name="Прямоугольник 16"/>
          <p:cNvSpPr/>
          <p:nvPr/>
        </p:nvSpPr>
        <p:spPr>
          <a:xfrm>
            <a:off x="221760" y="680400"/>
            <a:ext cx="8640" cy="365400"/>
          </a:xfrm>
          <a:prstGeom prst="rect">
            <a:avLst/>
          </a:prstGeom>
          <a:solidFill>
            <a:srgbClr val="000000"/>
          </a:solidFill>
          <a:ln w="50800">
            <a:noFill/>
          </a:ln>
          <a:effectLst>
            <a:glow rad="63360">
              <a:srgbClr val="ffffff">
                <a:alpha val="45000"/>
              </a:srgbClr>
            </a:glo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orbe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400" y="511920"/>
            <a:ext cx="7772040" cy="91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000" spc="-100" strike="noStrike">
                <a:solidFill>
                  <a:srgbClr val="d6ecff"/>
                </a:solidFill>
                <a:latin typeface="Consolas"/>
              </a:rPr>
              <a:t>Образец заголовка</a:t>
            </a:r>
            <a:endParaRPr b="0" lang="ru-RU" sz="4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178344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11480" indent="-343080">
              <a:lnSpc>
                <a:spcPct val="10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Образец текста</a:t>
            </a:r>
            <a:endParaRPr b="0" lang="ru-RU" sz="3000" spc="-1" strike="noStrike">
              <a:solidFill>
                <a:srgbClr val="ffffff"/>
              </a:solidFill>
              <a:latin typeface="Corbel"/>
            </a:endParaRPr>
          </a:p>
          <a:p>
            <a:pPr lvl="1" marL="740520" indent="-285840">
              <a:lnSpc>
                <a:spcPct val="100000"/>
              </a:lnSpc>
              <a:spcBef>
                <a:spcPts val="519"/>
              </a:spcBef>
              <a:buClr>
                <a:srgbClr val="ea157a"/>
              </a:buClr>
              <a:buSzPct val="90000"/>
              <a:buFont typeface="Wingdings" charset="2"/>
              <a:buChar char=""/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Второй уровень</a:t>
            </a:r>
            <a:endParaRPr b="0" lang="ru-RU" sz="2600" spc="-1" strike="noStrike">
              <a:solidFill>
                <a:srgbClr val="ffffff"/>
              </a:solidFill>
              <a:latin typeface="Corbel"/>
            </a:endParaRPr>
          </a:p>
          <a:p>
            <a:pPr lvl="2" marL="996840" indent="-228600">
              <a:lnSpc>
                <a:spcPct val="100000"/>
              </a:lnSpc>
              <a:spcBef>
                <a:spcPts val="479"/>
              </a:spcBef>
              <a:buClr>
                <a:srgbClr val="ea157a"/>
              </a:buClr>
              <a:buFont typeface="Wingdings 2" charset="2"/>
              <a:buChar char=""/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Третий уровень</a:t>
            </a:r>
            <a:endParaRPr b="0" lang="ru-RU" sz="2400" spc="-1" strike="noStrike">
              <a:solidFill>
                <a:srgbClr val="ffffff"/>
              </a:solidFill>
              <a:latin typeface="Corbel"/>
            </a:endParaRPr>
          </a:p>
          <a:p>
            <a:pPr lvl="3" marL="1261800" indent="-228600">
              <a:lnSpc>
                <a:spcPct val="100000"/>
              </a:lnSpc>
              <a:spcBef>
                <a:spcPts val="439"/>
              </a:spcBef>
              <a:buClr>
                <a:srgbClr val="feb80a"/>
              </a:buClr>
              <a:buFont typeface="Wingdings 3" charset="2"/>
              <a:buChar char=""/>
            </a:pPr>
            <a:r>
              <a:rPr b="0" lang="ru-RU" sz="2200" spc="-1" strike="noStrike">
                <a:solidFill>
                  <a:srgbClr val="ffffff"/>
                </a:solidFill>
                <a:latin typeface="Corbel"/>
              </a:rPr>
              <a:t>Четвертый уровень</a:t>
            </a:r>
            <a:endParaRPr b="0" lang="ru-RU" sz="2200" spc="-1" strike="noStrike">
              <a:solidFill>
                <a:srgbClr val="ffffff"/>
              </a:solidFill>
              <a:latin typeface="Corbel"/>
            </a:endParaRPr>
          </a:p>
          <a:p>
            <a:pPr lvl="4" marL="1481400" indent="-210240">
              <a:lnSpc>
                <a:spcPct val="100000"/>
              </a:lnSpc>
              <a:spcBef>
                <a:spcPts val="400"/>
              </a:spcBef>
              <a:buClr>
                <a:srgbClr val="feb80a"/>
              </a:buClr>
              <a:buFont typeface="Wingdings 2" charset="2"/>
              <a:buChar char=""/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Пятый уровень</a:t>
            </a:r>
            <a:endParaRPr b="0" lang="ru-RU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100" spc="-1" strike="noStrike">
                <a:solidFill>
                  <a:srgbClr val="d6ecff"/>
                </a:solidFill>
                <a:latin typeface="Corbel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36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6840" cy="36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2D9DBB1-4777-41B5-A121-2B50DB8B785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57997" sy="37990" algn="tl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240" cy="45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ец текста</a:t>
            </a: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40080" indent="-27432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2400" spc="-1" strike="noStrike">
                <a:solidFill>
                  <a:srgbClr val="444d26"/>
                </a:solidFill>
                <a:latin typeface="Constantia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1005840" indent="-228600">
              <a:lnSpc>
                <a:spcPct val="100000"/>
              </a:lnSpc>
              <a:spcBef>
                <a:spcPts val="300"/>
              </a:spcBef>
              <a:buClr>
                <a:srgbClr val="b37934"/>
              </a:buClr>
              <a:buSzPct val="85000"/>
              <a:buFont typeface="Wingdings 2" charset="2"/>
              <a:buChar char=""/>
            </a:pPr>
            <a:r>
              <a:rPr b="0" lang="ru-RU" sz="2100" spc="-1" strike="noStrike">
                <a:solidFill>
                  <a:srgbClr val="000000"/>
                </a:solidFill>
                <a:latin typeface="Constantia"/>
              </a:rPr>
              <a:t>Третий уровень</a:t>
            </a:r>
            <a:endParaRPr b="0" lang="ru-RU" sz="2100" spc="-1" strike="noStrike">
              <a:solidFill>
                <a:srgbClr val="000000"/>
              </a:solidFill>
              <a:latin typeface="Constantia"/>
            </a:endParaRPr>
          </a:p>
          <a:p>
            <a:pPr lvl="3" marL="1280160" indent="-228600">
              <a:lnSpc>
                <a:spcPct val="100000"/>
              </a:lnSpc>
              <a:spcBef>
                <a:spcPts val="30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900" spc="-1" strike="noStrike">
                <a:solidFill>
                  <a:srgbClr val="000000"/>
                </a:solidFill>
                <a:latin typeface="Constantia"/>
              </a:rPr>
              <a:t>Четвертый уровень</a:t>
            </a:r>
            <a:endParaRPr b="0" lang="ru-RU" sz="1900" spc="-1" strike="noStrike">
              <a:solidFill>
                <a:srgbClr val="000000"/>
              </a:solidFill>
              <a:latin typeface="Constantia"/>
            </a:endParaRPr>
          </a:p>
          <a:p>
            <a:pPr lvl="4" marL="1554480" indent="-228600">
              <a:lnSpc>
                <a:spcPct val="100000"/>
              </a:lnSpc>
              <a:spcBef>
                <a:spcPts val="340"/>
              </a:spcBef>
              <a:buClr>
                <a:srgbClr val="d6903e"/>
              </a:buClr>
              <a:buSzPct val="85000"/>
              <a:buFont typeface="Wingdings 2" charset="2"/>
              <a:buChar char=""/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dt" idx="25"/>
          </p:nvPr>
        </p:nvSpPr>
        <p:spPr>
          <a:xfrm>
            <a:off x="5791320" y="6203520"/>
            <a:ext cx="259056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444d26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sldNum" idx="26"/>
          </p:nvPr>
        </p:nvSpPr>
        <p:spPr>
          <a:xfrm>
            <a:off x="8410680" y="6181560"/>
            <a:ext cx="609120" cy="45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600" spc="-1" strike="noStrike">
                <a:solidFill>
                  <a:srgbClr val="444d26"/>
                </a:solidFill>
                <a:latin typeface="Constant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AC7828F-7ABC-4FFA-A933-860733AA6E83}" type="slidenum">
              <a:rPr b="0" lang="ru-RU" sz="1600" spc="-1" strike="noStrike">
                <a:solidFill>
                  <a:srgbClr val="444d26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7"/>
          </p:nvPr>
        </p:nvSpPr>
        <p:spPr>
          <a:xfrm>
            <a:off x="2133720" y="6203520"/>
            <a:ext cx="3580920" cy="38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4200" spc="-100" strike="noStrike">
                <a:solidFill>
                  <a:srgbClr val="f9f9f9"/>
                </a:solidFill>
                <a:latin typeface="Constantia"/>
              </a:rPr>
              <a:t>Образец заголовка</a:t>
            </a:r>
            <a:endParaRPr b="0" lang="ru-RU" sz="4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audio" Target="../media/audio1.wav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" Target="slide3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audio" Target="../media/audio1.wav"/><Relationship Id="rId9" Type="http://schemas.openxmlformats.org/officeDocument/2006/relationships/slideLayout" Target="../slideLayouts/slideLayout6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97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9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1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11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9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9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audio1.wav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audio1.wav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680" y="188640"/>
            <a:ext cx="8686440" cy="46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000000"/>
                </a:solidFill>
                <a:latin typeface="Arial Black"/>
              </a:rPr>
              <a:t>ОБЖ 9 класс</a:t>
            </a:r>
            <a:br>
              <a:rPr sz="3600"/>
            </a:br>
            <a:br>
              <a:rPr sz="3600"/>
            </a:br>
            <a:r>
              <a:rPr b="1" lang="ru-RU" sz="3600" spc="-1" strike="noStrike" cap="all">
                <a:solidFill>
                  <a:srgbClr val="ff0000"/>
                </a:solidFill>
                <a:latin typeface="Arial Black"/>
              </a:rPr>
              <a:t>Тема: </a:t>
            </a:r>
            <a:br>
              <a:rPr sz="3600"/>
            </a:br>
            <a:r>
              <a:rPr b="1" lang="ru-RU" sz="3600" spc="-1" strike="noStrike" cap="all">
                <a:solidFill>
                  <a:srgbClr val="ff0000"/>
                </a:solidFill>
                <a:latin typeface="Arial Black"/>
              </a:rPr>
              <a:t>«Единая государственная система предупреждения и ликвидации чрезвычайных ситуаций.</a:t>
            </a:r>
            <a:br>
              <a:rPr sz="3600"/>
            </a:br>
            <a:r>
              <a:rPr b="1" lang="ru-RU" sz="3600" spc="-1" strike="noStrike" cap="all">
                <a:solidFill>
                  <a:srgbClr val="ff0000"/>
                </a:solidFill>
                <a:latin typeface="Arial Black"/>
              </a:rPr>
              <a:t>(рсчс)»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0" name="Прямоугольник 2"/>
          <p:cNvSpPr/>
          <p:nvPr/>
        </p:nvSpPr>
        <p:spPr>
          <a:xfrm>
            <a:off x="2267640" y="4941000"/>
            <a:ext cx="457164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723960"/>
                <a:tab algn="l" pos="1447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асько Александр Васильеви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723960"/>
                <a:tab algn="l" pos="1447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еподаватель-организатор ОБ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723960"/>
                <a:tab algn="l" pos="1447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ГБОУ СОШ №-6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723960"/>
                <a:tab algn="l" pos="1447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римор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723960"/>
                <a:tab algn="l" pos="144792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Санкт-Петербур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Picture 10" descr=""/>
          <p:cNvPicPr/>
          <p:nvPr/>
        </p:nvPicPr>
        <p:blipFill>
          <a:blip r:embed="rId1"/>
          <a:stretch/>
        </p:blipFill>
        <p:spPr>
          <a:xfrm>
            <a:off x="446760" y="2813760"/>
            <a:ext cx="2214360" cy="175788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57" name="Picture 11" descr=""/>
          <p:cNvPicPr/>
          <p:nvPr/>
        </p:nvPicPr>
        <p:blipFill>
          <a:blip r:embed="rId2"/>
          <a:stretch/>
        </p:blipFill>
        <p:spPr>
          <a:xfrm>
            <a:off x="3445200" y="2833920"/>
            <a:ext cx="2221200" cy="17377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pic>
        <p:nvPicPr>
          <p:cNvPr id="458" name="Picture 12" descr=""/>
          <p:cNvPicPr/>
          <p:nvPr/>
        </p:nvPicPr>
        <p:blipFill>
          <a:blip r:embed="rId3"/>
          <a:stretch/>
        </p:blipFill>
        <p:spPr>
          <a:xfrm>
            <a:off x="6370200" y="2800440"/>
            <a:ext cx="2361960" cy="17712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459" name="PlaceHolder 1"/>
          <p:cNvSpPr>
            <a:spLocks noGrp="1"/>
          </p:cNvSpPr>
          <p:nvPr>
            <p:ph type="sldNum" idx="34"/>
          </p:nvPr>
        </p:nvSpPr>
        <p:spPr>
          <a:xfrm>
            <a:off x="6553080" y="63244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66C1D3F-2023-48BF-9A2F-F7A9DCF51CAB}" type="slidenum">
              <a:rPr b="0" lang="ru-RU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3"/>
          <p:cNvSpPr/>
          <p:nvPr/>
        </p:nvSpPr>
        <p:spPr>
          <a:xfrm>
            <a:off x="212760" y="51840"/>
            <a:ext cx="877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i="1" lang="ru-RU" sz="1600" spc="-1" strike="noStrike">
                <a:solidFill>
                  <a:srgbClr val="ff0000"/>
                </a:solidFill>
                <a:latin typeface="Book Antiqua"/>
              </a:rPr>
              <a:t>ФЗ от 21.12.1994 г. № 68 </a:t>
            </a:r>
            <a:r>
              <a:rPr b="1" i="1" lang="ru-RU" sz="1600" spc="-1" strike="noStrike">
                <a:solidFill>
                  <a:srgbClr val="000000"/>
                </a:solidFill>
                <a:latin typeface="Book Antiqua"/>
              </a:rPr>
              <a:t>«О защите населения и территорий от чрезвычайных ситуаций природного и техногенного характера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4"/>
          <p:cNvSpPr/>
          <p:nvPr/>
        </p:nvSpPr>
        <p:spPr>
          <a:xfrm>
            <a:off x="212760" y="636480"/>
            <a:ext cx="86864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0000ff"/>
                </a:solidFill>
                <a:latin typeface="Book Antiqua"/>
              </a:rPr>
              <a:t>Граждане Российской Федерации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Book Antiqua"/>
              </a:rPr>
              <a:t>обяза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кругленный прямоугольник 5"/>
          <p:cNvSpPr/>
          <p:nvPr/>
        </p:nvSpPr>
        <p:spPr>
          <a:xfrm>
            <a:off x="254160" y="1124640"/>
            <a:ext cx="8686440" cy="17704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Book Antiqua"/>
              </a:rPr>
              <a:t>соблюдать законы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и иные нормативные правовые акты РФ, законы и иные нормативные правовые акты субъектов РФ в области защиты населения и территорий от Ч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кругленный прямоугольник 6"/>
          <p:cNvSpPr/>
          <p:nvPr/>
        </p:nvSpPr>
        <p:spPr>
          <a:xfrm>
            <a:off x="0" y="4419720"/>
            <a:ext cx="9143640" cy="2321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Book Antiqua"/>
              </a:rPr>
              <a:t>соблюдать меры безопасности 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в быту и повседневной трудовой деятельности, </a:t>
            </a:r>
            <a:r>
              <a:rPr b="1" lang="ru-RU" sz="2800" spc="-1" strike="noStrike">
                <a:solidFill>
                  <a:srgbClr val="ff0000"/>
                </a:solidFill>
                <a:latin typeface="Book Antiqua"/>
              </a:rPr>
              <a:t>не допускать</a:t>
            </a:r>
            <a:r>
              <a:rPr b="1" lang="ru-RU" sz="2800" spc="-1" strike="noStrike">
                <a:solidFill>
                  <a:srgbClr val="000000"/>
                </a:solidFill>
                <a:latin typeface="Book Antiqua"/>
              </a:rPr>
              <a:t> нарушений производственной и технологической дисциплины, требований экологической безопасности, которые могут привести к возникновению Ч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  <p:sndAc>
      <p:stSnd>
        <p:snd r:embed="rId4" name="audio1.wav"/>
      </p:stSnd>
    </p:sndAc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7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Прямоугольник 3"/>
          <p:cNvSpPr/>
          <p:nvPr/>
        </p:nvSpPr>
        <p:spPr>
          <a:xfrm>
            <a:off x="3200400" y="152280"/>
            <a:ext cx="5790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i="1" lang="ru-RU" sz="1200" spc="-1" strike="noStrike">
                <a:solidFill>
                  <a:srgbClr val="ff0000"/>
                </a:solidFill>
                <a:latin typeface="Book Antiqua"/>
              </a:rPr>
              <a:t>ФЗ от 21.12.1994 г. № 68 </a:t>
            </a:r>
            <a:r>
              <a:rPr b="1" i="1" lang="ru-RU" sz="1200" spc="-1" strike="noStrike">
                <a:solidFill>
                  <a:srgbClr val="000000"/>
                </a:solidFill>
                <a:latin typeface="Book Antiqua"/>
              </a:rPr>
              <a:t>«О защите населения и территорий от чрезвычайных ситуаций природного и техногенного характер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Прямоугольник 4"/>
          <p:cNvSpPr/>
          <p:nvPr/>
        </p:nvSpPr>
        <p:spPr>
          <a:xfrm>
            <a:off x="212760" y="636480"/>
            <a:ext cx="868644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0000ff"/>
                </a:solidFill>
                <a:latin typeface="Book Antiqua"/>
              </a:rPr>
              <a:t>Граждане Российской Федерации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Book Antiqua"/>
              </a:rPr>
              <a:t>обязан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Скругленный прямоугольник 7"/>
          <p:cNvSpPr/>
          <p:nvPr/>
        </p:nvSpPr>
        <p:spPr>
          <a:xfrm>
            <a:off x="212760" y="1340640"/>
            <a:ext cx="8778600" cy="5328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Изуч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основные способы защиты населения и территорий от ЧС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риемы оказания первой помощи пострадавшим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равила охраны жизни людей на водных объектах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правила пользования коллективными и индивидуальными средствами защи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постоянно совершенствовать </a:t>
            </a:r>
            <a:r>
              <a:rPr b="1" lang="ru-RU" sz="3200" spc="-1" strike="noStrike">
                <a:solidFill>
                  <a:srgbClr val="000000"/>
                </a:solidFill>
                <a:latin typeface="Book Antiqua"/>
              </a:rPr>
              <a:t>свои знания и практические навыки в указанной обл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Num" idx="35"/>
          </p:nvPr>
        </p:nvSpPr>
        <p:spPr>
          <a:xfrm>
            <a:off x="6553080" y="6324480"/>
            <a:ext cx="2133360" cy="475920"/>
          </a:xfrm>
          <a:prstGeom prst="rect">
            <a:avLst/>
          </a:prstGeom>
          <a:noFill/>
          <a:ln w="0">
            <a:noFill/>
          </a:ln>
        </p:spPr>
        <p:txBody>
          <a:bodyPr lIns="0" rIns="0" tIns="45000" bIns="4500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4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09018C6-9BF9-4A80-A6F5-2B28BA019849}" type="slidenum">
              <a:rPr b="0" lang="ru-RU" sz="1400" spc="-1" strike="noStrike">
                <a:solidFill>
                  <a:srgbClr val="000000"/>
                </a:solidFill>
                <a:latin typeface="Book Antiqu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9000"/>
          </a:bodyPr>
          <a:p>
            <a:pPr indent="0" algn="ctr">
              <a:lnSpc>
                <a:spcPct val="115000"/>
              </a:lnSpc>
              <a:spcAft>
                <a:spcPts val="1199"/>
              </a:spcAft>
              <a:buNone/>
            </a:pPr>
            <a:r>
              <a:rPr b="1" lang="ru-RU" sz="4000" spc="-1" strike="noStrike">
                <a:solidFill>
                  <a:srgbClr val="333333"/>
                </a:solidFill>
                <a:latin typeface="Tahoma"/>
                <a:ea typeface="Calibri"/>
              </a:rPr>
              <a:t>Постоянно действующие органы управления РСЧС. </a:t>
            </a:r>
            <a:br>
              <a:rPr sz="2800"/>
            </a:br>
            <a:endParaRPr b="0" lang="ru-RU" sz="40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51640" y="1600200"/>
            <a:ext cx="8712720" cy="470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Book Antiqua"/>
              </a:rPr>
              <a:t>Рабочими органами комиссий по чрезвычайным ситуациям являются соответствующие постоянно действующие органы управления РСЧС, специально уполномоченные на решение задач в области защиты населения и территорий от чрезвычайных ситуаций (органы управления ГОЧС). </a:t>
            </a:r>
            <a:endParaRPr b="0" lang="ru-RU" sz="36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60000"/>
          </a:bodyPr>
          <a:p>
            <a:pPr indent="0" algn="ctr">
              <a:lnSpc>
                <a:spcPct val="115000"/>
              </a:lnSpc>
              <a:spcAft>
                <a:spcPts val="1199"/>
              </a:spcAft>
              <a:buNone/>
            </a:pPr>
            <a:br>
              <a:rPr sz="3100"/>
            </a:br>
            <a:r>
              <a:rPr b="1" lang="ru-RU" sz="3100" spc="-1" strike="noStrike">
                <a:solidFill>
                  <a:srgbClr val="333333"/>
                </a:solidFill>
                <a:latin typeface="Tahoma"/>
                <a:ea typeface="Calibri"/>
              </a:rPr>
              <a:t>Постоянно действующие органы управления РСЧС </a:t>
            </a:r>
            <a:br>
              <a:rPr sz="4400"/>
            </a:br>
            <a:endParaRPr b="0" lang="ru-RU" sz="3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71" name="Содержимое 3" descr="http://culture.mchs.gov.ru/upload/learning/img/Les1/1dfgh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Прямоугольник 4"/>
          <p:cNvSpPr/>
          <p:nvPr/>
        </p:nvSpPr>
        <p:spPr>
          <a:xfrm>
            <a:off x="179640" y="1859400"/>
            <a:ext cx="8784720" cy="5208840"/>
          </a:xfrm>
          <a:prstGeom prst="rect">
            <a:avLst/>
          </a:prstGeom>
          <a:solidFill>
            <a:srgbClr val="ffe6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514440" indent="-514440" algn="just">
              <a:lnSpc>
                <a:spcPct val="100000"/>
              </a:lnSpc>
              <a:buSzPct val="100058"/>
              <a:buBlip>
                <a:blip r:embed="rId1"/>
              </a:buBlip>
            </a:pPr>
            <a:r>
              <a:rPr b="1" lang="ru-RU" sz="2800" spc="-1" strike="noStrike">
                <a:solidFill>
                  <a:srgbClr val="000066"/>
                </a:solidFill>
                <a:latin typeface="Constantia"/>
              </a:rPr>
              <a:t>Нормальная - производственная, промышленная , Радиационная ,  Химическая , Биологическая , сейсмическая, гидрометеорологическая обстановка , отсутствие эпидемий , эпизоотий, эпифитот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SzPct val="100058"/>
              <a:buBlip>
                <a:blip r:embed="rId2"/>
              </a:buBlip>
            </a:pPr>
            <a:r>
              <a:rPr b="1" lang="ru-RU" sz="2800" spc="-1" strike="noStrike">
                <a:solidFill>
                  <a:srgbClr val="000066"/>
                </a:solidFill>
                <a:latin typeface="Constantia"/>
              </a:rPr>
              <a:t>Ухудшение обстановки , получение прогноза  о возможности возникновения Ч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SzPct val="100058"/>
              <a:buBlip>
                <a:blip r:embed="rId3"/>
              </a:buBlip>
            </a:pPr>
            <a:r>
              <a:rPr b="1" lang="ru-RU" sz="2800" spc="-1" strike="noStrike">
                <a:solidFill>
                  <a:srgbClr val="000066"/>
                </a:solidFill>
                <a:latin typeface="Constantia"/>
              </a:rPr>
              <a:t>Возникновение Ч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Двойная стрелка влево/вправо 5"/>
          <p:cNvSpPr/>
          <p:nvPr/>
        </p:nvSpPr>
        <p:spPr>
          <a:xfrm>
            <a:off x="0" y="0"/>
            <a:ext cx="9143640" cy="1700280"/>
          </a:xfrm>
          <a:prstGeom prst="leftRightArrow">
            <a:avLst>
              <a:gd name="adj1" fmla="val 50000"/>
              <a:gd name="adj2" fmla="val 50000"/>
            </a:avLst>
          </a:prstGeom>
          <a:solidFill>
            <a:schemeClr val="tx2">
              <a:lumMod val="75000"/>
            </a:schemeClr>
          </a:solidFill>
          <a:ln w="76200">
            <a:solidFill>
              <a:srgbClr val="00ffcc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4400" spc="-1" strike="noStrike" u="sng">
                <a:solidFill>
                  <a:srgbClr val="8e58b6"/>
                </a:solidFill>
                <a:uFillTx/>
                <a:latin typeface="Constantia"/>
                <a:hlinkClick r:id="rId4" action="ppaction://hlinksldjump"/>
              </a:rPr>
              <a:t>Режимы</a:t>
            </a:r>
            <a:r>
              <a:rPr b="1" lang="ru-RU" sz="4400" spc="-1" strike="noStrike" u="sng">
                <a:solidFill>
                  <a:srgbClr val="8e58b6"/>
                </a:solidFill>
                <a:uFillTx/>
                <a:latin typeface="Constantia"/>
                <a:hlinkClick r:id="rId5" action="ppaction://hlinksldjump"/>
              </a:rPr>
              <a:t> </a:t>
            </a:r>
            <a:r>
              <a:rPr b="1" lang="ru-RU" sz="2800" spc="-1" strike="noStrike" u="sng">
                <a:solidFill>
                  <a:srgbClr val="8e58b6"/>
                </a:solidFill>
                <a:uFillTx/>
                <a:latin typeface="Constantia"/>
                <a:hlinkClick r:id="rId6" action="ppaction://hlinksldjump"/>
              </a:rPr>
              <a:t>функционирования </a:t>
            </a:r>
            <a:r>
              <a:rPr b="1" lang="ru-RU" sz="2400" spc="-1" strike="noStrike" u="sng">
                <a:solidFill>
                  <a:srgbClr val="8e58b6"/>
                </a:solidFill>
                <a:uFillTx/>
                <a:latin typeface="Constantia"/>
                <a:hlinkClick r:id="rId7" action="ppaction://hlinksldjump"/>
              </a:rPr>
              <a:t> РСЧ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u"/>
    <p:sndAc>
      <p:stSnd>
        <p:snd r:embed="rId8" name="audio1.wav"/>
      </p:stSnd>
    </p:sndAc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5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85c2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/>
          </p:nvPr>
        </p:nvSpPr>
        <p:spPr>
          <a:xfrm>
            <a:off x="107640" y="116640"/>
            <a:ext cx="8928720" cy="6480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 u="sng">
                <a:solidFill>
                  <a:srgbClr val="8e58b6"/>
                </a:solidFill>
                <a:uFillTx/>
                <a:latin typeface="Constantia"/>
                <a:hlinkClick r:id="rId1" action="ppaction://hlinksldjump"/>
              </a:rPr>
              <a:t>Действия РСЧС  в режиме повседневной </a:t>
            </a:r>
            <a:r>
              <a:rPr b="1" lang="ru-RU" sz="3200" spc="-1" strike="noStrike" u="sng">
                <a:solidFill>
                  <a:srgbClr val="8e58b6"/>
                </a:solidFill>
                <a:uFillTx/>
                <a:latin typeface="Constantia"/>
                <a:hlinkClick r:id="rId2" action="ppaction://hlinksldjump"/>
              </a:rPr>
              <a:t>деятельности</a:t>
            </a: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: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540000" algn="just">
              <a:lnSpc>
                <a:spcPct val="100000"/>
              </a:lnSpc>
              <a:buSzPct val="100000"/>
              <a:buBlip>
                <a:blip r:embed="rId3"/>
              </a:buBlip>
              <a:tabLst>
                <a:tab algn="l" pos="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nstantia"/>
              </a:rPr>
              <a:t>Наблюдение за состоянием окружающей среды и обстановки на потенциально опасных объектах.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540000" algn="just">
              <a:lnSpc>
                <a:spcPct val="100000"/>
              </a:lnSpc>
              <a:buSzPct val="100000"/>
              <a:buBlip>
                <a:blip r:embed="rId4"/>
              </a:buBlip>
              <a:tabLst>
                <a:tab algn="l" pos="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nstantia"/>
              </a:rPr>
              <a:t>Планирование и выполнение мер по предупреждению ЧС и обеспечению защиты населения .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540000" algn="just">
              <a:lnSpc>
                <a:spcPct val="100000"/>
              </a:lnSpc>
              <a:buSzPct val="100000"/>
              <a:buBlip>
                <a:blip r:embed="rId5"/>
              </a:buBlip>
              <a:tabLst>
                <a:tab algn="l" pos="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nstantia"/>
              </a:rPr>
              <a:t>Подготовка органов управления .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540000" algn="just">
              <a:lnSpc>
                <a:spcPct val="100000"/>
              </a:lnSpc>
              <a:buSzPct val="100000"/>
              <a:buBlip>
                <a:blip r:embed="rId6"/>
              </a:buBlip>
              <a:tabLst>
                <a:tab algn="l" pos="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nstantia"/>
              </a:rPr>
              <a:t>Сил и средств к действиям при ЧС.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  <a:p>
            <a:pPr indent="540000" algn="just">
              <a:lnSpc>
                <a:spcPct val="100000"/>
              </a:lnSpc>
              <a:buSzPct val="100000"/>
              <a:buBlip>
                <a:blip r:embed="rId7"/>
              </a:buBlip>
              <a:tabLst>
                <a:tab algn="l" pos="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Constantia"/>
              </a:rPr>
              <a:t>Создание и пополнение финансовых и материальных резервов.</a:t>
            </a:r>
            <a:endParaRPr b="0" lang="ru-RU" sz="3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slow">
    <p:wheel spokes="3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" dur="500"/>
                                        <p:tgtEl>
                                          <p:spTgt spid="4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800"/>
                            </p:stCondLst>
                            <p:childTnLst>
                              <p:par>
                                <p:cTn id="123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4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850"/>
                            </p:stCondLst>
                            <p:childTnLst>
                              <p:par>
                                <p:cTn id="129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3" dur="500"/>
                                        <p:tgtEl>
                                          <p:spTgt spid="4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900"/>
                            </p:stCondLst>
                            <p:childTnLst>
                              <p:par>
                                <p:cTn id="135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9" dur="500"/>
                                        <p:tgtEl>
                                          <p:spTgt spid="4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550"/>
                            </p:stCondLst>
                            <p:childTnLst>
                              <p:par>
                                <p:cTn id="141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500"/>
                                        <p:tgtEl>
                                          <p:spTgt spid="4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400"/>
                            </p:stCondLst>
                            <p:childTnLst>
                              <p:par>
                                <p:cTn id="147" nodeType="afterEffect" fill="hold" presetClass="entr" presetID="2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1" dur="500"/>
                                        <p:tgtEl>
                                          <p:spTgt spid="4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40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571760" y="704160"/>
            <a:ext cx="711468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buNone/>
            </a:pPr>
            <a:endParaRPr b="0" lang="ru-RU" sz="4000" spc="-100" strike="noStrike">
              <a:solidFill>
                <a:srgbClr val="d6ecff"/>
              </a:solidFill>
              <a:latin typeface="Consola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07640" y="44640"/>
            <a:ext cx="8928720" cy="6813000"/>
          </a:xfrm>
          <a:prstGeom prst="rect">
            <a:avLst/>
          </a:prstGeom>
          <a:solidFill>
            <a:srgbClr val="d9d9d9"/>
          </a:solidFill>
          <a:ln w="57240">
            <a:noFill/>
          </a:ln>
        </p:spPr>
        <p:txBody>
          <a:bodyPr lIns="90000" rIns="90000" tIns="45000" bIns="45000" anchor="t">
            <a:normAutofit/>
          </a:bodyPr>
          <a:p>
            <a:pPr marL="6876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Arial Black"/>
              </a:rPr>
              <a:t>ДЕЙСТВИЯ РСЧС в режиме ПОВЫШЕННОЙ ГОТОВНОСТИ: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явление причин ухудшения обстановки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работка предложений по её нормализации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силение дежурно-диспетчерской  службы и наблюдение за состоянием природной среды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бстановкой на потенциально опасных объектах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еры по защите населения и окружающей среды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ведение в готовность сил и средств. 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  <a:p>
            <a:pPr marL="4114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Уточнение планов действий.</a:t>
            </a:r>
            <a:endParaRPr b="0" lang="ru-RU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477" name="Picture 2" descr="object_44"/>
          <p:cNvPicPr/>
          <p:nvPr/>
        </p:nvPicPr>
        <p:blipFill>
          <a:blip r:embed="rId8"/>
          <a:stretch/>
        </p:blipFill>
        <p:spPr>
          <a:xfrm rot="622200">
            <a:off x="7666200" y="5441760"/>
            <a:ext cx="1068120" cy="1330200"/>
          </a:xfrm>
          <a:prstGeom prst="rect">
            <a:avLst/>
          </a:prstGeom>
          <a:ln w="9525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0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200"/>
                            </p:stCondLst>
                            <p:childTnLst>
                              <p:par>
                                <p:cTn id="179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4500"/>
                            </p:stCondLst>
                            <p:childTnLst>
                              <p:par>
                                <p:cTn id="186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8600"/>
                            </p:stCondLst>
                            <p:childTnLst>
                              <p:par>
                                <p:cTn id="193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1100"/>
                            </p:stCondLst>
                            <p:childTnLst>
                              <p:par>
                                <p:cTn id="200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4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13450"/>
                            </p:stCondLst>
                            <p:childTnLst>
                              <p:par>
                                <p:cTn id="207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4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5550"/>
                            </p:stCondLst>
                            <p:childTnLst>
                              <p:par>
                                <p:cTn id="214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4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66ff"/>
            </a:gs>
            <a:gs pos="100000">
              <a:srgbClr val="cc99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/>
          </p:nvPr>
        </p:nvSpPr>
        <p:spPr>
          <a:xfrm>
            <a:off x="179640" y="332640"/>
            <a:ext cx="8784720" cy="633636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 w="57240">
            <a:noFill/>
          </a:ln>
        </p:spPr>
        <p:txBody>
          <a:bodyPr lIns="90000" rIns="90000" tIns="45000" bIns="45000" anchor="t">
            <a:normAutofit fontScale="80000"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4100" spc="-1" strike="noStrike">
                <a:solidFill>
                  <a:srgbClr val="ff3300"/>
                </a:solidFill>
                <a:latin typeface="Arial Black"/>
              </a:rPr>
              <a:t>ДЕЙСТВИЯ РСЧС в режиме ЧРЕЗВЫЧАЙНОЙ СИТУАЦИИ</a:t>
            </a:r>
            <a:endParaRPr b="0" lang="ru-RU" sz="41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Arial Black"/>
              </a:rPr>
              <a:t>Организация защиты населения</a:t>
            </a:r>
            <a:endParaRPr b="0" lang="ru-RU" sz="41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Arial Black"/>
              </a:rPr>
              <a:t>Определение границ ЧС.</a:t>
            </a:r>
            <a:endParaRPr b="0" lang="ru-RU" sz="41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Arial Black"/>
              </a:rPr>
              <a:t>Организация  ликвидации</a:t>
            </a:r>
            <a:r>
              <a:rPr b="1" lang="en-US" sz="4100" spc="-1" strike="noStrike">
                <a:solidFill>
                  <a:srgbClr val="002060"/>
                </a:solidFill>
                <a:latin typeface="Arial Black"/>
              </a:rPr>
              <a:t> </a:t>
            </a:r>
            <a:r>
              <a:rPr b="1" lang="ru-RU" sz="4100" spc="-1" strike="noStrike">
                <a:solidFill>
                  <a:srgbClr val="002060"/>
                </a:solidFill>
                <a:latin typeface="Arial Black"/>
              </a:rPr>
              <a:t>ЧС.</a:t>
            </a:r>
            <a:endParaRPr b="0" lang="ru-RU" sz="41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Arial Black"/>
              </a:rPr>
              <a:t>Работы по первоочередному обеспечению пострадавшего населения.</a:t>
            </a:r>
            <a:endParaRPr b="0" lang="ru-RU" sz="4100" spc="-1" strike="noStrike">
              <a:solidFill>
                <a:srgbClr val="000000"/>
              </a:solidFill>
              <a:latin typeface="Constantia"/>
            </a:endParaRPr>
          </a:p>
          <a:p>
            <a:pPr marL="257760" indent="-25776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0"/>
              </a:tabLst>
            </a:pPr>
            <a:r>
              <a:rPr b="1" lang="ru-RU" sz="4100" spc="-1" strike="noStrike">
                <a:solidFill>
                  <a:srgbClr val="002060"/>
                </a:solidFill>
                <a:latin typeface="Arial Black"/>
              </a:rPr>
              <a:t>Непрерывный контроль за состоянием окружающей среды и обстановкой на аварийных объектах.</a:t>
            </a:r>
            <a:endParaRPr b="0" lang="ru-RU" sz="4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ircle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6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6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56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900560" cy="796680"/>
          </a:xfrm>
          <a:prstGeom prst="rect">
            <a:avLst/>
          </a:prstGeom>
          <a:solidFill>
            <a:srgbClr val="ffe697"/>
          </a:solidFill>
          <a:ln w="648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00" strike="noStrike">
                <a:solidFill>
                  <a:srgbClr val="000000"/>
                </a:solidFill>
                <a:latin typeface="Constantia"/>
              </a:rPr>
              <a:t>Структура сил и средств РСЧС</a:t>
            </a:r>
            <a:r>
              <a:rPr b="0" lang="ru-RU" sz="2800" spc="-100" strike="noStrike">
                <a:solidFill>
                  <a:srgbClr val="000000"/>
                </a:solidFill>
                <a:latin typeface="Constantia"/>
              </a:rPr>
              <a:t> 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0" name="Содержимое 3" descr="http://culture.mchs.gov.ru/upload/learning/img/Les1/1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 spd="slow">
    <p:cover dir="ru"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93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3" dur="193" fill="hold"/>
                                        <p:tgtEl>
                                          <p:spTgt spid="4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4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5" dur="193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6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7" dur="193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8" dur="308" fill="hold">
                                          <p:stCondLst>
                                            <p:cond delay="193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/>
          </p:nvPr>
        </p:nvSpPr>
        <p:spPr>
          <a:xfrm>
            <a:off x="0" y="0"/>
            <a:ext cx="9143640" cy="6741000"/>
          </a:xfrm>
          <a:prstGeom prst="rect">
            <a:avLst/>
          </a:prstGeom>
          <a:solidFill>
            <a:schemeClr val="accent1">
              <a:lumMod val="40000"/>
              <a:lumOff val="60000"/>
            </a:scheme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К силам и средствам ликвидации чрезвычайных ситуаций РСЧС относят: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йска гражданской обороны;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исково-спасательную службу МЧС России;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енизированные и невоенизированные противопожарные, аварийно-спасательные, аварийно-восстановительные, восстановительные и аварийно-технические формирования федеральных органов исполнительной власти;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ормирования и учреждения Всероссийской службы медицины катастроф;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ормирования ветеринарной службы и службы защиты растений Минсельхозпрода России;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оенизированные службы Росгидромета по активисту воздей­ствию на гидрометеорологические процессы;</a:t>
            </a: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61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just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000000"/>
                </a:solidFill>
                <a:latin typeface="Arial Black"/>
              </a:rPr>
              <a:t>Домашнее задание:</a:t>
            </a:r>
            <a:br>
              <a:rPr sz="3600"/>
            </a:br>
            <a:br>
              <a:rPr sz="3600"/>
            </a:br>
            <a:r>
              <a:rPr b="0" lang="ru-RU" sz="3600" spc="-1" strike="noStrike" cap="all">
                <a:solidFill>
                  <a:srgbClr val="000000"/>
                </a:solidFill>
                <a:latin typeface="Arial Black"/>
              </a:rPr>
              <a:t>1. Подготовить реферат на тему – «Состав сил и средств наблюдения и контроля РСЧС».</a:t>
            </a:r>
            <a:br>
              <a:rPr sz="3600"/>
            </a:br>
            <a:br>
              <a:rPr sz="3600"/>
            </a:br>
            <a:r>
              <a:rPr b="0" lang="ru-RU" sz="3600" spc="-1" strike="noStrike" cap="all">
                <a:solidFill>
                  <a:srgbClr val="000000"/>
                </a:solidFill>
                <a:latin typeface="Arial Black"/>
              </a:rPr>
              <a:t>Подготовиться к тестовой работе.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" name="Содержимое 3" descr="http://culture.mchs.gov.ru/upload/learning/img/Les1/123werthyjuk.JPG"/>
          <p:cNvPicPr/>
          <p:nvPr/>
        </p:nvPicPr>
        <p:blipFill>
          <a:blip r:embed="rId1"/>
          <a:stretch/>
        </p:blipFill>
        <p:spPr>
          <a:xfrm>
            <a:off x="3420000" y="260640"/>
            <a:ext cx="2592000" cy="1944000"/>
          </a:xfrm>
          <a:prstGeom prst="rect">
            <a:avLst/>
          </a:prstGeom>
          <a:ln w="9525">
            <a:noFill/>
          </a:ln>
        </p:spPr>
      </p:pic>
      <p:sp>
        <p:nvSpPr>
          <p:cNvPr id="483" name="PlaceHolder 1"/>
          <p:cNvSpPr>
            <a:spLocks noGrp="1"/>
          </p:cNvSpPr>
          <p:nvPr>
            <p:ph/>
          </p:nvPr>
        </p:nvSpPr>
        <p:spPr>
          <a:xfrm>
            <a:off x="107640" y="2277000"/>
            <a:ext cx="8928720" cy="458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-27432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000000"/>
                </a:solidFill>
                <a:latin typeface="Constantia"/>
              </a:rPr>
              <a:t>Поисково-спасательной службы в России раньше не было. 27 декабря 1990 г. было принято постановление Совета Министров России «Об образовании Российского корпуса спасателей на правах государственного комитета РСФСР».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-274320" algn="ctr">
              <a:lnSpc>
                <a:spcPct val="10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lang="ru-RU" sz="3200" spc="-1" strike="noStrike">
                <a:solidFill>
                  <a:srgbClr val="ff0000"/>
                </a:solidFill>
                <a:latin typeface="Constantia"/>
              </a:rPr>
              <a:t>Этот день - 27 декабря, с 1995 г. отмечается как День  спасателя. 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u"/>
    <p:sndAc>
      <p:stSnd>
        <p:snd r:embed="rId2" name="audio1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/>
          </p:nvPr>
        </p:nvSpPr>
        <p:spPr>
          <a:xfrm>
            <a:off x="2195640" y="116640"/>
            <a:ext cx="6840360" cy="66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360000" algn="just">
              <a:lnSpc>
                <a:spcPct val="110000"/>
              </a:lnSpc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Авиация МЧС России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ключает в себя государственное унитарное авиационное предприятие и отдельные вертолетные отряды, находящиеся в подчинении региональных центров министерства.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на располагает разнообразной по своим возможностям и предназначению авиационной техникой.</a:t>
            </a:r>
            <a:endParaRPr b="0" lang="ru-RU" sz="32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</a:pPr>
            <a:endParaRPr b="0" lang="ru-RU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5" name="Содержимое 4" descr="http://culture.mchs.gov.ru/upload/img/%7B38FC82C4-627B-49CD-BF2B-C28CC04B4A04%7D.jpg"/>
          <p:cNvPicPr/>
          <p:nvPr/>
        </p:nvPicPr>
        <p:blipFill>
          <a:blip r:embed="rId1"/>
          <a:stretch/>
        </p:blipFill>
        <p:spPr>
          <a:xfrm>
            <a:off x="0" y="0"/>
            <a:ext cx="2016000" cy="216000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00" strike="noStrike">
                <a:solidFill>
                  <a:srgbClr val="333333"/>
                </a:solidFill>
                <a:latin typeface="Tahoma"/>
                <a:ea typeface="Times New Roman"/>
              </a:rPr>
              <a:t>Противопожарная служба МЧС России </a:t>
            </a:r>
            <a:br>
              <a:rPr sz="2400"/>
            </a:b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7" name="Содержимое 5" descr="http://culture.mchs.gov.ru/upload/learning/img/Les1/%7bB507F377-171E-4FEC-9467-C0F25E04DBD2%7d.jpg"/>
          <p:cNvPicPr/>
          <p:nvPr/>
        </p:nvPicPr>
        <p:blipFill>
          <a:blip r:embed="rId1"/>
          <a:stretch/>
        </p:blipFill>
        <p:spPr>
          <a:xfrm>
            <a:off x="683640" y="1124640"/>
            <a:ext cx="7488360" cy="518436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 fontScale="34000"/>
          </a:bodyPr>
          <a:p>
            <a:pPr indent="0">
              <a:lnSpc>
                <a:spcPct val="115000"/>
              </a:lnSpc>
              <a:spcAft>
                <a:spcPts val="1199"/>
              </a:spcAft>
              <a:buNone/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00" strike="noStrike">
                <a:solidFill>
                  <a:srgbClr val="333333"/>
                </a:solidFill>
                <a:latin typeface="Tahoma"/>
                <a:ea typeface="Times New Roman"/>
              </a:rPr>
              <a:t>Медицина катастроф</a:t>
            </a:r>
            <a:r>
              <a:rPr b="0" lang="ru-RU" sz="2400" spc="-100" strike="noStrike">
                <a:solidFill>
                  <a:srgbClr val="333333"/>
                </a:solidFill>
                <a:latin typeface="Tahoma"/>
                <a:ea typeface="Times New Roman"/>
              </a:rPr>
              <a:t> </a:t>
            </a:r>
            <a:br>
              <a:rPr sz="2400"/>
            </a:br>
            <a:r>
              <a:rPr b="0" lang="ru-RU" sz="2200" spc="-100" strike="noStrike">
                <a:solidFill>
                  <a:srgbClr val="333333"/>
                </a:solidFill>
                <a:latin typeface="Tahoma"/>
                <a:ea typeface="Times New Roman"/>
              </a:rPr>
              <a:t>Госпиталь МЧС России. Кабул. 2002 г. </a:t>
            </a:r>
            <a:br>
              <a:rPr sz="2200"/>
            </a:br>
            <a:endParaRPr b="0" lang="ru-RU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89" name="Содержимое 3" descr="http://culture.mchs.gov.ru/upload/learning/img/Les1/%7B9DF931B4-3BF5-4FE3-86D6-EDDC7ECDDF45%7D.jpg"/>
          <p:cNvPicPr/>
          <p:nvPr/>
        </p:nvPicPr>
        <p:blipFill>
          <a:blip r:embed="rId1"/>
          <a:stretch/>
        </p:blipFill>
        <p:spPr>
          <a:xfrm>
            <a:off x="683640" y="1268640"/>
            <a:ext cx="7920360" cy="496836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8229240" cy="48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К силам и средствам наблюдения и контроля РСЧС относятся: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службы (учреждения) и организации федеральных органов исполнительной власти, осуществляющие наблюдение и контроль за состоянием окружающей природной среды, обстановкой на потенциально опасных объектах и прилегающих к ним территори­ях, анализ воздействия вредных факторов на здоровье населения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формирования Госсанэпиднадзора России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ветеринарная служба Минсельхозпрода России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службы (учреждения) наблюдения и лабораторного контроля за качеством пищевого сырья и продуктов питания Минсельхозпрода и Минторга России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геофизическая служба Российской академии наук, оператив­ные группы постоянной готовности Росгидромета и подразделе­ния Минатома России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учреждения Агентства по мониторингу чрезвычайных ситуа­ций;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228600" algn="just">
              <a:lnSpc>
                <a:spcPct val="100000"/>
              </a:lnSpc>
              <a:spcBef>
                <a:spcPts val="300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CYR"/>
                <a:ea typeface="Times New Roman"/>
              </a:rPr>
              <a:t>учреждения сети наблюдения и лабораторного контроля ГО.</a:t>
            </a: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  <a:p>
            <a:pPr marL="2743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218960"/>
          </a:xfrm>
          <a:prstGeom prst="rect">
            <a:avLst/>
          </a:prstGeom>
          <a:noFill/>
          <a:ln w="6480">
            <a:noFill/>
          </a:ln>
        </p:spPr>
        <p:txBody>
          <a:bodyPr lIns="90000" rIns="90000" tIns="45000" bIns="4500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00" strike="noStrike">
                <a:solidFill>
                  <a:srgbClr val="000000"/>
                </a:solidFill>
                <a:latin typeface="Constantia"/>
              </a:rPr>
              <a:t>Состав сил и средств наблюдения и контроля РСЧС </a:t>
            </a:r>
            <a:endParaRPr b="0" lang="ru-RU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863520" y="0"/>
            <a:ext cx="1860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 cap="all">
                <a:solidFill>
                  <a:srgbClr val="4e3b30"/>
                </a:solidFill>
                <a:latin typeface="Franklin Gothic Medium"/>
              </a:rPr>
              <a:t>РСЧС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0" y="908640"/>
            <a:ext cx="9036000" cy="541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561"/>
              </a:spcBef>
              <a:buClr>
                <a:srgbClr val="f0a22e"/>
              </a:buClr>
              <a:buSzPct val="70000"/>
              <a:buFont typeface="Wingdings 2" charset="2"/>
              <a:buChar char=""/>
            </a:pPr>
            <a:r>
              <a:rPr b="1" lang="ru-RU" sz="2800" spc="-1" strike="noStrike">
                <a:solidFill>
                  <a:srgbClr val="4e3b30"/>
                </a:solidFill>
                <a:latin typeface="Arial Black"/>
              </a:rPr>
              <a:t>Постановлением Правительства РФ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 Black"/>
              </a:rPr>
              <a:t>от 18 апреля 1992 г. № 261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 Black"/>
              </a:rPr>
              <a:t>была создана Российская система предупреждения и действий в чрезвычайных ситуациях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 Black"/>
              </a:rPr>
              <a:t>(сокращенно РСЧС),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 Black"/>
              </a:rPr>
              <a:t>преобразованная 5 ноября 1995 г. постановлением Правительства Российской Федерации № 1113 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4e3b30"/>
                </a:solidFill>
                <a:latin typeface="Arial Black"/>
              </a:rPr>
              <a:t>в единую государственную систему предупреждения и ликвидации чрезвычайных ситуаций.</a:t>
            </a: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40004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28760" y="285840"/>
            <a:ext cx="8229240" cy="215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91440"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cc9900"/>
                </a:solidFill>
                <a:uFillTx/>
                <a:latin typeface="Franklin Gothic Book"/>
                <a:hlinkClick r:id="rId1" action="ppaction://hlinksldjump"/>
              </a:rPr>
              <a:t>Российская система </a:t>
            </a:r>
            <a:r>
              <a:rPr b="1" lang="ru-RU" sz="4400" spc="-1" strike="noStrike" u="sng">
                <a:solidFill>
                  <a:srgbClr val="cc9900"/>
                </a:solidFill>
                <a:uFillTx/>
                <a:latin typeface="Franklin Gothic Book"/>
                <a:hlinkClick r:id="rId2" action="ppaction://hlinksldjump"/>
              </a:rPr>
              <a:t>предупреждения и действий в чрезвычайных ситуациях</a:t>
            </a:r>
            <a:endParaRPr b="0" lang="ru-RU" sz="44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240" cy="42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3000"/>
          </a:bodyPr>
          <a:p>
            <a:pPr marL="254880" indent="-254880" algn="just">
              <a:lnSpc>
                <a:spcPct val="100000"/>
              </a:lnSpc>
              <a:spcBef>
                <a:spcPts val="581"/>
              </a:spcBef>
              <a:buSzPct val="100000"/>
              <a:buBlip>
                <a:blip r:embed="rId3"/>
              </a:buBlip>
            </a:pPr>
            <a:r>
              <a:rPr b="1" lang="ru-RU" sz="2600" spc="-1" strike="noStrike">
                <a:solidFill>
                  <a:srgbClr val="002060"/>
                </a:solidFill>
                <a:latin typeface="Perpetua"/>
              </a:rPr>
              <a:t>Создана для предупреждения и действий в чрезвычайных  ситуациях , объединяет </a:t>
            </a:r>
            <a:r>
              <a:rPr b="1" lang="en-US" sz="2600" spc="-1" strike="noStrike">
                <a:solidFill>
                  <a:srgbClr val="002060"/>
                </a:solidFill>
                <a:latin typeface="Perpetua"/>
              </a:rPr>
              <a:t>: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54880" indent="-254880" algn="just">
              <a:lnSpc>
                <a:spcPct val="100000"/>
              </a:lnSpc>
              <a:spcBef>
                <a:spcPts val="581"/>
              </a:spcBef>
              <a:buSzPct val="100000"/>
              <a:buBlip>
                <a:blip r:embed="rId4"/>
              </a:buBlip>
            </a:pPr>
            <a:r>
              <a:rPr b="1" lang="ru-RU" sz="2600" spc="-1" strike="noStrike">
                <a:solidFill>
                  <a:srgbClr val="002060"/>
                </a:solidFill>
                <a:latin typeface="Perpetua"/>
              </a:rPr>
              <a:t>органы управления.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54880" indent="-254880" algn="just">
              <a:lnSpc>
                <a:spcPct val="100000"/>
              </a:lnSpc>
              <a:spcBef>
                <a:spcPts val="581"/>
              </a:spcBef>
              <a:buSzPct val="100000"/>
              <a:buBlip>
                <a:blip r:embed="rId5"/>
              </a:buBlip>
            </a:pPr>
            <a:r>
              <a:rPr b="1" lang="ru-RU" sz="2600" spc="-1" strike="noStrike">
                <a:solidFill>
                  <a:srgbClr val="002060"/>
                </a:solidFill>
                <a:latin typeface="Perpetua"/>
              </a:rPr>
              <a:t>силы и средства Федеральных  органов исполнительной власти .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54880" indent="-254880" algn="just">
              <a:lnSpc>
                <a:spcPct val="100000"/>
              </a:lnSpc>
              <a:spcBef>
                <a:spcPts val="581"/>
              </a:spcBef>
              <a:buSzPct val="100000"/>
              <a:buBlip>
                <a:blip r:embed="rId6"/>
              </a:buBlip>
            </a:pPr>
            <a:r>
              <a:rPr b="1" lang="ru-RU" sz="2600" spc="-1" strike="noStrike">
                <a:solidFill>
                  <a:srgbClr val="002060"/>
                </a:solidFill>
                <a:latin typeface="Perpetua"/>
              </a:rPr>
              <a:t>органов исполнительной власти субъектов РФ.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  <a:p>
            <a:pPr marL="254880" indent="-254880" algn="just">
              <a:lnSpc>
                <a:spcPct val="100000"/>
              </a:lnSpc>
              <a:spcBef>
                <a:spcPts val="581"/>
              </a:spcBef>
              <a:buSzPct val="100000"/>
              <a:buBlip>
                <a:blip r:embed="rId7"/>
              </a:buBlip>
            </a:pPr>
            <a:r>
              <a:rPr b="1" lang="ru-RU" sz="2600" spc="-1" strike="noStrike">
                <a:solidFill>
                  <a:srgbClr val="002060"/>
                </a:solidFill>
                <a:latin typeface="Perpetua"/>
              </a:rPr>
              <a:t>органов местного самоуправления  и организаций , в полномочия которых входит решение вопросов защиты населения и территорий от чрезвычайных ситуаций.</a:t>
            </a:r>
            <a:endParaRPr b="0" lang="ru-RU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p:transition spd="slow">
    <p:pull dir="l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39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850"/>
                            </p:stCondLst>
                            <p:childTnLst>
                              <p:par>
                                <p:cTn id="22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850"/>
                            </p:stCondLst>
                            <p:childTnLst>
                              <p:par>
                                <p:cTn id="28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450"/>
                            </p:stCondLst>
                            <p:childTnLst>
                              <p:par>
                                <p:cTn id="34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300"/>
                            </p:stCondLst>
                            <p:childTnLst>
                              <p:par>
                                <p:cTn id="40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4050"/>
                            </p:stCondLst>
                            <p:childTnLst>
                              <p:par>
                                <p:cTn id="46" nodeType="after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fdc9f"/>
            </a:gs>
            <a:gs pos="100000">
              <a:srgbClr val="f3e7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86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 u="sng">
                <a:solidFill>
                  <a:srgbClr val="410082"/>
                </a:solidFill>
                <a:uFillTx/>
                <a:latin typeface="Lucida Sans"/>
                <a:hlinkClick r:id="rId1" action="ppaction://hlinksldjump"/>
              </a:rPr>
              <a:t>Чрезвычайные ситуации</a:t>
            </a:r>
            <a:endParaRPr b="0" lang="ru-RU" sz="44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79640" y="1143000"/>
            <a:ext cx="8712720" cy="41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548640" indent="-411480" algn="just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3200" spc="-1" strike="noStrike">
                <a:solidFill>
                  <a:srgbClr val="ff0000"/>
                </a:solidFill>
                <a:latin typeface="Book Antiqua"/>
              </a:rPr>
              <a:t>Чрезвычайная ситуация(ЧС) - </a:t>
            </a:r>
            <a:r>
              <a:rPr b="1" lang="ru-RU" sz="3200" spc="-1" strike="noStrike">
                <a:solidFill>
                  <a:srgbClr val="0000ff"/>
                </a:solidFill>
                <a:latin typeface="Book Antiqua"/>
              </a:rPr>
              <a:t>обстановка на определённой территории, сложившаяся в результате аварии, опасного природного явления, катастрофы, стихийного или иного бедствия, которые могут повлечь или повлекли за собой человеческие жертвы, ущерб здоровью людей или окружающей среде, значительные материальные потери и нарушение условий жизнедеятельности людей.</a:t>
            </a:r>
            <a:endParaRPr b="0" lang="ru-RU" sz="3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 spd="slow">
    <p:pull dir="l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5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450"/>
                            </p:stCondLst>
                            <p:childTnLst>
                              <p:par>
                                <p:cTn id="63" nodeType="afterEffect" fill="hold" presetClass="entr" presetID="30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4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84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100" spc="-1" strike="noStrike">
                <a:solidFill>
                  <a:srgbClr val="000000"/>
                </a:solidFill>
                <a:latin typeface="Lucida Sans"/>
              </a:rPr>
              <a:t>Цели и задачи РСЧС </a:t>
            </a:r>
            <a:br>
              <a:rPr sz="4100"/>
            </a:br>
            <a:endParaRPr b="0" lang="ru-RU" sz="4100" spc="-1" strike="noStrike">
              <a:solidFill>
                <a:srgbClr val="000000"/>
              </a:solidFill>
              <a:latin typeface="Book Antiqua"/>
            </a:endParaRPr>
          </a:p>
        </p:txBody>
      </p:sp>
      <p:pic>
        <p:nvPicPr>
          <p:cNvPr id="449" name="Содержимое 3" descr="http://culture.mchs.gov.ru/upload/learning/img/Les1/tab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40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rmAutofit fontScale="9000"/>
          </a:bodyPr>
          <a:p>
            <a:pPr indent="0" algn="ctr">
              <a:lnSpc>
                <a:spcPct val="115000"/>
              </a:lnSpc>
              <a:buNone/>
            </a:pPr>
            <a:br>
              <a:rPr sz="4400"/>
            </a:br>
            <a:br>
              <a:rPr sz="4400"/>
            </a:br>
            <a:r>
              <a:rPr b="1" lang="ru-RU" sz="3100" spc="-1" strike="noStrike">
                <a:solidFill>
                  <a:srgbClr val="333333"/>
                </a:solidFill>
                <a:latin typeface="Calibri"/>
                <a:ea typeface="Calibri"/>
              </a:rPr>
              <a:t>Структура РСЧС</a:t>
            </a:r>
            <a:r>
              <a:rPr b="1" lang="ru-RU" sz="3100" spc="-1" strike="noStrike">
                <a:solidFill>
                  <a:srgbClr val="333333"/>
                </a:solidFill>
                <a:latin typeface="Tahoma"/>
                <a:ea typeface="Calibri"/>
              </a:rPr>
              <a:t> </a:t>
            </a:r>
            <a:br>
              <a:rPr sz="3600"/>
            </a:br>
            <a:br>
              <a:rPr sz="4400"/>
            </a:br>
            <a:endParaRPr b="0" lang="ru-RU" sz="31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107640" y="404640"/>
            <a:ext cx="8856720" cy="64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75000"/>
          </a:bodyPr>
          <a:p>
            <a:pPr marL="530640" indent="-397800"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СЧС строится по территориально-производственному принципу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состоит из территориальных и функциональных подсистем и имеет </a:t>
            </a: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5 уровней управления –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marL="530640" indent="-397800"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федеральный, 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marL="530640" indent="-397800"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егиональный, 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marL="530640" indent="-397800"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территориальный, 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marL="530640" indent="-397800" algn="ctr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естный,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indent="397800" algn="just">
              <a:lnSpc>
                <a:spcPct val="120000"/>
              </a:lnSpc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объектовый.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рриториальные подсистемы РСЧС создаются в субъектах Российской Федерации для предупреждения и ликвидации чрезвычайных ситуаций в пределах их территорий и состоят из звеньев, соответствующих административно-территориальному делению этих территорий. 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  <a:p>
            <a:pPr indent="397800" algn="just">
              <a:lnSpc>
                <a:spcPct val="120000"/>
              </a:lnSpc>
              <a:buClr>
                <a:srgbClr val="000000"/>
              </a:buClr>
              <a:buSzPct val="65000"/>
              <a:buFont typeface="Wingdings 2" charset="2"/>
              <a:buChar char=""/>
            </a:pPr>
            <a:r>
              <a:rPr b="1" i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Звенья (местный уровень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оздаются в муниципальных образованиях (район, населенный пункт) для предупреждения ликвидации чрезвычайных ситуаций в пределах их территорий. </a:t>
            </a:r>
            <a:endParaRPr b="0" lang="ru-RU" sz="28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transition>
    <p:pull dir="lu"/>
    <p:sndAc>
      <p:stSnd>
        <p:snd r:embed="rId1" name="audio1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pic>
        <p:nvPicPr>
          <p:cNvPr id="453" name="Содержимое 3" descr="http://culture.mchs.gov.ru/upload/learning/video/Les1/%7bE2F9D7AD-3740-49D9-A300-CAF9BA838F1A%7d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buNone/>
            </a:pPr>
            <a:endParaRPr b="1" lang="ru-RU" sz="4100" spc="-1" strike="noStrike">
              <a:solidFill>
                <a:srgbClr val="e9d596"/>
              </a:solidFill>
              <a:latin typeface="Lucida Sans"/>
            </a:endParaRPr>
          </a:p>
        </p:txBody>
      </p:sp>
      <p:pic>
        <p:nvPicPr>
          <p:cNvPr id="455" name="Содержимое 3" descr="http://culture.mchs.gov.ru/upload/learning/video/Les1/112.JP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</p:spTree>
  </p:cSld>
  <p:transition>
    <p:pull dir="lu"/>
    <p:sndAc>
      <p:stSnd>
        <p:snd r:embed="rId2" name="audio1.wav"/>
      </p:stSnd>
    </p:sndAc>
  </p:transition>
</p:sld>
</file>

<file path=ppt/theme/theme1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1_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рек">
  <a:themeElements>
    <a:clrScheme name="Трек">
      <a:dk1>
        <a:srgbClr val="000000"/>
      </a:dk1>
      <a:lt1>
        <a:srgbClr val="ffffff"/>
      </a:lt1>
      <a:dk2>
        <a:srgbClr val="4e3b30"/>
      </a:dk2>
      <a:lt2>
        <a:srgbClr val="fbeec9"/>
      </a:lt2>
      <a:accent1>
        <a:srgbClr val="f0a22e"/>
      </a:accent1>
      <a:accent2>
        <a:srgbClr val="a5644e"/>
      </a:accent2>
      <a:accent3>
        <a:srgbClr val="b58b80"/>
      </a:accent3>
      <a:accent4>
        <a:srgbClr val="c3986d"/>
      </a:accent4>
      <a:accent5>
        <a:srgbClr val="a19574"/>
      </a:accent5>
      <a:accent6>
        <a:srgbClr val="c17529"/>
      </a:accent6>
      <a:hlink>
        <a:srgbClr val="ad1f1f"/>
      </a:hlink>
      <a:folHlink>
        <a:srgbClr val="ffc42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Справедливость">
  <a:themeElements>
    <a:clrScheme name="Справедливость">
      <a:dk1>
        <a:srgbClr val="000000"/>
      </a:dk1>
      <a:lt1>
        <a:srgbClr val="ffffff"/>
      </a:lt1>
      <a:dk2>
        <a:srgbClr val="696464"/>
      </a:dk2>
      <a:lt2>
        <a:srgbClr val="e9e5dc"/>
      </a:lt2>
      <a:accent1>
        <a:srgbClr val="d34817"/>
      </a:accent1>
      <a:accent2>
        <a:srgbClr val="9b2d1f"/>
      </a:accent2>
      <a:accent3>
        <a:srgbClr val="a28e6a"/>
      </a:accent3>
      <a:accent4>
        <a:srgbClr val="956251"/>
      </a:accent4>
      <a:accent5>
        <a:srgbClr val="918485"/>
      </a:accent5>
      <a:accent6>
        <a:srgbClr val="855d5d"/>
      </a:accent6>
      <a:hlink>
        <a:srgbClr val="cc9900"/>
      </a:hlink>
      <a:folHlink>
        <a:srgbClr val="96a9a9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Апекс">
  <a:themeElements>
    <a:clrScheme name="Апекс">
      <a:dk1>
        <a:srgbClr val="000000"/>
      </a:dk1>
      <a:lt1>
        <a:srgbClr val="ffffff"/>
      </a:lt1>
      <a:dk2>
        <a:srgbClr val="69676d"/>
      </a:dk2>
      <a:lt2>
        <a:srgbClr val="c9c2d1"/>
      </a:lt2>
      <a:accent1>
        <a:srgbClr val="ceb966"/>
      </a:accent1>
      <a:accent2>
        <a:srgbClr val="9cb084"/>
      </a:accent2>
      <a:accent3>
        <a:srgbClr val="6bb1c9"/>
      </a:accent3>
      <a:accent4>
        <a:srgbClr val="6585cf"/>
      </a:accent4>
      <a:accent5>
        <a:srgbClr val="7e6bc9"/>
      </a:accent5>
      <a:accent6>
        <a:srgbClr val="a379bb"/>
      </a:accent6>
      <a:hlink>
        <a:srgbClr val="410082"/>
      </a:hlink>
      <a:folHlink>
        <a:srgbClr val="93296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Метро">
  <a:themeElements>
    <a:clrScheme name="Метро">
      <a:dk1>
        <a:srgbClr val="000000"/>
      </a:dk1>
      <a:lt1>
        <a:srgbClr val="ffffff"/>
      </a:lt1>
      <a:dk2>
        <a:srgbClr val="4e5b6f"/>
      </a:dk2>
      <a:lt2>
        <a:srgbClr val="d6ecff"/>
      </a:lt2>
      <a:accent1>
        <a:srgbClr val="7fd13b"/>
      </a:accent1>
      <a:accent2>
        <a:srgbClr val="ea157a"/>
      </a:accent2>
      <a:accent3>
        <a:srgbClr val="feb80a"/>
      </a:accent3>
      <a:accent4>
        <a:srgbClr val="00addc"/>
      </a:accent4>
      <a:accent5>
        <a:srgbClr val="738ac8"/>
      </a:accent5>
      <a:accent6>
        <a:srgbClr val="1ab39f"/>
      </a:accent6>
      <a:hlink>
        <a:srgbClr val="eb8803"/>
      </a:hlink>
      <a:folHlink>
        <a:srgbClr val="5f7791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1_Бумажная">
  <a:themeElements>
    <a:clrScheme name="Бумажная">
      <a:dk1>
        <a:srgbClr val="000000"/>
      </a:dk1>
      <a:lt1>
        <a:srgbClr val="ffffff"/>
      </a:lt1>
      <a:dk2>
        <a:srgbClr val="444d26"/>
      </a:dk2>
      <a:lt2>
        <a:srgbClr val="fefac9"/>
      </a:lt2>
      <a:accent1>
        <a:srgbClr val="a5b592"/>
      </a:accent1>
      <a:accent2>
        <a:srgbClr val="f3a447"/>
      </a:accent2>
      <a:accent3>
        <a:srgbClr val="e7bc29"/>
      </a:accent3>
      <a:accent4>
        <a:srgbClr val="d092a7"/>
      </a:accent4>
      <a:accent5>
        <a:srgbClr val="9c85c0"/>
      </a:accent5>
      <a:accent6>
        <a:srgbClr val="809ec2"/>
      </a:accent6>
      <a:hlink>
        <a:srgbClr val="8e58b6"/>
      </a:hlink>
      <a:folHlink>
        <a:srgbClr val="7f6f6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Apex</Template>
  <TotalTime>8474</TotalTime>
  <Application>LibreOffice/7.4.7.2$Linux_X86_64 LibreOffice_project/40$Build-2</Application>
  <AppVersion>15.0000</AppVersion>
  <Words>841</Words>
  <Paragraphs>99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Важный</cp:category>
  <dcterms:created xsi:type="dcterms:W3CDTF">2009-02-19T12:04:56Z</dcterms:created>
  <dc:creator>Иванов М.А.</dc:creator>
  <dc:description/>
  <cp:keywords>Основы безопасности жизнедеятельности</cp:keywords>
  <dc:language>en-US</dc:language>
  <cp:lastModifiedBy>Васько Александр Васильевич</cp:lastModifiedBy>
  <dcterms:modified xsi:type="dcterms:W3CDTF">2022-10-25T05:29:02Z</dcterms:modified>
  <cp:revision>1198</cp:revision>
  <dc:subject>ОБЖ</dc:subject>
  <dc:title>РСЧС-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Экран (4:3)</vt:lpwstr>
  </property>
  <property fmtid="{D5CDD505-2E9C-101B-9397-08002B2CF9AE}" pid="4" name="Slides">
    <vt:r8>24</vt:r8>
  </property>
</Properties>
</file>