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21.jpeg" ContentType="image/jpeg"/>
  <Override PartName="/ppt/media/audio1.wav" ContentType="audio/x-wav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dt" idx="3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3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 type="sldNum" idx="3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B94F155-912C-4419-A744-C1CEA46E3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AB5405-A6F1-49E6-AA18-BA26A8629CB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8D5E90-8C4B-43BF-866F-5DC4981FC40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E9E83F-D6B2-477D-BE62-998D1D6EE504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902C-93F7-4794-BCF6-55B1F076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39EE-E157-493B-ABD2-7F7E0A86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733B6-C79F-4EFA-A58F-AB3E8C6F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9C65E1-0E11-439A-AB05-A5B03F9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96CD94-D8D5-45C4-8613-A94391AD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172968-5F22-4FB5-B220-C333BDCC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2DAEEC-450F-4F96-87C2-B68C0C5F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B82305-847D-40C1-A994-0F9E3509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1234C7-6DF4-4105-853C-CB70DF765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057504-007E-4EFC-ADA6-3F92330A8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02E4D-D947-470B-85AD-403D12F9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15DFD-3DAF-45CE-987D-28A49A0D4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418-37AB-4586-85B4-48C607A5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CA4E3-DCD7-47A5-8399-D8E3C2B3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7D2810-C39B-4E4C-8422-6521057A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FE98A3-7355-4255-A93A-D481B3D61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C0EF26-61D4-4C00-A363-D3DAE177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9EF43A-B14A-4AA7-8D15-514DA5C4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B897-4407-45C4-88DD-EFC0CEF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F91F02-BEA4-42AE-B183-391F468D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245B96-CED7-46A0-BBDA-912C211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28459-B153-4CE1-AE61-1C93BBBA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A2AF08-82FE-4160-9A3E-79C95293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5388-2223-4E95-9680-2B908A81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DF2FA7-A8C7-4C33-A7A0-76591C12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C7691-0CCB-48A7-B79C-7745E95B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D422B-6883-4AD1-AFCA-11A5F9A5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EC74-50CF-4A83-8DFE-A8E00560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B308-F611-4E3D-82BD-E82912D9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DC31-B2C3-4C66-AC34-5625F298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D77B-871A-4937-B873-C4B6DD05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467B-0862-4903-A31D-7B5B78EB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A32-7AC0-4D45-BD2A-AA9BE879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49DF-1DAF-4A4C-801D-A9A8D940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5B6B-58D6-4720-8129-0710A72C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B1F3C-63DE-4A4D-97C9-8DBC3750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2146-BF0E-43D1-BD8D-78A017FF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F1131-D2F7-44F9-8F05-93AEA8F6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E9EB7-1141-41B7-BAF9-D15A8D14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23E3B-C4A5-4DB2-AC2E-C359FD07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0DB7F-14B2-44AA-A43A-C04F200D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0AF7-DF71-4003-B147-81BFFFE81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915E-FC2C-4EFD-A97A-35AD72DB2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1317-78C3-4DA7-86F3-CCE34F34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63893-6DFF-4378-9DDE-352F5290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3EDE2-88CB-4FD7-BADE-4CEC9EFC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311A1-E871-4CC7-8D78-C72911C5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91470-0962-4347-BF91-EEDD829F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74687-AF94-45BB-B7E5-65ED7C92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151B3-BAC9-4508-9208-3E7F3186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991F1-0621-47F5-BBF5-00FD60659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C93FF-48EE-4CC1-B8DB-203B4D2A5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4B53-BD4E-4DE3-802F-64DB1F502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1656F-320D-4D03-B85D-83178D60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C18-79E6-4AD1-AAFD-313D266F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A1985-38A3-4B8B-8A82-8E715CB0C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C04BD-47B5-44D9-9397-87ADFB4A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FBC47-1F89-4FD4-AC19-504431ED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7CF9A-FABB-41F9-8568-726F2BC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7C1F-C416-426A-BD15-28488E5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CBDFBE-3AC6-4FD6-BEC5-608D8F1F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D56F1-443E-4EFE-99DD-F41D742E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BC4C9-7774-4A44-B8A3-557EE2C63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BC485-9F4A-4E5C-BD83-22646DB1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F97F4-AC02-4D0B-A779-C0865E3BF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8444-885F-4207-A023-86661AC79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FF764-2498-4DDB-89CE-FD313AC4F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3D9B4-A723-4A3F-8D5C-A03DCC8F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7819E-B6C7-404F-89C2-D54C72B2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D068-9AB5-4710-A9C6-207621078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2FD04-BD5D-4360-98BF-C123CD90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DE8C1-9F74-4A16-AE8E-D11D8AC4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25D89-FD6A-492C-9D85-93AFE619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468E1-6912-4ED9-B5DD-1F183792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4280B-A247-4244-AC1F-4D886381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2E23D-08D0-41DD-8245-4D7002464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784A-6772-43BF-BD48-B27CD627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B2D96-FCD9-40CE-BB63-CBC30BC2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E4C04-15DC-4501-ADC9-9BDC01B1A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5F56F-2B38-430C-A174-91EB20C58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F1D2E-3A52-491E-8E5B-E84E50E5A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B9CF-2E27-4FDC-8E26-1075129A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951E4-4EED-4651-8B5F-A6591733F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EDAE-F008-432B-BDF5-58E9AE34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3D64B-4F40-4B8A-8EDF-DAD0B997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BDAAD-B579-4A31-B0C2-1AED055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C3E67-742C-4BC4-B547-5C1E76BD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6C8-DBC9-4946-AEA8-21DFC3E5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459D9-5C3E-4EDD-954F-EF031B31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74003-E2F4-4C6F-BCBE-15469E3B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23678-A69B-4663-86B6-95E8A0BD2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5AEDA-892C-4FC6-98CD-B09364492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73A18-EB87-477B-B356-9C84575E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C36560-0E39-4D2D-B659-8930C7BF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82534C-3528-459D-91A0-D0B6A213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CDC26-BEFE-4BFB-B2DA-B6A9F217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C2483-2634-4B47-84E3-2193C68E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BB5DC0-A249-4319-ADE9-1DCAA61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F39B-7723-4D16-B94C-5DA42B2B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A335D9-7E1D-4D9F-9196-2CEB0199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336972-E651-423C-A2D1-24D1A5DA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13C1EC-4E17-4683-96A0-1805EEF2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8DBA1-8A08-497F-B3EA-0DDF2813D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D412EF-6439-486C-A932-CAF1449D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DF46A-4D96-4DA7-8BFC-C4FEC509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6204B-6174-4B76-9DC7-1DD95DC1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3374A-AA37-447C-AB8E-69219CFB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5CE6F-3CD3-49F2-B8CE-B473AB92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BDD74C-5AB0-4CBB-B0D7-D6EBB8A3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5C5-53A4-4E1F-A837-EF9914D69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EF4CB-828D-4D9B-B6E6-EC216A6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744C3-2FA4-4F74-97C4-00B89A8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A4ABC-5E58-4F73-B75A-DB1FBC95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2012F-6157-4272-9049-B0C86C8E5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1DE158-01DB-4206-A055-3D49C597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323481-89D0-4308-AF9E-AA5707D3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9BA88-C0FD-4718-9218-491356268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93D2A2-87E4-4CF5-839F-0D342D71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0FD374-A1F8-439E-8EC2-33BFD25F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E8B7C7-9369-4683-BE29-B200F183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2A1FA9-FD19-4954-A4D4-6EF00122974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7997" sy="3799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82A75F1-CFB1-41FA-8DDF-1A36A98BB99B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0FEFCD-8004-494F-B973-539A1132FE4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E6E2C20-94D3-440E-B732-DB0632463DAA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34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29B4271-D2E9-4DC6-96FB-ED07F1454E75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7866B3-266D-41F5-8CCD-9FC9B7E617F1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FF29F49-6D86-4C4B-A63E-9A4277FADD7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2D3196-1B0C-4274-AFFD-8A0A08A6356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1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D08A171-9D45-4DC1-A797-FE90FE3F5E9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7997" sy="3799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4D7B013-1457-4001-8826-ADBE8FFC105C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audio" Target="../media/audio1.wav"/><Relationship Id="rId9" Type="http://schemas.openxmlformats.org/officeDocument/2006/relationships/slideLayout" Target="../slideLayouts/slideLayout6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1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1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68644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Arial Black"/>
              </a:rPr>
              <a:t>ОБЖ 9 класс</a:t>
            </a:r>
            <a:br>
              <a:rPr sz="3600"/>
            </a:b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Тема: </a:t>
            </a: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«Единая государственная система предупреждения и ликвидации чрезвычайных ситуаций.</a:t>
            </a: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(рсчс)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2"/>
          <p:cNvSpPr/>
          <p:nvPr/>
        </p:nvSpPr>
        <p:spPr>
          <a:xfrm>
            <a:off x="2267640" y="4941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0" descr=""/>
          <p:cNvPicPr/>
          <p:nvPr/>
        </p:nvPicPr>
        <p:blipFill>
          <a:blip r:embed="rId1"/>
          <a:stretch/>
        </p:blipFill>
        <p:spPr>
          <a:xfrm>
            <a:off x="446760" y="2813760"/>
            <a:ext cx="2214360" cy="1757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7" name="Picture 11" descr=""/>
          <p:cNvPicPr/>
          <p:nvPr/>
        </p:nvPicPr>
        <p:blipFill>
          <a:blip r:embed="rId2"/>
          <a:stretch/>
        </p:blipFill>
        <p:spPr>
          <a:xfrm>
            <a:off x="3445200" y="2833920"/>
            <a:ext cx="2221200" cy="1737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8" name="Picture 12" descr=""/>
          <p:cNvPicPr/>
          <p:nvPr/>
        </p:nvPicPr>
        <p:blipFill>
          <a:blip r:embed="rId3"/>
          <a:stretch/>
        </p:blipFill>
        <p:spPr>
          <a:xfrm>
            <a:off x="6370200" y="2800440"/>
            <a:ext cx="2361960" cy="1771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59" name="PlaceHolder 1"/>
          <p:cNvSpPr>
            <a:spLocks noGrp="1"/>
          </p:cNvSpPr>
          <p:nvPr>
            <p:ph type="sldNum" idx="34"/>
          </p:nvPr>
        </p:nvSpPr>
        <p:spPr>
          <a:xfrm>
            <a:off x="6553080" y="63244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74DB27-F111-4BBD-9973-E78D52445B77}" type="slidenum">
              <a:rPr b="0" lang="ru-RU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3"/>
          <p:cNvSpPr/>
          <p:nvPr/>
        </p:nvSpPr>
        <p:spPr>
          <a:xfrm>
            <a:off x="212760" y="51840"/>
            <a:ext cx="877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600" spc="-1" strike="noStrike">
                <a:solidFill>
                  <a:srgbClr val="ff0000"/>
                </a:solidFill>
                <a:latin typeface="Book Antiqua"/>
              </a:rPr>
              <a:t>ФЗ от 21.12.1994 г. № 68 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«О защите населения и территорий от чрезвычайных ситуаций природного и техногенного характер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4"/>
          <p:cNvSpPr/>
          <p:nvPr/>
        </p:nvSpPr>
        <p:spPr>
          <a:xfrm>
            <a:off x="212760" y="636480"/>
            <a:ext cx="86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Граждане Российской Федерации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5"/>
          <p:cNvSpPr/>
          <p:nvPr/>
        </p:nvSpPr>
        <p:spPr>
          <a:xfrm>
            <a:off x="254160" y="1124640"/>
            <a:ext cx="8686440" cy="1770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соблюдать законы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и иные нормативные правовые акты РФ, законы и иные нормативные правовые акты субъектов РФ в области защиты населения и территорий от Ч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6"/>
          <p:cNvSpPr/>
          <p:nvPr/>
        </p:nvSpPr>
        <p:spPr>
          <a:xfrm>
            <a:off x="0" y="4419720"/>
            <a:ext cx="9143640" cy="2321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соблюдать меры безопасности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быту и повседневной трудовой деятельности,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не допускать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нарушений производственной и технологической дисциплины, требований экологической безопасности, которые могут привести к возникновению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4" name="audio1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3200400" y="152280"/>
            <a:ext cx="579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200" spc="-1" strike="noStrike">
                <a:solidFill>
                  <a:srgbClr val="ff0000"/>
                </a:solidFill>
                <a:latin typeface="Book Antiqua"/>
              </a:rPr>
              <a:t>ФЗ от 21.12.1994 г. № 68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«О защите населения и территорий от чрезвычайных ситуаций природного и техногенного характе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212760" y="636480"/>
            <a:ext cx="868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Граждане Российской Федераци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обяз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ый прямоугольник 7"/>
          <p:cNvSpPr/>
          <p:nvPr/>
        </p:nvSpPr>
        <p:spPr>
          <a:xfrm>
            <a:off x="212760" y="1340640"/>
            <a:ext cx="8778600" cy="532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зуч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сновные способы защиты населения и территорий от Ч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емы оказания первой помощи пострадавш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авила охраны жизни людей на водных объе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авила пользования коллективными и индивидуальными средствами защи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постоянно совершенствовать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вои знания и практические навыки в указан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Num" idx="35"/>
          </p:nvPr>
        </p:nvSpPr>
        <p:spPr>
          <a:xfrm>
            <a:off x="6553080" y="63244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99138B-C0C4-478D-94FC-85F7F8FE328B}" type="slidenum">
              <a:rPr b="0" lang="ru-RU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15000"/>
              </a:lnSpc>
              <a:spcAft>
                <a:spcPts val="1199"/>
              </a:spcAft>
              <a:buNone/>
            </a:pPr>
            <a:r>
              <a:rPr b="1" lang="ru-RU" sz="4000" spc="-1" strike="noStrike">
                <a:solidFill>
                  <a:srgbClr val="333333"/>
                </a:solidFill>
                <a:latin typeface="Tahoma"/>
                <a:ea typeface="Calibri"/>
              </a:rPr>
              <a:t>Постоянно действующие органы управления РСЧС. </a:t>
            </a:r>
            <a:br>
              <a:rPr sz="2800"/>
            </a:b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Рабочими органами комиссий по чрезвычайным ситуациям являются соответствующие постоянно действующие органы управления РСЧС, специально уполномоченные на решение задач в области защиты населения и территорий от чрезвычайных ситуаций (органы управления ГОЧС). </a:t>
            </a:r>
            <a:endParaRPr b="0" lang="ru-RU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0000"/>
          </a:bodyPr>
          <a:p>
            <a:pPr indent="0" algn="ctr">
              <a:lnSpc>
                <a:spcPct val="115000"/>
              </a:lnSpc>
              <a:spcAft>
                <a:spcPts val="1199"/>
              </a:spcAft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333333"/>
                </a:solidFill>
                <a:latin typeface="Tahoma"/>
                <a:ea typeface="Calibri"/>
              </a:rPr>
              <a:t>Постоянно действующие органы управления РСЧС 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1" name="Содержимое 3" descr="http://culture.mchs.gov.ru/upload/learning/img/Les1/1dfgh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4"/>
          <p:cNvSpPr/>
          <p:nvPr/>
        </p:nvSpPr>
        <p:spPr>
          <a:xfrm>
            <a:off x="179640" y="1859400"/>
            <a:ext cx="8784720" cy="5208840"/>
          </a:xfrm>
          <a:prstGeom prst="rect">
            <a:avLst/>
          </a:prstGeom>
          <a:solidFill>
            <a:srgbClr val="ffe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Нормальная - производственная, промышленная , Радиационная ,  Химическая , Биологическая , сейсмическая, гидрометеорологическая обстановка , отсутствие эпидемий , эпизоотий, эпифито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Ухудшение обстановки , получение прогноза  о возможности возникновения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Возникновение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Двойная стрелка влево/вправо 5"/>
          <p:cNvSpPr/>
          <p:nvPr/>
        </p:nvSpPr>
        <p:spPr>
          <a:xfrm>
            <a:off x="0" y="0"/>
            <a:ext cx="9143640" cy="170028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chemeClr val="tx2">
              <a:lumMod val="75000"/>
            </a:schemeClr>
          </a:solidFill>
          <a:ln w="76200">
            <a:solidFill>
              <a:srgbClr val="00ff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8e58b6"/>
                </a:solidFill>
                <a:uFillTx/>
                <a:latin typeface="Constantia"/>
                <a:hlinkClick r:id="rId4" action="ppaction://hlinksldjump"/>
              </a:rPr>
              <a:t>Режимы</a:t>
            </a:r>
            <a:r>
              <a:rPr b="1" lang="ru-RU" sz="4400" spc="-1" strike="noStrike" u="sng">
                <a:solidFill>
                  <a:srgbClr val="8e58b6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1" lang="ru-RU" sz="2800" spc="-1" strike="noStrike" u="sng">
                <a:solidFill>
                  <a:srgbClr val="8e58b6"/>
                </a:solidFill>
                <a:uFillTx/>
                <a:latin typeface="Constantia"/>
                <a:hlinkClick r:id="rId6" action="ppaction://hlinksldjump"/>
              </a:rPr>
              <a:t>функционирования </a:t>
            </a:r>
            <a:r>
              <a:rPr b="1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7" action="ppaction://hlinksldjump"/>
              </a:rPr>
              <a:t> РС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8" name="audio1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928720" cy="648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1" action="ppaction://hlinksldjump"/>
              </a:rPr>
              <a:t>Действия РСЧС  в режиме повседневной </a:t>
            </a:r>
            <a:r>
              <a:rPr b="1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2" action="ppaction://hlinksldjump"/>
              </a:rPr>
              <a:t>деятельности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Наблюдение за состоянием окружающей среды и обстановки на потенциально опасных объектах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Планирование и выполнение мер по предупреждению ЧС и обеспечению защиты населения 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Подготовка органов управления 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Сил и средств к действиям при ЧС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Создание и пополнение финансовых и материальных резервов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5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9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5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4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0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71760" y="70416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buNone/>
            </a:pPr>
            <a:endParaRPr b="0" lang="ru-RU" sz="4000" spc="-100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7640" y="44640"/>
            <a:ext cx="8928720" cy="6813000"/>
          </a:xfrm>
          <a:prstGeom prst="rect">
            <a:avLst/>
          </a:prstGeom>
          <a:solidFill>
            <a:srgbClr val="d9d9d9"/>
          </a:solidFill>
          <a:ln w="57240">
            <a:noFill/>
          </a:ln>
        </p:spPr>
        <p:txBody>
          <a:bodyPr lIns="90000" rIns="90000" tIns="45000" bIns="45000" anchor="t">
            <a:normAutofit/>
          </a:bodyPr>
          <a:p>
            <a:pPr marL="68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 Black"/>
              </a:rPr>
              <a:t>ДЕЙСТВИЯ РСЧС в режиме ПОВЫШЕННОЙ ГОТОВНОСТИ: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ление причин ухудшения обстановки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отка предложений по её нормализации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иление дежурно-диспетчерской  службы и наблюдение за состоянием природной сред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становкой на потенциально опасных объектах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ы по защите населения и окружающей сред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едение в готовность сил и средств. 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точнение планов действий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7" name="Picture 2" descr="object_44"/>
          <p:cNvPicPr/>
          <p:nvPr/>
        </p:nvPicPr>
        <p:blipFill>
          <a:blip r:embed="rId8"/>
          <a:stretch/>
        </p:blipFill>
        <p:spPr>
          <a:xfrm rot="622200">
            <a:off x="7666200" y="5441760"/>
            <a:ext cx="1068120" cy="133020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6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45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55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63363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57240">
            <a:noFill/>
          </a:ln>
        </p:spPr>
        <p:txBody>
          <a:bodyPr lIns="90000" rIns="90000" tIns="45000" bIns="45000"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ff3300"/>
                </a:solidFill>
                <a:latin typeface="Arial Black"/>
              </a:rPr>
              <a:t>ДЕЙСТВИЯ РСЧС в режиме ЧРЕЗВЫЧАЙНОЙ СИТУАЦИИ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рганизация защиты населения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пределение границ ЧС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рганизация  ликвидации</a:t>
            </a:r>
            <a:r>
              <a:rPr b="1" lang="en-US" sz="41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ЧС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Работы по первоочередному обеспечению пострадавшего населения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Непрерывный контроль за состоянием окружающей среды и обстановкой на аварийных объектах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00560" cy="796680"/>
          </a:xfrm>
          <a:prstGeom prst="rect">
            <a:avLst/>
          </a:prstGeom>
          <a:solidFill>
            <a:srgbClr val="ffe697"/>
          </a:soli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000000"/>
                </a:solidFill>
                <a:latin typeface="Constantia"/>
              </a:rPr>
              <a:t>Структура сил и средств РСЧС</a:t>
            </a:r>
            <a:r>
              <a:rPr b="0" lang="ru-RU" sz="2800" spc="-100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0" name="Содержимое 3" descr="http://culture.mchs.gov.ru/upload/learning/img/Les1/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93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93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193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193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7410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К силам и средствам ликвидации чрезвычайных ситуаций РСЧС относят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йска гражданской обороны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исково-спасательную службу МЧС Росси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енизированные и невоенизированные противопожарные, аварийно-спасательные, аварийно-восстановительные, восстановительные и аварийно-технические формирования федеральных органов исполнительной власт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я и учреждения Всероссийской службы медицины катастроф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я ветеринарной службы и службы защиты растений Минсельхозпрода Росси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енизированные службы Росгидромета по активисту воздей­ствию на гидрометеорологические процессы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1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Домашнее задание:</a:t>
            </a: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1. Подготовить реферат на тему – «Состав сил и средств наблюдения и контроля РСЧС».</a:t>
            </a: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Подготовиться к тестовой работе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3" descr="http://culture.mchs.gov.ru/upload/learning/img/Les1/123werthyjuk.JPG"/>
          <p:cNvPicPr/>
          <p:nvPr/>
        </p:nvPicPr>
        <p:blipFill>
          <a:blip r:embed="rId1"/>
          <a:stretch/>
        </p:blipFill>
        <p:spPr>
          <a:xfrm>
            <a:off x="3420000" y="260640"/>
            <a:ext cx="2592000" cy="1944000"/>
          </a:xfrm>
          <a:prstGeom prst="rect">
            <a:avLst/>
          </a:prstGeom>
          <a:ln w="9525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07640" y="2277000"/>
            <a:ext cx="8928720" cy="458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исково-спасательной службы в России раньше не было. 27 декабря 1990 г. было принято постановление Совета Министров России «Об образовании Российского корпуса спасателей на правах государственного комитета РСФСР»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Этот день - 27 декабря, с 1995 г. отмечается как День  спасателя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2" name="audio1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195640" y="116640"/>
            <a:ext cx="6840360" cy="66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360000" algn="just">
              <a:lnSpc>
                <a:spcPct val="110000"/>
              </a:lnSpc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виация МЧС Росс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лючает в себя государственное унитарное авиационное предприятие и отдельные вертолетные отряды, находящиеся в подчинении региональных центров министерств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располагает разнообразной по своим возможностям и предназначению авиационной технико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5" name="Содержимое 4" descr="http://culture.mchs.gov.ru/upload/img/%7B38FC82C4-627B-49CD-BF2B-C28CC04B4A04%7D.jpg"/>
          <p:cNvPicPr/>
          <p:nvPr/>
        </p:nvPicPr>
        <p:blipFill>
          <a:blip r:embed="rId1"/>
          <a:stretch/>
        </p:blipFill>
        <p:spPr>
          <a:xfrm>
            <a:off x="0" y="0"/>
            <a:ext cx="2016000" cy="216000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Противопожарная служба МЧС России </a:t>
            </a:r>
            <a:br>
              <a:rPr sz="2400"/>
            </a:b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7" name="Содержимое 5" descr="http://culture.mchs.gov.ru/upload/learning/img/Les1/%7bB507F377-171E-4FEC-9467-C0F25E04DBD2%7d.jpg"/>
          <p:cNvPicPr/>
          <p:nvPr/>
        </p:nvPicPr>
        <p:blipFill>
          <a:blip r:embed="rId1"/>
          <a:stretch/>
        </p:blipFill>
        <p:spPr>
          <a:xfrm>
            <a:off x="683640" y="1124640"/>
            <a:ext cx="7488360" cy="518436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34000"/>
          </a:bodyPr>
          <a:p>
            <a:pPr indent="0">
              <a:lnSpc>
                <a:spcPct val="115000"/>
              </a:lnSpc>
              <a:spcAft>
                <a:spcPts val="1199"/>
              </a:spcAft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Медицина катастроф</a:t>
            </a:r>
            <a:r>
              <a:rPr b="0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 </a:t>
            </a:r>
            <a:br>
              <a:rPr sz="2400"/>
            </a:br>
            <a:r>
              <a:rPr b="0" lang="ru-RU" sz="2200" spc="-100" strike="noStrike">
                <a:solidFill>
                  <a:srgbClr val="333333"/>
                </a:solidFill>
                <a:latin typeface="Tahoma"/>
                <a:ea typeface="Times New Roman"/>
              </a:rPr>
              <a:t>Госпиталь МЧС России. Кабул. 2002 г. 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9" name="Содержимое 3" descr="http://culture.mchs.gov.ru/upload/learning/img/Les1/%7B9DF931B4-3BF5-4FE3-86D6-EDDC7ECDDF45%7D.jpg"/>
          <p:cNvPicPr/>
          <p:nvPr/>
        </p:nvPicPr>
        <p:blipFill>
          <a:blip r:embed="rId1"/>
          <a:stretch/>
        </p:blipFill>
        <p:spPr>
          <a:xfrm>
            <a:off x="683640" y="1268640"/>
            <a:ext cx="7920360" cy="496836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К силам и средствам наблюдения и контроля РСЧС относятся: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ужбы (учреждения) и организации федеральных органов исполнительной власти, осуществляющие наблюдение и контроль за состоянием окружающей природной среды, обстановкой на потенциально опасных объектах и прилегающих к ним территори­ях, анализ воздействия вредных факторов на здоровье населения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формирования Госсанэпиднадзор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ветеринарная служба Минсельхозпрод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ужбы (учреждения) наблюдения и лабораторного контроля за качеством пищевого сырья и продуктов питания Минсельхозпрода и Минторг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геофизическая служба Российской академии наук, оператив­ные группы постоянной готовности Росгидромета и подразделе­ния Минатом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учреждения Агентства по мониторингу чрезвычайных ситуа­ций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учреждения сети наблюдения и лабораторного контроля ГО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000000"/>
                </a:solidFill>
                <a:latin typeface="Constantia"/>
              </a:rPr>
              <a:t>Состав сил и средств наблюдения и контроля РСЧС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186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РСЧС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908640"/>
            <a:ext cx="9036000" cy="541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Постановлением Правительства РФ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от 18 апреля 1992 г. № 261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была создана Российская система предупреждения и действий в чрезвычайных ситуациях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(сокращенно РСЧС),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преобразованная 5 ноября 1995 г. постановлением Правительства Российской Федерации № 1113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в единую государственную систему предупреждения и ликвидации чрезвычайных ситуаций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21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Franklin Gothic Book"/>
                <a:hlinkClick r:id="rId1" action="ppaction://hlinksldjump"/>
              </a:rPr>
              <a:t>Российская система </a:t>
            </a:r>
            <a:r>
              <a:rPr b="1" lang="ru-RU" sz="4400" spc="-1" strike="noStrike" u="sng">
                <a:solidFill>
                  <a:srgbClr val="cc9900"/>
                </a:solidFill>
                <a:uFillTx/>
                <a:latin typeface="Franklin Gothic Book"/>
                <a:hlinkClick r:id="rId2" action="ppaction://hlinksldjump"/>
              </a:rPr>
              <a:t>предупреждения и действий в чрезвычайных ситуациях</a:t>
            </a:r>
            <a:endParaRPr b="0" lang="ru-RU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24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3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Создана для предупреждения и действий в чрезвычайных  ситуациях , объединяет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: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4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ы управления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5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силы и средства Федеральных  органов исполнительной власти 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6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ов исполнительной власти субъектов РФ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7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ов местного самоуправления  и организаций , в полномочия которых входит решение вопросов защиты населения и территорий от чрезвычайных ситуаций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5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45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5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fdc9f"/>
            </a:gs>
            <a:gs pos="100000">
              <a:srgbClr val="f3e7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410082"/>
                </a:solidFill>
                <a:uFillTx/>
                <a:latin typeface="Lucida Sans"/>
                <a:hlinkClick r:id="rId1" action="ppaction://hlinksldjump"/>
              </a:rPr>
              <a:t>Чрезвычайные ситуации</a:t>
            </a:r>
            <a:endParaRPr b="0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640" y="1143000"/>
            <a:ext cx="871272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резвычайная ситуация(ЧС) -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обстановка на определё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среде, значительные материальные потери и нарушение условий жизнедеятельности людей.</a:t>
            </a:r>
            <a:endParaRPr b="0" lang="ru-RU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5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4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Цели и задачи РСЧС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9" name="Содержимое 3" descr="http://culture.mchs.gov.ru/upload/learning/img/Les1/ta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"/>
          </a:bodyPr>
          <a:p>
            <a:pPr indent="0" algn="ctr">
              <a:lnSpc>
                <a:spcPct val="115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100" spc="-1" strike="noStrike">
                <a:solidFill>
                  <a:srgbClr val="333333"/>
                </a:solidFill>
                <a:latin typeface="Calibri"/>
                <a:ea typeface="Calibri"/>
              </a:rPr>
              <a:t>Структура РСЧС</a:t>
            </a:r>
            <a:r>
              <a:rPr b="1" lang="ru-RU" sz="3100" spc="-1" strike="noStrike">
                <a:solidFill>
                  <a:srgbClr val="333333"/>
                </a:solidFill>
                <a:latin typeface="Tahoma"/>
                <a:ea typeface="Calibri"/>
              </a:rPr>
              <a:t> </a:t>
            </a:r>
            <a:br>
              <a:rPr sz="36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640" y="404640"/>
            <a:ext cx="885672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СЧС строится по территориально-производственному принцип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состоит из территориальных и функциональных подсистем и 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5 уровней управления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едер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гион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рритори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ный,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indent="397800" algn="just">
              <a:lnSpc>
                <a:spcPct val="120000"/>
              </a:lnSpc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ектовый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альные подсистемы РСЧС создаются в субъектах Российской Федерации для предупреждения и ликвидации чрезвычайных ситуаций в пределах их территорий и состоят из звеньев, соответствующих административно-территориальному делению этих территорий.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indent="397800" algn="just">
              <a:lnSpc>
                <a:spcPct val="120000"/>
              </a:lnSpc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венья (местный уровень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здаются в муниципальных образованиях (район, населенный пункт) для предупреждения ликвидации чрезвычайных ситуаций в пределах их территорий.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453" name="Содержимое 3" descr="http://culture.mchs.gov.ru/upload/learning/video/Les1/%7bE2F9D7AD-3740-49D9-A300-CAF9BA838F1A%7d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455" name="Содержимое 3" descr="http://culture.mchs.gov.ru/upload/learning/video/Les1/1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1_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1_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8474</TotalTime>
  <Application>LibreOffice/7.4.7.2$Linux_X86_64 LibreOffice_project/40$Build-2</Application>
  <AppVersion>15.0000</AppVersion>
  <Words>841</Words>
  <Paragraphs>9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Важный</cp:category>
  <dcterms:created xsi:type="dcterms:W3CDTF">2009-02-19T12:04:56Z</dcterms:created>
  <dc:creator>Иванов М.А.</dc:creator>
  <dc:description/>
  <cp:keywords>Основы безопасности жизнедеятельности</cp:keywords>
  <dc:language>en-US</dc:language>
  <cp:lastModifiedBy>Васько Александр Васильевич</cp:lastModifiedBy>
  <dcterms:modified xsi:type="dcterms:W3CDTF">2022-10-25T05:29:02Z</dcterms:modified>
  <cp:revision>1198</cp:revision>
  <dc:subject>ОБЖ</dc:subject>
  <dc:title>РСЧС-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