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195-1905-49D9-9FF3-DD93F208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A7B-3B39-4BB3-AC3A-F3E73F31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0D1-98D1-4698-8EE3-F037DD8B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A39-6C31-44CA-8ECE-8EAA3ABF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AEE5-BAC1-47B6-A07E-AFFBD103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BF10-50E8-454E-94B1-96D1D60A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DA90-195F-4055-ACEB-641A9965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B798-EC12-4551-B8D0-2BE48726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C93B-5182-4A7D-B592-7C354518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8F11-3304-4680-B2F6-D9A6258A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5DFE-D8FA-4728-9B6E-367A433D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FF7-C7E1-47B4-A85F-7D7C80DA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2810-009B-4A17-8EF1-D20FEAE9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002F-AF2E-4448-8E6C-69B537E3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3504-BC51-43B5-A130-577670AA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99CC-4D59-470A-ADED-A0D1AF71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B82F-C246-4B0F-8E51-B9923B74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9427-4758-429A-9524-F006F9B7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9524-9119-490C-9C76-C6912EFF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1C3D8-394E-4896-B87A-DB9B847E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81DA6-ECC8-4CF6-A3E1-7B7EF1CC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D2D4C-9F42-478B-A4E8-7AF6174B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7CF-4B0C-4372-BCC8-1E0BF7B8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22B5-C9E4-4361-B0A6-73D93A30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62C2-B444-4671-A235-5F3C1076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3D63-D882-41ED-88A1-F91774E2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FF1C-8670-4CA9-BD9A-2E3840EA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3984-2AD9-4252-9FE6-5A7BEE3C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8B5A-8E7D-422F-9EC7-859148F0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45B5E-B6AB-48B5-832E-8C1BA109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BF821-8BCE-46DA-897F-0756E7B4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30333-D25E-4BAC-9405-43E54893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7C06-5B8B-4465-90A0-BE314B2B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474-8212-43FA-A50C-C9403169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E0F09-6386-4C0D-B398-17E1B73F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75735-D625-4044-B829-591BD2DF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621C5-0FD3-4C72-8C21-A1D25603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6407-6E43-4DBB-9AB4-6AAEE07F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71836-401D-431A-8398-3C270999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D85E2-4EBD-4B3E-BAC2-781BF6F0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F53C-4EBB-4049-B4A4-C73DAC03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DFBA9-EB88-4BD7-9CD7-25AD753F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19E66-F652-40F5-AC8D-A1D662B4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A247A-A46A-4F8F-90DD-B270FE89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CFB-9F2E-45C4-B09B-AD6C6DC4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F6DB9-F842-4E9C-8F06-8F697322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08E8E-4DD5-4887-A653-A3D97F3C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59D5E-A272-4EA8-BCC4-097C86E1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E6C75-5885-4192-B9DC-F80477ED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C565E-DF33-456E-8CFD-3A852C07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EA6BB-7615-461E-B7FE-90BF40E7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CA951-9827-4957-BEDA-03B162E4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4A2BD-F836-4A23-AE99-DBD1468D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135E3-6E7A-4311-9A45-59B3D3D8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F0483-D53F-417A-B544-5B9F4684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2AF-D3F1-4A3F-8F35-0FF6A4EB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C8B2E-0BEC-4CAF-939D-4E1387B8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4666D-07D6-4280-99B3-2B84805E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FA37F-C2EB-429D-895E-CFB3E3BA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EBF76-F6B3-412B-B518-6690F8D7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88229-672B-411A-A5E9-3AC3D616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91BEF-65A2-4597-95FD-C822C3E0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59F8A-6C88-42D1-9EE6-F7A91A70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62B03-5EDE-4AC9-9973-0124ABBB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4F0E2-169A-4A89-87E9-649B445D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70A65-4E8D-44D3-9E06-E882818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059-899A-4AEA-94E2-D65B8D3F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FCC3C-6038-4197-A939-FC21ACB3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816A4-D8F2-4DD3-86F3-6ABCAD22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0083D-34FB-44B4-9795-3E280E55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DEAFA-B37E-427B-8333-E0DA1C6B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712CB-A1FA-4100-B5D1-5EFC722F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D0545-875A-44B8-A766-BA659F5B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B740F-DBE4-4F66-9C45-95F84D7B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F7939-E9C4-46B5-AECB-06B1CFD1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4D61B-0964-47A0-958F-944FE989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24933-5C13-4692-AB17-C83AE506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12D-0CF0-415C-BF01-DE9D0C27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B1474-2370-447C-9656-11E226EB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A5B5B-E95D-4022-AA85-FCADC286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561F1-73E1-4E23-BE38-5EF45AA4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F28C5-0A04-4F0B-8BD4-D7A33A0C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AF160-F275-4E05-8ACD-E2AC434E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C54-4D15-4B48-AFAE-09EECC99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D4B8-61EF-4D90-BE43-E8E05068547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25440" y="1407960"/>
            <a:ext cx="298440" cy="225720"/>
            <a:chOff x="1225440" y="1407960"/>
            <a:chExt cx="2984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25440" y="1407960"/>
              <a:ext cx="2984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7A38-7C61-405F-931D-42A241E99CC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89360" y="2809800"/>
            <a:ext cx="298440" cy="225360"/>
            <a:chOff x="2889360" y="2809800"/>
            <a:chExt cx="298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89360" y="2809800"/>
              <a:ext cx="298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0DE8-6319-43D4-BB67-AB0B2F27E40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F6B5-4BC2-4845-A6D3-60CF3CE3B3F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D98F-BAAE-4C8F-82B4-9895C990192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A991-8659-45CE-B871-A4DBE363BA1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1800" y="969840"/>
            <a:ext cx="6327720" cy="4802400"/>
            <a:chOff x="901800" y="969840"/>
            <a:chExt cx="632772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1800" y="969840"/>
              <a:ext cx="632772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E001-3CE0-4172-9F33-5DC5F4E909F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60160" y="442800"/>
            <a:ext cx="11350440" cy="59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3. Сознание, душа и язык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ссоциированный профессор кафедры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о-гуманитарных дисциплин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ндидат исторических наук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улденов Алибек Нурмагамбетови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34960" y="404280"/>
            <a:ext cx="1137600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индивидуальна и субъективна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совершенствуется, обретая духовную силу и объем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человека являет собой нечто совершенно уникальное. Эта уникальность формируется и природной данностью, и воспита­нием, которое получает человек на стадии детства в семье, школе и в обществе, в жизни среди своего народа, а также приобщаясь к Общечеловеческим ценностям культуры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каждого человека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-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угубо индивидуальный феномен, она представляет и выражает собой уникальные особенности данной личности.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29920" y="426600"/>
            <a:ext cx="1138068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о являет собой ту же жизнь, что и душа, и, тем не менее, их можно назвать различными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без тела не была бы живой земной душой, также и наоборот: тело человека само по себе не имеет самодостаточной силы жизни - оно «получает» ее животворящей силой душ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ичие у нас души есть, таким образом, абсо­лютное условие нашего бытия, самый неотъемлемый принцип нашей жизни, и в этом смысле знаменитый принцип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. Декарта «Я мыслю, следовательно, существую» совершенно неоспорим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501120" y="426600"/>
            <a:ext cx="1140948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физически организован­ного человека выражает себя в его реальном облике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идимость телесного облика есть лишь внеш­нее выражение нашей души.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еловек есть душевно-телесное, психо­физическое существо, или иначе: человек есть одушевленное тело или телесно воплощенная душ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приобретает форму индивидуального субъекта, что выра­жается в особенностях темперамента, характера, таланта и иных предрасположений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295200" y="323640"/>
            <a:ext cx="1161576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есть мышление, замечаемые и незамечаемые ощущения, представ­ления, волнения и составляемые понятия, суждения, умозаключе­ния, решения, волевые акты, целеполагание и другие духовные фе­номены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сль неотделима от мыслящей материи и является ее продуктом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это так, то не есть ли она разновидность материи? Именно так полагали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ульгарные материалисты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Л. Бюхнер, О. Фогт, М. Молешотт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и считали, будто мысль находится примерно в таком же отношении к мозгу, как желчь к печени. Сведение сознания к физическим реакциям организма характерно и для такого направления в психологии, как бихевиоризм (Р. Уотсон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67920" y="264600"/>
            <a:ext cx="11542680" cy="59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знание как онтологическая проблем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ществует не только как нечто принадлежащее данному субъекту, но и в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иде форм общественного сознания, зафиксированных средствами языка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льзя отрицать реальности сознания: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особая форма бытия сущего.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нание может отрываться от непосредственного отражения действительност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 - одна из форм проявления нашей души, при этом очень существенная форма, преисполненная глубокого содержания.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09760" y="364680"/>
            <a:ext cx="114012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это высшая, свойственная только людям и связанная с речью функция мозга, заключающаяся в обобщенном и целенаправленном отражении действительности, в предварительном мысленном построении действий и предвидении их результатов, в разумном регулировании и самоконтролировании поведения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(Спиркин А.Г. Философия. М., 2004. – 736 с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67920" y="162000"/>
            <a:ext cx="11542680" cy="63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 -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ояние психической жизни организма, выражающееся в субъективном переживании событий внешнего мира и тела организма, а также в отчёте об этих событиях и ответной реакции на эти событ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нание может пониматься в более широком или более узком смысле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очки зрения теории отражения, сознание в широком смысле -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сихическое отражение действительности независимо от того, на каком уровне оно осуществляется - биологическом или социальном, ощущаемом или чувственном», а в узком смысле - основанная на культуре «высшая, свойственная только людям и связанная со способностью интерпретировать мысли функция мозга, заключающаяся в обобщённом и целенаправленном отражении действительности, в предварительном мысленном построении действий и предвидении их результатов, в разумном регулировании и самоконтролем поведения человека за счёт рефлексии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 Большом энциклопедическом словаре (2000)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 определяется как «высшая форма психического отражения, свойственная общественно развитому человеку и связанная с речью, идеальная сторона целеполагающей деятельности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295200" y="264960"/>
            <a:ext cx="11615760" cy="632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нание неоднородно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широком смысле слова под ним имеют в виду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ическое отражение действительности независимо от того, на каком уровне оно осуществляется - биологическом или со­циальном, чувственном или рациональном, тем самым подчеркива­ется его отношение к материи без выявления специфики его струк­турной организаци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более узком и специальном значении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д сознанием подразу­мевают не просто психическое состояние, а высшую, собственно человеческую форму психического отражения действительности.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339840"/>
            <a:ext cx="11453760" cy="60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е сознания наиболее отчетливо выделяются 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сознание вещей, а также переживание, т.е. определенное отноше­ние к содержанию того, что отражается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щущения, восприятия, представления, понятия, мышление в целом образуют ядро сознания.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увства, эмоции суть компоненты структуры сознания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ческие чувств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это факт сознания, отражение мира и выражение отношения человека к удовлетворению или неудовле­творению его потребностей, интересов, соответствия или несоот­ветствия чего-либо его представлениям и понятиям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3760" y="560160"/>
            <a:ext cx="11526840" cy="60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нание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это не сумма множества составляющих его элементов, а их интегральное, 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жно-структурированное целое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снове всех психических процессов лежит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амять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ность мозга запечатлевать, сохранять и воспроизводить информацию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ущей силой поведения и сознания людей является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требность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ояние неустойчивости организма как системы, его нужды в чем-то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01120" y="515880"/>
            <a:ext cx="11409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Душа, рассудок, разум, ду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знание как онтологическая проблем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Мышление и язык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71600" y="456840"/>
            <a:ext cx="11439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Мышление и язык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Язык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общем смысле понимается как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некая система знаков, служащая человеку для получения, хранения и переработки информации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ервичным является естественный человеческий язык, исторически сложившаяся речь, система слов, служащая для мышления и общения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509760" y="456840"/>
            <a:ext cx="114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новение членораздельной речи стало мощным средством дальнейшего развития человека, его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я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агодаря языку осуществляется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ередача социального опыта, культурных норм и традиций, через язык реализуется преемственность различных поколений и исторических эпох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Язык так же древен, как и сознание: «Один только человек из всех живых существ одарен речью» (Аристотель)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87520" y="417240"/>
            <a:ext cx="1132344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ущность языка выявляется в его двуединой функции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служить средством общения;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являться орудием мышления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ечь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это деятельность, сам процесс общения, обмена мыслями, чувствами, пожеланиями, целеполаганиями и т.п. который осуществляется с помощью языка, то есть определенной системы средств общени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зык – это система содержательных, значимых форм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Язык выполняет роль механизма социальной наследственности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4960" y="274320"/>
            <a:ext cx="1137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зык выполняет 2 главные функции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Содержимое 4" descr=""/>
          <p:cNvPicPr/>
          <p:nvPr/>
        </p:nvPicPr>
        <p:blipFill>
          <a:blip r:embed="rId1"/>
          <a:stretch/>
        </p:blipFill>
        <p:spPr>
          <a:xfrm>
            <a:off x="1011240" y="1407960"/>
            <a:ext cx="10309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587520" y="352440"/>
            <a:ext cx="11323440" cy="58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зык - это специфически человеческий способ бытия сознания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служит для фиксирования, воспроизведения, передачи и приема мыслей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зык мог возникнуть только в обществе, т.е. он социально обусловлен. Он является важнейшим средством развития человеческой культуры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процесс использования языка с целью усвоения и передачи социальной информации, обмена мыслями называют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ечью.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26880" y="417240"/>
            <a:ext cx="1158408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тог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общества сознание сформироваться не может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- продукт общества, результат социальной, материально-производственной, познавательной деятельности общественного человека, всех предшествующих поколений людей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, мышление, сознание недоступны человеку, выросшему вне социальной среды, вне общества людей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созн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следующие принципиальные моменты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- продукт общественно-исторического развития человечеств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- функциональное свойство мозга, идеальное отражение действительности, регулятор деятельности человек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- сложный информационно-регулятивный процесс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49360" y="398520"/>
            <a:ext cx="1136160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греч. </a:t>
            </a:r>
            <a:r>
              <a:rPr b="0" lang="el-GR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ψυχή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 лат. </a:t>
            </a:r>
            <a:r>
              <a:rPr b="0" i="1" lang="la-V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nima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 - согласно религиозным и некоторым философским учениям, 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ссмертная субстанция, нематериальная сущность, в которой выражена божественная природа и сущность человека, его личность, дающая начало и обуславливающая его жизнь, способность ощущения, мышления, сознания, чувств и воли, обычно противопоставляемая телу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9440" y="444240"/>
            <a:ext cx="11441160" cy="60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религиозных и идеалистических представлениях -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материальное начало жизни, иногда противополагаемое телу; бесплотное существо, остающееся после смерти тела человека;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старевшей психологической терминологии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- совокупность психических явлений, переживаний, основа психической жизни человека; внутренний, психический мир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ковый словарь русского языка Д. Н. Ушаков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22000" y="379080"/>
            <a:ext cx="11388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ревнегреческой философи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стала рассматриваться в качестве философского понятия, доступного рациональному анализу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ократики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задавались вопросом о душе и особенно о связи её и тела - двух фундаментальных измерений человеческого существования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крат и его ученик Платон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читали, что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принадлежит миру идеальных сущностей и является активным началом, несущим в себе идеи.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91680" y="444600"/>
            <a:ext cx="11518920" cy="58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очки зрения 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тона,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уша и тело существуют отдельно друг от друга. Душа является «эйдосом жизни» и не подвержена смерти, смерть изгоняет душу из тела, но не может уничтожить её, так как она неуничтожим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 Платону,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является бессмертной и нематериальной и предшествует существованию в физическом теле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 рождения человека душа созерцает идеи в нематериальном мире, а после того, как вселяется в тело, «забывает» их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юда суждение Платона о том, что все знания - лишь воспоминание забытых идей, познанных душой до рождения.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91680" y="234720"/>
            <a:ext cx="1151892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Аристотель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зывает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у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ой 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энтелехией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жизнеспособного тел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только разумная душа человека (дух) может быть отделена от тела и является бессмертной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Аристотель различает три рода душ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стительная (способная к питанию и размножению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животная (чьи функции - ощущение и передвижение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умная (свойственна только человеку, её функция - мышление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ческая душа является главенствующей, ей присущ разум, и она может существовать вне тела. Разум имеет божественную природу – Логос, который является всеобщим законом мира и мышления человека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осом Аристотель объяснял волеизъявление человека, невозможное у животных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65040" y="417240"/>
            <a:ext cx="115459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8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мокрит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читал, что душа есть у всего, она присутствует даже у неодушевлённых объектов (например, камней), только в очень малой мер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состоит из огненных шарообразных элементов и способна реагировать на воздействие более плотных веществ окружающей среды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состоит из атомов и является смертной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ние - процесс обмена внутренней души с внешней: вдыхая, человек или животное наполняется внешней душой, выдыхая, оставляет в воздухе частицы собственной души. Поэтому душа изменчива. Состояние души зависит от подвижности составляющих её атомов. В старости число подвижных атомов уменьшаетс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79440" y="280800"/>
            <a:ext cx="1153152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пикурейцы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дполагали, что душа, как и тело, состоит из движущихся в пустоте атомов. Со смертью они рассеиваются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пикуру приписывают афоризм: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мерть не имеет к нам никакого отношения; когда мы есть, то смерти ещё нет, когда же смерть наступает, то нас уже нет»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ики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акже считали душу материальной и состоящей из тонкой пневмы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ому они полагали, что душа умирает вместе с телом или в скором времени после него, распадаясь в пространств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тоики сравнивали душу младенца с «чистым листом папируса», таким образом они являются авторами концепции tabula ras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9T06:59:22Z</dcterms:created>
  <dc:creator>User</dc:creator>
  <dc:description/>
  <dc:language>en-US</dc:language>
  <cp:lastModifiedBy>user</cp:lastModifiedBy>
  <dcterms:modified xsi:type="dcterms:W3CDTF">2024-02-05T04:46:39Z</dcterms:modified>
  <cp:revision>534</cp:revision>
  <dc:subject/>
  <dc:title>NAME OF  PRESENTATION</dc:title>
</cp:coreProperties>
</file>