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3EBF-C4A1-4BCC-B38E-772D7ACA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DBB-6F3D-46BB-806A-217CDB49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B9EB-E945-47E5-B234-12E11FFD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7810-24B3-4528-8A75-D3C38FFE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C605-E400-4232-9E36-601533D2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75AE-215A-4BB8-85F4-68C5EC01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9AE5-E3D5-4C25-AF1E-C7C73B91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4846-13BB-4168-AF85-06445E02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A9EB-B6F9-49E6-AFB4-1171C9F1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F2C2-32C1-42DE-9969-7A36BE00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EF08-56BD-41FA-ADF7-A9C4A306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9F35-5B39-44CF-B6D8-68E1E03B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0259-030D-44F6-955E-CB9A2D11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AE76-394B-43DF-9DC6-C2C4E343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5919-0A52-41FE-94EE-62FCEF27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24DE-2D36-4AEC-B3D5-D9ECA9AB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6D24-416A-426D-A3B4-B6B379E9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58375-46B9-4EFB-AECA-90F93F32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94DF9-F82B-468C-B3BA-A2DBD249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3A46B-8D18-4FEC-8CFC-E6903C8D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110B5-4E16-4B04-961A-4FC2B820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D6BC8-99F6-4E3D-892E-14778CCA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5EFC-039E-47DE-9884-9F7B15F8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FAEB3-3AA6-4B48-AEB6-3BD98D99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CE0CE-B952-425B-B3AB-FA7F72BE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9F783-6EAC-42B9-BDEF-A1575E96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20A6A-6437-4477-B37F-1F6ABB2E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83B82-EF36-4B96-9FFD-3B1EE694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E9D8D-BCFF-4C5F-AE1E-EC034DE7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2B750-8885-4387-B61E-1D637AC2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18ED7-DD70-462A-BCAD-B0E46DEB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1A974-7F51-476F-8E2F-3D707A18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CC757-D5CE-4B21-B78A-B071FDD6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97D-ABE5-4FD1-A01D-7992DB86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8CB78-D06E-4738-BF19-8C3104CA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058B8-3908-497A-BAA9-F3ABC98F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18483-2B02-4FB7-A154-7F344755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97990-8ED0-48DB-9DA7-815915E5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5352D-913F-4D8F-BEE7-179750B2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5EE3B-AEFC-448A-910A-061A9E08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1C09C-0858-4ED1-AA0D-53CF4876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717CA-C71E-4641-BF08-CD7CE176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F933A-DEE3-4E03-82B3-FCF08C4E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D9AF0-4C19-4656-9924-1594835D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202-B556-4423-B9E0-1FA86614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568F2-9903-452E-8095-BB2FB32B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C6D16-15CB-4EDC-8FFF-3F9A5583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399E8-9868-4846-A2AB-635007CF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AC96C-50CC-4CC1-9CAC-D7202618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2E51E-7AE4-461D-BE7E-E4DEE189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D772F-9BE7-4F96-9251-BBC82428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5DCFE-BFAE-4C9A-90CE-EB694A3A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FD94C-EA10-48D8-AB3C-EF4F3A9B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F650F-DF90-432E-A2D5-7969176D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97A20-F7D7-4323-B699-F93AB3FC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D06-B933-496D-A043-ED0564F2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79D3E-732F-4309-8380-26EC13AC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2A43B-03A7-4981-A529-324B5F08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4C9C5-EFB8-41D9-A7B7-7B3691BE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07296-FB56-49BE-8171-29A346ED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01842-27B3-4A0F-8D10-F2C9F8B6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C23A9-4AB6-452E-8B1E-19B153AF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8000B-3A10-42EB-BF56-71C9DF40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95FE9-6665-4F63-94A1-847E8A4B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667E2-6BD6-4F05-A1C6-2FE9B870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9DA87-2E32-4959-8BD0-FEC3D265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80D-8BD2-4257-A5D9-F525AA91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6FCDC-FBA1-4635-B0C5-99ED4973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81C74-6BF0-40A2-B3B3-58640E4F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D7278-4239-4B37-AA88-882EE5A8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5730B-FC62-4BA1-88F8-F995F7C9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55503-9E27-4EDA-943E-7455D1AA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E35FD-FF36-4A48-895C-B85C21A6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9184E-1FBB-412D-8748-1C51526C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7B1C2-5D09-4E42-A5D5-4ADA7A50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724E2-D8C3-4511-9C82-9DD330B6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14AFF-8010-4908-B702-C83B6005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013-6270-4C49-A8C7-D87A6AF2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E3AE6-4715-46F0-9F32-87DBFEF3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7A71C-B812-4F0C-AFA3-12B4AF8F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32B3A-2528-48B3-AB37-E72B08BF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3EE2A-523F-4D29-91AF-7B885187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A021F-F605-4507-90D5-7F3E7895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8E05-CE89-4F2A-8870-9EDF9BED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>
              <a:gd name="textAreaLeft" fmla="*/ 319680 w 2184480"/>
              <a:gd name="textAreaRight" fmla="*/ 1864800 w 218448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2184401" h="1638300">
                <a:moveTo>
                  <a:pt x="2184401" y="819150"/>
                </a:moveTo>
                <a:lnTo>
                  <a:pt x="2184401" y="819150"/>
                </a:lnTo>
                <a:arcTo wR="1092201" hR="819150" stAng="0" swAng="5402124"/>
                <a:lnTo>
                  <a:pt x="10922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86E4-56DC-471E-AF9A-E5BE1F7194E7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>
              <a:gd name="textAreaLeft" fmla="*/ 319680 w 2184480"/>
              <a:gd name="textAreaRight" fmla="*/ 1864800 w 218448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2184401" h="1638300">
                <a:moveTo>
                  <a:pt x="2184401" y="819150"/>
                </a:moveTo>
                <a:lnTo>
                  <a:pt x="2184401" y="819150"/>
                </a:lnTo>
                <a:arcTo wR="1092201" hR="819150" stAng="0" swAng="5402124"/>
                <a:lnTo>
                  <a:pt x="10922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1225440" y="1407960"/>
            <a:ext cx="298440" cy="225720"/>
            <a:chOff x="1225440" y="1407960"/>
            <a:chExt cx="2984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1225440" y="1407960"/>
              <a:ext cx="2984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70080" y="1444680"/>
              <a:ext cx="1983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542960" y="1344600"/>
            <a:ext cx="8568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40B2-D745-4AAC-93D2-4CE4271CA1F7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304308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3048120" y="0"/>
            <a:ext cx="101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889360" y="2809800"/>
            <a:ext cx="298440" cy="225360"/>
            <a:chOff x="2889360" y="2809800"/>
            <a:chExt cx="2984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889360" y="2809800"/>
              <a:ext cx="2984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936880" y="2844720"/>
              <a:ext cx="198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3211560" y="2746440"/>
            <a:ext cx="8424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DFC6-C675-43EA-9360-72424F0FF1D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4D06-0DF4-4CE8-8351-AF4AD11037A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352520" y="0"/>
            <a:ext cx="1083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E172-4155-4028-A64A-A8FAAEB605C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FDB7-3C1E-4B32-973F-3936033ACAE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901800" y="969840"/>
            <a:ext cx="6327720" cy="4802400"/>
            <a:chOff x="901800" y="969840"/>
            <a:chExt cx="632772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901800" y="969840"/>
              <a:ext cx="632772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15920" y="1066680"/>
              <a:ext cx="609624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528120" y="953640"/>
            <a:ext cx="9144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6672240" y="936360"/>
            <a:ext cx="86508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DCDD-109F-4A87-A401-17A078151A9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60160" y="442800"/>
            <a:ext cx="11350440" cy="59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3. Сознание, душа и язык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ссоциированный профессор кафедры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ально-гуманитарных дисциплин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ндидат исторических наук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улденов Алибек Нурмагамбетович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534960" y="404280"/>
            <a:ext cx="11376000" cy="584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уша индивидуальна и субъективна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уша совершенствуется, обретая духовную силу и объем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человека являет собой нечто совершенно уникальное. Эта уникальность формируется и природной данностью, и воспита­нием, которое получает человек на стадии детства в семье, школе и в обществе, в жизни среди своего народа, а также приобщаясь к Общечеловеческим ценностям культуры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уша каждого человека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- 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угубо индивидуальный феномен, она представляет и выражает собой уникальные особенности данной личности.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529920" y="426600"/>
            <a:ext cx="1138068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ло являет собой ту же жизнь, что и душа, и, тем не менее, их можно назвать различными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без тела не была бы живой земной душой, также и наоборот: тело человека само по себе не имеет самодостаточной силы жизни - оно «получает» ее животворящей силой души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ичие у нас души есть, таким образом, абсо­лютное условие нашего бытия, самый неотъемлемый принцип нашей жизни, и в этом смысле знаменитый принцип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. Декарта «Я мыслю, следовательно, существую» совершенно неоспорим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501120" y="426600"/>
            <a:ext cx="1140948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физически организован­ного человека выражает себя в его реальном облике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идимость телесного облика есть лишь внеш­нее выражение нашей души.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еловек есть душевно-телесное, психо­физическое существо, или иначе: человек есть одушевленное тело или телесно воплощенная душ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приобретает форму индивидуального субъекта, что выра­жается в особенностях темперамента, характера, таланта и иных предрасположений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295200" y="323640"/>
            <a:ext cx="1161576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есть мышление, замечаемые и незамечаемые ощущения, представ­ления, волнения и составляемые понятия, суждения, умозаключе­ния, решения, волевые акты, целеполагание и другие духовные фе­номены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сль неотделима от мыслящей материи и является ее продуктом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это так, то не есть ли она разновидность материи? Именно так полагали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ульгарные материалисты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Л. Бюхнер, О. Фогт, М. Молешотт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и считали, будто мысль находится примерно в таком же отношении к мозгу, как желчь к печени. Сведение сознания к физическим реакциям организма характерно и для такого направления в психологии, как бихевиоризм (Р. Уотсон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67920" y="264600"/>
            <a:ext cx="11542680" cy="598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7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ознание как онтологическая проблем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7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77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знание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ществует не только как нечто принадлежащее данному субъекту, но и в 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иде форм общественного сознания, зафиксированных средствами языка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7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льзя отрицать реальности сознания: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особая форма бытия сущего.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7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7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нание может отрываться от непосредственного отражения действительности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7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знание - одна из форм проявления нашей души, при этом очень существенная форма, преисполненная глубокого содержания.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7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509760" y="364680"/>
            <a:ext cx="114012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знание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это высшая, свойственная только людям и связанная с речью функция мозга, заключающаяся в обобщенном и целенаправленном отражении действительности, в предварительном мысленном построении действий и предвидении их результатов, в разумном регулировании и самоконтролировании поведения человек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(Спиркин А.Г. Философия. М., 2004. – 736 с.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67920" y="162000"/>
            <a:ext cx="11542680" cy="63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знание -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ояние психической жизни организма, выражающееся в субъективном переживании событий внешнего мира и тела организма, а также в отчёте об этих событиях и ответной реакции на эти событ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нание может пониматься в более широком или более узком смысле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точки зрения теории отражения, сознание в широком смысле -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сихическое отражение действительности независимо от того, на каком уровне оно осуществляется - биологическом или социальном, ощущаемом или чувственном», а в узком смысле - основанная на культуре «высшая, свойственная только людям и связанная со способностью интерпретировать мысли функция мозга, заключающаяся в обобщённом и целенаправленном отражении действительности, в предварительном мысленном построении действий и предвидении их результатов, в разумном регулировании и самоконтролем поведения человека за счёт рефлексии»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 Большом энциклопедическом словаре (2000)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знание определяется как «высшая форма психического отражения, свойственная общественно развитому человеку и связанная с речью, идеальная сторона целеполагающей деятельности»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295200" y="264960"/>
            <a:ext cx="11615760" cy="632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0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нание неоднородно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широком смысле слова под ним имеют в виду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сихическое отражение действительности независимо от того, на каком уровне оно осуществляется - биологическом или со­циальном, чувственном или рациональном, тем самым подчеркива­ется его отношение к материи без выявления специфики его струк­турной организации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более узком и специальном значении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д сознанием подразу­мевают не просто психическое состояние, а высшую, собственно человеческую форму психического отражения действительности.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339840"/>
            <a:ext cx="11453760" cy="60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уктуре сознания наиболее отчетливо выделяются </a:t>
            </a: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сознание вещей, а также переживание, т.е. определенное отноше­ние к содержанию того, что отражается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щущения, восприятия, представления, понятия, мышление в целом образуют ядро сознания.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увства, эмоции суть компоненты структуры сознания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ческие чувств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это факт сознания, отражение мира и выражение отношения человека к удовлетворению или неудовле­творению его потребностей, интересов, соответствия или несоот­ветствия чего-либо его представлениям и понятиям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3760" y="560160"/>
            <a:ext cx="11526840" cy="60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нание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это не сумма множества составляющих его элементов, а их интегральное, 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жно-структурированное целое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снове всех психических процессов лежит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амять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собность мозга запечатлевать, сохранять и воспроизводить информацию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ижущей силой поведения и сознания людей является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требность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ояние неустойчивости организма как системы, его нужды в чем-то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01120" y="515880"/>
            <a:ext cx="114094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ан: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Душа, рассудок, разум, дух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ознание как онтологическая проблем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Мышление и язык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71600" y="456840"/>
            <a:ext cx="11439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Мышление и язык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Язык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общем смысле понимается как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некая система знаков, служащая человеку для получения, хранения и переработки информации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ервичным является естественный человеческий язык, исторически сложившаяся речь, система слов, служащая для мышления и общения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509760" y="456840"/>
            <a:ext cx="11401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новение членораздельной речи стало мощным средством дальнейшего развития человека, его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знания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агодаря языку осуществляется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ередача социального опыта, культурных норм и традиций, через язык реализуется преемственность различных поколений и исторических эпох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Язык так же древен, как и сознание: «Один только человек из всех живых существ одарен речью» (Аристотель)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587520" y="417240"/>
            <a:ext cx="1132344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ущность языка выявляется в его двуединой функции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служить средством общения;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являться орудием мышления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ечь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это деятельность, сам процесс общения, обмена мыслями, чувствами, пожеланиями, целеполаганиями и т.п. который осуществляется с помощью языка, то есть определенной системы средств общения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зык – это система содержательных, значимых форм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Язык выполняет роль механизма социальной наследственности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4960" y="274320"/>
            <a:ext cx="1137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зык выполняет 2 главные функции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Содержимое 4" descr=""/>
          <p:cNvPicPr/>
          <p:nvPr/>
        </p:nvPicPr>
        <p:blipFill>
          <a:blip r:embed="rId1"/>
          <a:stretch/>
        </p:blipFill>
        <p:spPr>
          <a:xfrm>
            <a:off x="1011240" y="1407960"/>
            <a:ext cx="10309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587520" y="352440"/>
            <a:ext cx="11323440" cy="58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зык - это специфически человеческий способ бытия сознания.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служит для фиксирования, воспроизведения, передачи и приема мыслей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зык мог возникнуть только в обществе, т.е. он социально обусловлен. Он является важнейшим средством развития человеческой культуры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 процесс использования языка с целью усвоения и передачи социальной информации, обмена мыслями называют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ечью.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26880" y="417240"/>
            <a:ext cx="1158408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тог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 общества сознание сформироваться не может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ние - продукт общества, результат социальной, материально-производственной, познавательной деятельности общественного человека, всех предшествующих поколений людей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, мышление, сознание недоступны человеку, выросшему вне социальной среды, вне общества людей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созн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следующие принципиальные моменты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ние - продукт общественно-исторического развития человечества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ние - функциональное свойство мозга, идеальное отражение действительности, регулятор деятельности человека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ние - сложный информационно-регулятивный процесс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549360" y="398520"/>
            <a:ext cx="1136160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греч. </a:t>
            </a:r>
            <a:r>
              <a:rPr b="0" lang="el-GR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ψυχή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 лат. </a:t>
            </a:r>
            <a:r>
              <a:rPr b="0" i="1" lang="la-VA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nima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 - согласно религиозным и некоторым философским учениям, 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ссмертная субстанция, нематериальная сущность, в которой выражена божественная природа и сущность человека, его личность, дающая начало и обуславливающая его жизнь, способность ощущения, мышления, сознания, чувств и воли, обычно противопоставляемая телу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69440" y="444240"/>
            <a:ext cx="11441160" cy="60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религиозных и идеалистических представлениях -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материальное начало жизни, иногда противополагаемое телу; бесплотное существо, остающееся после смерти тела человека;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устаревшей психологической терминологии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- совокупность психических явлений, переживаний, основа психической жизни человека; внутренний, психический мир человека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лковый словарь русского языка Д. Н. Ушаков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22000" y="379080"/>
            <a:ext cx="113886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ревнегреческой философии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стала рассматриваться в качестве философского понятия, доступного рациональному анализу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ократики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задавались вопросом о душе и особенно о связи её и тела - двух фундаментальных измерений человеческого существования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крат и его ученик Платон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читали, что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уша принадлежит миру идеальных сущностей и является активным началом, несущим в себе идеи.</a:t>
            </a: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91680" y="444600"/>
            <a:ext cx="11518920" cy="58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точки зрения 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атона,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уша и тело существуют отдельно друг от друга. Душа является «эйдосом жизни» и не подвержена смерти, смерть изгоняет душу из тела, но не может уничтожить её, так как она неуничтожим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 Платону,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является бессмертной и нематериальной и предшествует существованию в физическом теле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 рождения человека душа созерцает идеи в нематериальном мире, а после того, как вселяется в тело, «забывает» их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юда суждение Платона о том, что все знания - лишь воспоминание забытых идей, познанных душой до рождения.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91680" y="234720"/>
            <a:ext cx="1151892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Аристотель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зывает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у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вой </a:t>
            </a: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энтелехией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жизнеспособного тел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 только разумная душа человека (дух) может быть отделена от тела и является бессмертной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Аристотель различает три рода души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стительная (способная к питанию и размножению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животная (чьи функции - ощущение и передвижение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умная (свойственна только человеку, её функция - мышление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ческая душа является главенствующей, ей присущ разум, и она может существовать вне тела. Разум имеет божественную природу – Логос, который является всеобщим законом мира и мышления человека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госом Аристотель объяснял волеизъявление человека, невозможное у животных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65040" y="417240"/>
            <a:ext cx="1154592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8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мокрит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читал, что душа есть у всего, она присутствует даже у неодушевлённых объектов (например, камней), только в очень малой мере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уша состоит из огненных шарообразных элементов и способна реагировать на воздействие более плотных веществ окружающей среды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уша состоит из атомов и является смертной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ыхание - процесс обмена внутренней души с внешней: вдыхая, человек или животное наполняется внешней душой, выдыхая, оставляет в воздухе частицы собственной души. Поэтому душа изменчива. Состояние души зависит от подвижности составляющих её атомов. В старости число подвижных атомов уменьшается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8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79440" y="280800"/>
            <a:ext cx="1153152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0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пикурейцы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дполагали, что душа, как и тело, состоит из движущихся в пустоте атомов. Со смертью они рассеиваются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пикуру приписывают афоризм: 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мерть не имеет к нам никакого отношения; когда мы есть, то смерти ещё нет, когда же смерть наступает, то нас уже нет»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оики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акже считали душу материальной и состоящей из тонкой пневмы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ому они полагали, что душа умирает вместе с телом или в скором времени после него, распадаясь в пространстве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тоики сравнивали душу младенца с «чистым листом папируса», таким образом они являются авторами концепции tabula ras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0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9T06:59:22Z</dcterms:created>
  <dc:creator>User</dc:creator>
  <dc:description/>
  <dc:language>en-US</dc:language>
  <cp:lastModifiedBy>user</cp:lastModifiedBy>
  <dcterms:modified xsi:type="dcterms:W3CDTF">2024-02-05T04:46:39Z</dcterms:modified>
  <cp:revision>534</cp:revision>
  <dc:subject/>
  <dc:title>NAME OF  PRESENTATION</dc:title>
</cp:coreProperties>
</file>