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49A-2003-487A-802F-A34E00BF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470-BEB2-40E4-82FA-B33B9E5B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387-6988-458C-97EC-7CC1AAC9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B95-1900-49AC-836C-173D7351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B444-6860-4020-9961-3677DB58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5B30-651D-421D-83C0-1EF4071B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CDEE-3B71-4A94-8CF8-0C57B44A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47F5-7359-4A9E-83A6-A7701772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67EE-7D2E-4516-89C8-467B1454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C7B5-8D31-43EF-BA5A-AA736A3E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8878-F97D-4CF4-9B13-F867D570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747-9199-415E-BE5A-3B5D6E7C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7CD6-5266-4A53-835E-2261CDA8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30D2-3960-46D5-ACE5-D6903C00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F7CF-CC1E-42A7-A567-37004945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6423-FC84-4128-BA58-6FA8A32D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3526-3D0F-4B3D-99FA-12CB56F7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B56BE-03BD-40E9-A73C-7CC25B3E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A226-AAE1-418C-9BA1-6CC6EB21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300D1-C1B2-4D29-AEC0-A22AF658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A02AA-7255-434D-BC8B-0A28BCAE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41849-E082-4C11-A71B-BF963B55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E17-6AE3-4D39-BC00-8DF87610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E7DC0-47F7-4D25-B9BD-4C40F6F0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BD4FF-E7F6-489E-9E34-1E4D0EED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37F31-2A82-4DE9-AB06-90533D1B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33599-AF1E-4437-89F9-DA5EB2F2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41814-E76E-4D62-8EF1-561529F3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9970B-1C4F-4E6C-A257-52AEEC80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9912B-63A1-483B-9FBB-37FE7189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3E813-8474-4F98-9F9C-3BF14A00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AC9E5-0F14-4483-95ED-9267353F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DAF25-F0A6-4B8F-A9DC-B69A4336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9BB-FF32-4C17-BABA-DCE5A826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894EC-81CA-4AB8-82C8-3DF17047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9B3B0-B1BF-4BD8-8136-EA1226BC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5AF16-595E-4B58-BF7C-4A8BFCA1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45180-8A98-4257-979C-32D47A2F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552D2-1FA4-45A3-8036-85A21917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DE487-F3FA-49E1-AB56-663FA4CA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4C2BD-53EA-4841-AC78-D29C53A5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C4F2F-6D63-4051-BC76-ABDAF36F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1D5E7-C02B-4D23-8084-BCF7015B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7A78E-ACC0-4F5F-996B-E2998F41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20E-6E59-4905-8F8D-9970FE2F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DDA3F-929E-4DD5-95B0-4C522117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AD912-12E9-4F6B-9F5D-A0239565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A5E88-7915-4B68-9CD8-1C28CEC9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87028-031B-434A-8FEB-820B24E6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3551D-4E3A-4508-827E-10880D45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77D31-92F4-4C2C-9D1E-1E74050E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8E60-8081-4BBF-AF12-961B1464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45DAF-9783-4CE4-A3D5-2ED72841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6FA71-8089-4AE6-AC82-8806DF8A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E2BDA-8208-4446-A12A-6ABE32AD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639-00C9-481F-B83B-BCBA7E1F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28885-1EF1-4777-A5FA-C6494582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DB82F-E6DD-4A20-AD38-45C394ED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90AA7-AECB-45E7-8436-8908EE00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AC472-FE9F-451A-AF6A-EAE3EBA3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F2177-DCA9-4D40-A192-0E5FD92C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B792A-2544-483C-8A21-5BC97A28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4A6D9-AD1D-42F1-9800-B2805A1E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6CEE1-C778-40D5-A873-A167F0D7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E46A4-0D85-412C-BBEC-BEB57AFE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870E1-37A1-4D76-A844-739AE785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0D5-87E9-4A66-A397-3BB0E6A1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8F5AB-AC72-4C11-8490-584FE60A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F51FA-CD33-4DFC-956F-C53C1A3C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6AF7D-CDFD-4E30-9521-8C2A5B44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2CB25-43BC-44FA-8D28-5BBDF814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9745D-FD65-47A5-9523-9A88D249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895A1-D7AD-4AFA-8F2C-0C1E0A1B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15DF7-D29B-45E4-A26C-5918841D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F258D-920B-4FE6-A769-BBE2B375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7DBB8-CAEC-494C-B20A-C153B78B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9B651-E4F3-4A9C-A5E8-74104206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256-0D7D-41B0-ADF6-C1AAB96A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45E40-6332-4743-96F2-181C97FC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18165-0BB5-40CF-B8E2-ED55E52D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9FC45-87E3-4EBF-B3F3-E3F8FA5B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30A75-14D7-44A0-B50A-4FD0780F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0C261-26A6-416E-8EC5-9F7CBBBF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B32-567F-43D0-A32F-8E4DA99D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D4BC-1482-4036-B8F1-637C73CDB9B7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1225440" y="1407960"/>
            <a:ext cx="298440" cy="225720"/>
            <a:chOff x="1225440" y="1407960"/>
            <a:chExt cx="2984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1225440" y="1407960"/>
              <a:ext cx="2984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70080" y="1444680"/>
              <a:ext cx="198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542960" y="1344600"/>
            <a:ext cx="8568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20F0-D568-42D5-B237-D35B0E2430C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304308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3048120" y="0"/>
            <a:ext cx="101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889360" y="2809800"/>
            <a:ext cx="298440" cy="225360"/>
            <a:chOff x="2889360" y="2809800"/>
            <a:chExt cx="2984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889360" y="2809800"/>
              <a:ext cx="2984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36880" y="2844720"/>
              <a:ext cx="198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3211560" y="2746440"/>
            <a:ext cx="8424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8D3C-2E44-4CED-9E20-E6E5C4E07C8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1C96-96A4-4E63-8EC4-9CDC03FEF3E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352520" y="0"/>
            <a:ext cx="1083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9353-2E39-405A-BD7C-97125A2356F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8AE5-CC71-4ED9-8240-8909A9DD7D6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901800" y="969840"/>
            <a:ext cx="6327720" cy="4802400"/>
            <a:chOff x="901800" y="969840"/>
            <a:chExt cx="632772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901800" y="969840"/>
              <a:ext cx="632772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15920" y="1066680"/>
              <a:ext cx="609624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528120" y="953640"/>
            <a:ext cx="9144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6672240" y="936360"/>
            <a:ext cx="865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C3F2-9ED9-4B37-B91D-0C2B9595C9B5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60160" y="442800"/>
            <a:ext cx="11350440" cy="59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3. Сознание, душа и язык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ссоциированный профессор кафедры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о-гуманитарных дисциплин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ндидат исторических наук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улденов Алибек Нурмагамбетович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534960" y="404280"/>
            <a:ext cx="1137600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уша индивидуальна и субъективна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уша совершенствуется, обретая духовную силу и объем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человека являет собой нечто совершенно уникальное. Эта уникальность формируется и природной данностью, и воспита­нием, которое получает человек на стадии детства в семье, школе и в обществе, в жизни среди своего народа, а также приобщаясь к Общечеловеческим ценностям культуры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уша каждого человека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- 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угубо индивидуальный феномен, она представляет и выражает собой уникальные особенности данной личности.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529920" y="426600"/>
            <a:ext cx="1138068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ло являет собой ту же жизнь, что и душа, и, тем не менее, их можно назвать различными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без тела не была бы живой земной душой, также и наоборот: тело человека само по себе не имеет самодостаточной силы жизни - оно «получает» ее животворящей силой душ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ичие у нас души есть, таким образом, абсо­лютное условие нашего бытия, самый неотъемлемый принцип нашей жизни, и в этом смысле знаменитый принцип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. Декарта «Я мыслю, следовательно, существую» совершенно неоспорим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501120" y="426600"/>
            <a:ext cx="1140948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физически организован­ного человека выражает себя в его реальном облике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идимость телесного облика есть лишь внеш­нее выражение нашей души.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еловек есть душевно-телесное, психо­физическое существо, или иначе: человек есть одушевленное тело или телесно воплощенная душ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приобретает форму индивидуального субъекта, что выра­жается в особенностях темперамента, характера, таланта и иных предрасположений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295200" y="323640"/>
            <a:ext cx="1161576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есть мышление, замечаемые и незамечаемые ощущения, представ­ления, волнения и составляемые понятия, суждения, умозаключе­ния, решения, волевые акты, целеполагание и другие духовные фе­номены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сль неотделима от мыслящей материи и является ее продуктом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это так, то не есть ли она разновидность материи? Именно так полагали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ульгарные материалисты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Л. Бюхнер, О. Фогт, М. Молешотт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и считали, будто мысль находится примерно в таком же отношении к мозгу, как желчь к печени. Сведение сознания к физическим реакциям организма характерно и для такого направления в психологии, как бихевиоризм (Р. Уотсон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67920" y="264600"/>
            <a:ext cx="11542680" cy="598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7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ознание как онтологическая проблем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знание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ществует не только как нечто принадлежащее данному субъекту, но и в 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иде форм общественного сознания, зафиксированных средствами языка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льзя отрицать реальности сознания: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особая форма бытия сущего.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нание может отрываться от непосредственного отражения действительност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знание - одна из форм проявления нашей души, при этом очень существенная форма, преисполненная глубокого содержания.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09760" y="364680"/>
            <a:ext cx="114012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знание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это высшая, свойственная только людям и связанная с речью функция мозга, заключающаяся в обобщенном и целенаправленном отражении действительности, в предварительном мысленном построении действий и предвидении их результатов, в разумном регулировании и самоконтролировании поведения челове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(Спиркин А.Г. Философия. М., 2004. – 736 с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67920" y="162000"/>
            <a:ext cx="11542680" cy="63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знание -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ояние психической жизни организма, выражающееся в субъективном переживании событий внешнего мира и тела организма, а также в отчёте об этих событиях и ответной реакции на эти событ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нание может пониматься в более широком или более узком смысле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точки зрения теории отражения, сознание в широком смысле -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сихическое отражение действительности независимо от того, на каком уровне оно осуществляется - биологическом или социальном, ощущаемом или чувственном», а в узком смысле - основанная на культуре «высшая, свойственная только людям и связанная со способностью интерпретировать мысли функция мозга, заключающаяся в обобщённом и целенаправленном отражении действительности, в предварительном мысленном построении действий и предвидении их результатов, в разумном регулировании и самоконтролем поведения человека за счёт рефлексии»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 Большом энциклопедическом словаре (2000)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знание определяется как «высшая форма психического отражения, свойственная общественно развитому человеку и связанная с речью, идеальная сторона целеполагающей деятельности»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295200" y="264960"/>
            <a:ext cx="11615760" cy="632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0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нание неоднородно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широком смысле слова под ним имеют в виду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ическое отражение действительности независимо от того, на каком уровне оно осуществляется - биологическом или со­циальном, чувственном или рациональном, тем самым подчеркива­ется его отношение к материи без выявления специфики его струк­турной организаци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более узком и специальном значении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д сознанием подразу­мевают не просто психическое состояние, а высшую, собственно человеческую форму психического отражения действительности.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339840"/>
            <a:ext cx="11453760" cy="60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е сознания наиболее отчетливо выделяются </a:t>
            </a: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сознание вещей, а также переживание, т.е. определенное отноше­ние к содержанию того, что отражается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щущения, восприятия, представления, понятия, мышление в целом образуют ядро сознания.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увства, эмоции суть компоненты структуры сознания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ческие чувств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это факт сознания, отражение мира и выражение отношения человека к удовлетворению или неудовле­творению его потребностей, интересов, соответствия или несоот­ветствия чего-либо его представлениям и понятиям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3760" y="560160"/>
            <a:ext cx="11526840" cy="60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нание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это не сумма множества составляющих его элементов, а их интегральное, 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жно-структурированное целое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снове всех психических процессов лежит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амять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собность мозга запечатлевать, сохранять и воспроизводить информацию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ущей силой поведения и сознания людей является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требность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ояние неустойчивости организма как системы, его нужды в чем-то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01120" y="515880"/>
            <a:ext cx="11409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Душа, рассудок, разум, дух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ознание как онтологическая проблем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Мышление и язык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71600" y="456840"/>
            <a:ext cx="11439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Мышление и язык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Язык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общем смысле понимается как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некая система знаков, служащая человеку для получения, хранения и переработки информации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ервичным является естественный человеческий язык, исторически сложившаяся речь, система слов, служащая для мышления и общения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509760" y="456840"/>
            <a:ext cx="114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новение членораздельной речи стало мощным средством дальнейшего развития человека, его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знания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агодаря языку осуществляется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ередача социального опыта, культурных норм и традиций, через язык реализуется преемственность различных поколений и исторических эпох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Язык так же древен, как и сознание: «Один только человек из всех живых существ одарен речью» (Аристотель)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87520" y="417240"/>
            <a:ext cx="1132344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ущность языка выявляется в его двуединой функции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служить средством общения;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являться орудием мышления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ечь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это деятельность, сам процесс общения, обмена мыслями, чувствами, пожеланиями, целеполаганиями и т.п. который осуществляется с помощью языка, то есть определенной системы средств общения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зык – это система содержательных, значимых форм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Язык выполняет роль механизма социальной наследственности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4960" y="274320"/>
            <a:ext cx="1137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зык выполняет 2 главные функции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Содержимое 4" descr=""/>
          <p:cNvPicPr/>
          <p:nvPr/>
        </p:nvPicPr>
        <p:blipFill>
          <a:blip r:embed="rId1"/>
          <a:stretch/>
        </p:blipFill>
        <p:spPr>
          <a:xfrm>
            <a:off x="1011240" y="1407960"/>
            <a:ext cx="10309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587520" y="352440"/>
            <a:ext cx="11323440" cy="58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зык - это специфически человеческий способ бытия сознания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служит для фиксирования, воспроизведения, передачи и приема мыслей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зык мог возникнуть только в обществе, т.е. он социально обусловлен. Он является важнейшим средством развития человеческой культуры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 процесс использования языка с целью усвоения и передачи социальной информации, обмена мыслями называют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ечью.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26880" y="417240"/>
            <a:ext cx="1158408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тог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общества сознание сформироваться не может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ние - продукт общества, результат социальной, материально-производственной, познавательной деятельности общественного человека, всех предшествующих поколений людей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, мышление, сознание недоступны человеку, выросшему вне социальной среды, вне общества людей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созн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следующие принципиальные моменты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ние - продукт общественно-исторического развития человечества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ние - функциональное свойство мозга, идеальное отражение действительности, регулятор деятельности человека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ние - сложный информационно-регулятивный процесс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49360" y="398520"/>
            <a:ext cx="1136160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греч. </a:t>
            </a:r>
            <a:r>
              <a:rPr b="0" lang="el-GR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ψυχή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 лат. </a:t>
            </a:r>
            <a:r>
              <a:rPr b="0" i="1" lang="la-V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nima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 - согласно религиозным и некоторым философским учениям, 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ссмертная субстанция, нематериальная сущность, в которой выражена божественная природа и сущность человека, его личность, дающая начало и обуславливающая его жизнь, способность ощущения, мышления, сознания, чувств и воли, обычно противопоставляемая телу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69440" y="444240"/>
            <a:ext cx="11441160" cy="60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религиозных и идеалистических представлениях -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материальное начало жизни, иногда противополагаемое телу; бесплотное существо, остающееся после смерти тела человека;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устаревшей психологической терминологии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- совокупность психических явлений, переживаний, основа психической жизни человека; внутренний, психический мир челове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ковый словарь русского языка Д. Н. Ушаков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22000" y="379080"/>
            <a:ext cx="11388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ревнегреческой философии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стала рассматриваться в качестве философского понятия, доступного рациональному анализу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ократики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задавались вопросом о душе и особенно о связи её и тела - двух фундаментальных измерений человеческого существования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крат и его ученик Платон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читали, что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уша принадлежит миру идеальных сущностей и является активным началом, несущим в себе идеи.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91680" y="444600"/>
            <a:ext cx="11518920" cy="58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точки зрения 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тона,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уша и тело существуют отдельно друг от друга. Душа является «эйдосом жизни» и не подвержена смерти, смерть изгоняет душу из тела, но не может уничтожить её, так как она неуничтожим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 Платону,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является бессмертной и нематериальной и предшествует существованию в физическом теле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 рождения человека душа созерцает идеи в нематериальном мире, а после того, как вселяется в тело, «забывает» их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юда суждение Платона о том, что все знания - лишь воспоминание забытых идей, познанных душой до рождения.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91680" y="234720"/>
            <a:ext cx="1151892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Аристотель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зывает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у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ой </a:t>
            </a: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энтелехией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жизнеспособного тел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только разумная душа человека (дух) может быть отделена от тела и является бессмертной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Аристотель различает три рода души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стительная (способная к питанию и размножению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животная (чьи функции - ощущение и передвижение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умная (свойственна только человеку, её функция - мышление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ческая душа является главенствующей, ей присущ разум, и она может существовать вне тела. Разум имеет божественную природу – Логос, который является всеобщим законом мира и мышления человека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госом Аристотель объяснял волеизъявление человека, невозможное у животных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65040" y="417240"/>
            <a:ext cx="115459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8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мокрит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читал, что душа есть у всего, она присутствует даже у неодушевлённых объектов (например, камней), только в очень малой мер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состоит из огненных шарообразных элементов и способна реагировать на воздействие более плотных веществ окружающей среды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уша состоит из атомов и является смертной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ние - процесс обмена внутренней души с внешней: вдыхая, человек или животное наполняется внешней душой, выдыхая, оставляет в воздухе частицы собственной души. Поэтому душа изменчива. Состояние души зависит от подвижности составляющих её атомов. В старости число подвижных атомов уменьшается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79440" y="280800"/>
            <a:ext cx="1153152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пикурейцы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дполагали, что душа, как и тело, состоит из движущихся в пустоте атомов. Со смертью они рассеиваются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пикуру приписывают афоризм: 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мерть не имеет к нам никакого отношения; когда мы есть, то смерти ещё нет, когда же смерть наступает, то нас уже нет»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оики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акже считали душу материальной и состоящей из тонкой пневмы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ому они полагали, что душа умирает вместе с телом или в скором времени после него, распадаясь в пространств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тоики сравнивали душу младенца с «чистым листом папируса», таким образом они являются авторами концепции tabula ras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9T06:59:22Z</dcterms:created>
  <dc:creator>User</dc:creator>
  <dc:description/>
  <dc:language>en-US</dc:language>
  <cp:lastModifiedBy>user</cp:lastModifiedBy>
  <dcterms:modified xsi:type="dcterms:W3CDTF">2024-02-05T04:46:39Z</dcterms:modified>
  <cp:revision>534</cp:revision>
  <dc:subject/>
  <dc:title>NAME OF  PRESENTATION</dc:title>
</cp:coreProperties>
</file>