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6777D4-1DE8-4875-98BC-CD2D9A4FC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D2B1A-EF00-4B4B-97F0-2DA1FE57FAA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67F-05F0-4883-A778-0B7E6BD1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314-6982-4F1C-9955-F788180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EB8-8756-413E-857E-BD6BB360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672-806B-4837-8BD7-9F790842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3F3-EC6C-4977-B295-56BD1243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552-8959-4D13-9051-294547A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4CED-1E53-4FD6-AC9E-802A73C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AA1-6160-422C-9940-4C5D99DA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D5FC-D4F6-4793-A234-818C385E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058-945C-4E50-BAA9-3C444D9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6F5E-63C9-4F2C-8224-203E91D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DEA-07BC-4DA7-8B47-3C3902D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D7F7-8CDF-4B73-AB98-01417E9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2B77-0953-4263-BF8F-1E3538E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BBB-594F-4A07-B043-45A7213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04D-6CB3-4370-9739-E5E2AD6E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D11-C25D-435E-B7BF-4F513C0D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F99F-E571-4568-BFB0-AE387A5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304F-00BB-4384-8D19-7AD5E16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1481-03B0-4B21-ADC9-4DBEB703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3760-B2F7-4C06-85D2-380EAE0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B9DA-F086-4644-A2FC-3A6A555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07C-2963-4F17-95A3-96C325F5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CD10-74A1-43D9-BA72-D9411B6F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BEB1-1E94-4F98-B38A-64C361F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99D0-7384-4F84-858D-0461A6C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2DA8-B8EF-462F-9CB4-3082A23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CD31-8588-42D0-A60B-F8A60751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C468-DD1A-409D-A721-78E6530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0184-6312-4F31-A7E3-96A4DAD2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652-3584-4BC4-8DD4-B0C8BC3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FAE-EB62-4C6D-B3D4-C6FAD2D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BDC-BADB-4C83-8738-445A589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F3C-2EEE-4D73-B7B7-48FA1FC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C15-8C88-44BE-90F3-2B9C4DA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C8C-EE30-4911-B61B-5CB54E4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A0F3AB-E7F8-412E-A62A-9DF07F9FD9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B256F8-CB00-4B53-88F9-D436F767BD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8C413-AD84-4B2E-958B-407438AD02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08640"/>
            <a:ext cx="7772040" cy="43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9600" spc="-1" strike="noStrike">
                <a:solidFill>
                  <a:srgbClr val="0070c0"/>
                </a:solidFill>
                <a:latin typeface="Calibri"/>
              </a:rPr>
              <a:t>SHE’S GOT BLUE EYES…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favim.com/orig/201105/11/beautiful-blue-eyes-boy-coisa-mais-lida-deeeeus-cute-cute-pretty-Favim.com-41116.jpg"/>
          <p:cNvPicPr/>
          <p:nvPr/>
        </p:nvPicPr>
        <p:blipFill>
          <a:blip r:embed="rId1"/>
          <a:stretch/>
        </p:blipFill>
        <p:spPr>
          <a:xfrm>
            <a:off x="179640" y="260640"/>
            <a:ext cx="6120360" cy="406368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251640" y="5445360"/>
            <a:ext cx="410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А теперь расскажи о себе и о своих близких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ITC Avant Garde Gothic"/>
              </a:rPr>
              <a:t>I’ve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2060"/>
                </a:solidFill>
                <a:latin typeface="ITC Avant Garde Gothic"/>
              </a:rPr>
              <a:t>My mum has got …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77933c"/>
              </a:buClr>
              <a:buFont typeface="Arial"/>
              <a:buChar char="•"/>
            </a:pPr>
            <a:r>
              <a:rPr b="1" lang="en-US" sz="3200" spc="-1" strike="noStrike">
                <a:solidFill>
                  <a:schemeClr val="accent3">
                    <a:lumMod val="75000"/>
                  </a:schemeClr>
                </a:solidFill>
                <a:latin typeface="ITC Avant Garde Gothic"/>
              </a:rPr>
              <a:t>My dad has got ….. hair and …. eyes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1f497d"/>
                </a:solidFill>
                <a:latin typeface="ITC Avant Garde Gothic"/>
              </a:rPr>
              <a:t>My sister/brother has got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ITC Avant Garde Gothic"/>
              </a:rPr>
              <a:t>My grandm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f0"/>
                </a:solidFill>
                <a:latin typeface="ITC Avant Garde Gothic"/>
              </a:rPr>
              <a:t>My grandpa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66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66"/>
                </a:solidFill>
                <a:latin typeface="ITC Avant Garde Gothic"/>
              </a:rPr>
              <a:t>My friend has got 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640" y="1484640"/>
            <a:ext cx="837324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ITC Avant Garde Gothic"/>
              </a:rPr>
              <a:t>GOOD JOB!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TC Avant Garde Gothic"/>
              </a:rPr>
              <a:t>THE END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acidcow.com/pics/20100909/beautiful_children_36.jpg"/>
          <p:cNvPicPr/>
          <p:nvPr/>
        </p:nvPicPr>
        <p:blipFill>
          <a:blip r:embed="rId1"/>
          <a:stretch/>
        </p:blipFill>
        <p:spPr>
          <a:xfrm>
            <a:off x="1547640" y="1268640"/>
            <a:ext cx="5634360" cy="39276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07640" y="188640"/>
            <a:ext cx="8856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, прочти предложение  и выбери правильн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6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467640" y="5517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row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2.bp.blogspot.com/_ytBushe4UVM/TUT5IkzJlbI/AAAAAAAAAgM/h8-l_5SO5TI/s1600/Lee%2BFamily%2BPortraits%2B%25287%2529.jpg"/>
          <p:cNvPicPr/>
          <p:nvPr/>
        </p:nvPicPr>
        <p:blipFill>
          <a:blip r:embed="rId1"/>
          <a:stretch/>
        </p:blipFill>
        <p:spPr>
          <a:xfrm>
            <a:off x="179640" y="188640"/>
            <a:ext cx="5976360" cy="47862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green/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big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 blue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25.media.tumblr.com/tumblr_m1udvo8U9S1qz7deoo1_500.jpg"/>
          <p:cNvPicPr/>
          <p:nvPr/>
        </p:nvPicPr>
        <p:blipFill>
          <a:blip r:embed="rId1"/>
          <a:stretch/>
        </p:blipFill>
        <p:spPr>
          <a:xfrm>
            <a:off x="179640" y="332640"/>
            <a:ext cx="5664960" cy="4597560"/>
          </a:xfrm>
          <a:prstGeom prst="rect">
            <a:avLst/>
          </a:prstGeom>
          <a:ln w="0">
            <a:noFill/>
          </a:ln>
        </p:spPr>
      </p:pic>
      <p:sp>
        <p:nvSpPr>
          <p:cNvPr id="138" name="Заголовок 1"/>
          <p:cNvSpPr/>
          <p:nvPr/>
        </p:nvSpPr>
        <p:spPr>
          <a:xfrm>
            <a:off x="323640" y="5373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/grey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eyes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323640" y="5085360"/>
            <a:ext cx="85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y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sweden.se/upload/Sweden_se/english/articles/SI/2008/Pippi%20Longstocking_republished/Pippi-Longstocking_jacob-forsell_Image%20Bank.jpg"/>
          <p:cNvPicPr/>
          <p:nvPr/>
        </p:nvPicPr>
        <p:blipFill>
          <a:blip r:embed="rId1"/>
          <a:stretch/>
        </p:blipFill>
        <p:spPr>
          <a:xfrm>
            <a:off x="179640" y="260640"/>
            <a:ext cx="7128360" cy="4468320"/>
          </a:xfrm>
          <a:prstGeom prst="rect">
            <a:avLst/>
          </a:prstGeom>
          <a:ln w="0">
            <a:noFill/>
          </a:ln>
        </p:spPr>
      </p:pic>
      <p:sp>
        <p:nvSpPr>
          <p:cNvPr id="141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/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1475640" y="5157360"/>
            <a:ext cx="655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red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www.beccabondphotography.com/blog/wp-content/uploads/2010/08/IMG_3332.jpg"/>
          <p:cNvPicPr/>
          <p:nvPr/>
        </p:nvPicPr>
        <p:blipFill>
          <a:blip r:embed="rId1"/>
          <a:stretch/>
        </p:blipFill>
        <p:spPr>
          <a:xfrm>
            <a:off x="1259640" y="980640"/>
            <a:ext cx="6408360" cy="42796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9640" y="188640"/>
            <a:ext cx="871272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Посмотри на картинку и назови цвет глаз и волос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179640" y="5589360"/>
            <a:ext cx="87847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She’s got …</a:t>
            </a:r>
            <a:r>
              <a:rPr b="1" lang="ru-RU" sz="4000" spc="-1" strike="noStrike">
                <a:solidFill>
                  <a:srgbClr val="663300"/>
                </a:solidFill>
                <a:latin typeface="ITC Avant Garde Gothic"/>
              </a:rPr>
              <a:t>.</a:t>
            </a:r>
            <a:r>
              <a:rPr b="1" lang="en-US" sz="4000" spc="-1" strike="noStrike">
                <a:solidFill>
                  <a:srgbClr val="663300"/>
                </a:solidFill>
                <a:latin typeface="ITC Avant Garde Gothic"/>
              </a:rPr>
              <a:t> eyes  and …. 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179640" y="5517360"/>
            <a:ext cx="871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lue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gnet.gs/blogger/green-eyes.png"/>
          <p:cNvPicPr/>
          <p:nvPr/>
        </p:nvPicPr>
        <p:blipFill>
          <a:blip r:embed="rId1"/>
          <a:stretch/>
        </p:blipFill>
        <p:spPr>
          <a:xfrm>
            <a:off x="179640" y="116640"/>
            <a:ext cx="5443200" cy="510228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1"/>
          <p:cNvSpPr/>
          <p:nvPr/>
        </p:nvSpPr>
        <p:spPr>
          <a:xfrm>
            <a:off x="323640" y="5301360"/>
            <a:ext cx="82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 eyes  and …. 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251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gree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f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http://farm3.static.flickr.com/2582/4007593080_a5f479dee9.jpg"/>
          <p:cNvPicPr/>
          <p:nvPr/>
        </p:nvPicPr>
        <p:blipFill>
          <a:blip r:embed="rId1"/>
          <a:stretch/>
        </p:blipFill>
        <p:spPr>
          <a:xfrm>
            <a:off x="251640" y="188640"/>
            <a:ext cx="5292720" cy="501732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107640" y="5517360"/>
            <a:ext cx="892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dark 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air and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brown</a:t>
            </a: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 eye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07640" y="5517360"/>
            <a:ext cx="86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He’s got …. hair and …..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impowerage.com/wp-content/uploads/2010/07/attractive-older-woman.jpg"/>
          <p:cNvPicPr/>
          <p:nvPr/>
        </p:nvPicPr>
        <p:blipFill>
          <a:blip r:embed="rId1"/>
          <a:stretch/>
        </p:blipFill>
        <p:spPr>
          <a:xfrm>
            <a:off x="1403640" y="836640"/>
            <a:ext cx="67280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Заголовок 1"/>
          <p:cNvSpPr/>
          <p:nvPr/>
        </p:nvSpPr>
        <p:spPr>
          <a:xfrm>
            <a:off x="179640" y="5373360"/>
            <a:ext cx="3816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51640" y="5301360"/>
            <a:ext cx="88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663300"/>
                </a:solidFill>
                <a:latin typeface="ITC Avant Garde Gothic"/>
              </a:rPr>
              <a:t>She’s got </a:t>
            </a:r>
            <a:r>
              <a:rPr b="1" lang="en-US" sz="4400" spc="-1" strike="noStrike">
                <a:solidFill>
                  <a:srgbClr val="ff0000"/>
                </a:solidFill>
                <a:latin typeface="ITC Avant Garde Gothic"/>
              </a:rPr>
              <a:t>white hair and blue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07640" y="18864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осмотри на картинку и заверши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  <Words>230</Words>
  <Paragraphs>34</Paragraphs>
  <Company>Space Research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3:34:31Z</dcterms:created>
  <dc:creator>Marina</dc:creator>
  <dc:description/>
  <dc:language>en-US</dc:language>
  <cp:lastModifiedBy>учитель</cp:lastModifiedBy>
  <dcterms:modified xsi:type="dcterms:W3CDTF">2019-04-16T08:40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