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2FCFCE-6D5C-446F-98FC-BA44977AF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F8337C-B9CB-4F43-9D62-A5FDA3151E0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A0E-C4DB-451E-918D-3ADFA6EE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94F-5848-4AD1-8A1D-27DFB1D0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564-31DC-4029-822F-28CAF641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57B-F2ED-479D-948A-51C9C0A8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FF86-38A6-4505-982E-5AE19AEB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8A1B-E2AF-4788-BE1B-6F4BD875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6B41-9F6A-4B69-84FF-5D0E5F8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C1A7-3094-44EB-8D17-34DA7F47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AA86-C83F-4688-A8DA-E711D5EC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616E-4238-4564-89C6-8BCDEF85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5F37-F340-43D1-A856-47A05A74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B50-2087-4D90-8DBE-DDDA0417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B7B6-51E7-4D9B-8A86-A859D92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8FE4-A48E-46EB-A2FD-8204EEB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A254-F9C5-4DFE-A650-CBA8A6C7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05D3-029E-4676-BFD2-0F46FB4A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18C0-79C4-42D5-9DCE-91D5708C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B86C-D077-4212-B0C8-2DC2A65D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B93D-A3AA-4378-B865-E0E212B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1B23-7904-4A06-B0FD-ACB6A92F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5EAF-96AE-473F-B5F0-0B09A655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6B6BC-9F85-41AF-8A43-B77F77C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50A-99B0-418A-8614-49B073E9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9F99-FE72-4791-97ED-59ADF89F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5858-0D56-47B6-B417-27A6D894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E48D-0A58-4ABF-9C00-F729E3F6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03F3-A190-42C2-B505-E34DFD2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804B-446D-4942-8FD2-E10FB69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2CDE4-F9DA-434C-B97A-BFF47AEB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2FDC-92A3-48EB-874F-BE5CB210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0A4-50E6-46F6-834E-BAE0045C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47D-AA4B-4D21-9B7C-F4BC1682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2D0-9A39-4CFB-AF02-379B8080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136-910A-4994-99C7-F41C58E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F59-79E2-4C8D-BE5D-E0A3A3D1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9AB-82A6-4F1E-B61F-B23EA870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8E064F-586C-4D58-ABD0-1D1CD83434A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085C5D-B692-4039-A539-4D099E13AEF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CBD073-F331-451B-8B46-19251D183DE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08640"/>
            <a:ext cx="7772040" cy="43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9600" spc="-1" strike="noStrike">
                <a:solidFill>
                  <a:srgbClr val="0070c0"/>
                </a:solidFill>
                <a:latin typeface="Calibri"/>
              </a:rPr>
              <a:t>SHE’S GOT BLUE EYES…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favim.com/orig/201105/11/beautiful-blue-eyes-boy-coisa-mais-lida-deeeeus-cute-cute-pretty-Favim.com-41116.jpg"/>
          <p:cNvPicPr/>
          <p:nvPr/>
        </p:nvPicPr>
        <p:blipFill>
          <a:blip r:embed="rId1"/>
          <a:stretch/>
        </p:blipFill>
        <p:spPr>
          <a:xfrm>
            <a:off x="179640" y="260640"/>
            <a:ext cx="6120360" cy="4063680"/>
          </a:xfrm>
          <a:prstGeom prst="rect">
            <a:avLst/>
          </a:prstGeom>
          <a:ln w="0">
            <a:noFill/>
          </a:ln>
        </p:spPr>
      </p:pic>
      <p:sp>
        <p:nvSpPr>
          <p:cNvPr id="158" name="Заголовок 1"/>
          <p:cNvSpPr/>
          <p:nvPr/>
        </p:nvSpPr>
        <p:spPr>
          <a:xfrm>
            <a:off x="251640" y="5301360"/>
            <a:ext cx="88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hair and blue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251640" y="5445360"/>
            <a:ext cx="4104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А теперь расскажи о себе и о своих близких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7640" y="1340640"/>
            <a:ext cx="82292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ITC Avant Garde Gothic"/>
              </a:rPr>
              <a:t>I’ve got …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2060"/>
                </a:solidFill>
                <a:latin typeface="ITC Avant Garde Gothic"/>
              </a:rPr>
              <a:t>My mum has got …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7933c"/>
              </a:buClr>
              <a:buFont typeface="Arial"/>
              <a:buChar char="•"/>
            </a:pPr>
            <a:r>
              <a:rPr b="1" lang="en-US" sz="3200" spc="-1" strike="noStrike">
                <a:solidFill>
                  <a:schemeClr val="accent3">
                    <a:lumMod val="75000"/>
                  </a:schemeClr>
                </a:solidFill>
                <a:latin typeface="ITC Avant Garde Gothic"/>
              </a:rPr>
              <a:t>My dad has got ….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1f497d"/>
                </a:solidFill>
                <a:latin typeface="ITC Avant Garde Gothic"/>
              </a:rPr>
              <a:t>My sister/brother has got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ITC Avant Garde Gothic"/>
              </a:rPr>
              <a:t>My grandma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f0"/>
                </a:solidFill>
                <a:latin typeface="ITC Avant Garde Gothic"/>
              </a:rPr>
              <a:t>My grandpa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66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66"/>
                </a:solidFill>
                <a:latin typeface="ITC Avant Garde Gothic"/>
              </a:rPr>
              <a:t>My friend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640" y="1484640"/>
            <a:ext cx="837324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ITC Avant Garde Gothic"/>
              </a:rPr>
              <a:t>GOOD JOB!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TC Avant Garde Gothic"/>
              </a:rPr>
              <a:t>THE END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acidcow.com/pics/20100909/beautiful_children_36.jpg"/>
          <p:cNvPicPr/>
          <p:nvPr/>
        </p:nvPicPr>
        <p:blipFill>
          <a:blip r:embed="rId1"/>
          <a:stretch/>
        </p:blipFill>
        <p:spPr>
          <a:xfrm>
            <a:off x="1547640" y="1268640"/>
            <a:ext cx="5634360" cy="39276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07640" y="188640"/>
            <a:ext cx="885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смотри на картинку, прочти предложение  и выбери правиль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67640" y="5517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6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rown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467640" y="5517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rown/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2.bp.blogspot.com/_ytBushe4UVM/TUT5IkzJlbI/AAAAAAAAAgM/h8-l_5SO5TI/s1600/Lee%2BFamily%2BPortraits%2B%25287%2529.jpg"/>
          <p:cNvPicPr/>
          <p:nvPr/>
        </p:nvPicPr>
        <p:blipFill>
          <a:blip r:embed="rId1"/>
          <a:stretch/>
        </p:blipFill>
        <p:spPr>
          <a:xfrm>
            <a:off x="179640" y="188640"/>
            <a:ext cx="5976360" cy="47862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green/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25.media.tumblr.com/tumblr_m1udvo8U9S1qz7deoo1_500.jpg"/>
          <p:cNvPicPr/>
          <p:nvPr/>
        </p:nvPicPr>
        <p:blipFill>
          <a:blip r:embed="rId1"/>
          <a:stretch/>
        </p:blipFill>
        <p:spPr>
          <a:xfrm>
            <a:off x="179640" y="332640"/>
            <a:ext cx="5664960" cy="4597560"/>
          </a:xfrm>
          <a:prstGeom prst="rect">
            <a:avLst/>
          </a:prstGeom>
          <a:ln w="0">
            <a:noFill/>
          </a:ln>
        </p:spPr>
      </p:pic>
      <p:sp>
        <p:nvSpPr>
          <p:cNvPr id="138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rown/grey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323640" y="5085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grey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sweden.se/upload/Sweden_se/english/articles/SI/2008/Pippi%20Longstocking_republished/Pippi-Longstocking_jacob-forsell_Image%20Bank.jpg"/>
          <p:cNvPicPr/>
          <p:nvPr/>
        </p:nvPicPr>
        <p:blipFill>
          <a:blip r:embed="rId1"/>
          <a:stretch/>
        </p:blipFill>
        <p:spPr>
          <a:xfrm>
            <a:off x="179640" y="260640"/>
            <a:ext cx="7128360" cy="446832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1"/>
          <p:cNvSpPr/>
          <p:nvPr/>
        </p:nvSpPr>
        <p:spPr>
          <a:xfrm>
            <a:off x="1475640" y="5157360"/>
            <a:ext cx="655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red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1475640" y="5157360"/>
            <a:ext cx="655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red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www.beccabondphotography.com/blog/wp-content/uploads/2010/08/IMG_3332.jpg"/>
          <p:cNvPicPr/>
          <p:nvPr/>
        </p:nvPicPr>
        <p:blipFill>
          <a:blip r:embed="rId1"/>
          <a:stretch/>
        </p:blipFill>
        <p:spPr>
          <a:xfrm>
            <a:off x="1259640" y="980640"/>
            <a:ext cx="6408360" cy="42796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179640" y="188640"/>
            <a:ext cx="871272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Посмотри на картинку и назови цвет глаз и волос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179640" y="5589360"/>
            <a:ext cx="87847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663300"/>
                </a:solidFill>
                <a:latin typeface="ITC Avant Garde Gothic"/>
              </a:rPr>
              <a:t>She’s got …</a:t>
            </a:r>
            <a:r>
              <a:rPr b="1" lang="ru-RU" sz="4000" spc="-1" strike="noStrike">
                <a:solidFill>
                  <a:srgbClr val="663300"/>
                </a:solidFill>
                <a:latin typeface="ITC Avant Garde Gothic"/>
              </a:rPr>
              <a:t>.</a:t>
            </a:r>
            <a:r>
              <a:rPr b="1" lang="en-US" sz="4000" spc="-1" strike="noStrike">
                <a:solidFill>
                  <a:srgbClr val="663300"/>
                </a:solidFill>
                <a:latin typeface="ITC Avant Garde Gothic"/>
              </a:rPr>
              <a:t> eyes  and ….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179640" y="5517360"/>
            <a:ext cx="871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lue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gnet.gs/blogger/green-eyes.png"/>
          <p:cNvPicPr/>
          <p:nvPr/>
        </p:nvPicPr>
        <p:blipFill>
          <a:blip r:embed="rId1"/>
          <a:stretch/>
        </p:blipFill>
        <p:spPr>
          <a:xfrm>
            <a:off x="179640" y="116640"/>
            <a:ext cx="5443200" cy="5102280"/>
          </a:xfrm>
          <a:prstGeom prst="rect">
            <a:avLst/>
          </a:prstGeom>
          <a:ln w="0">
            <a:noFill/>
          </a:ln>
        </p:spPr>
      </p:pic>
      <p:sp>
        <p:nvSpPr>
          <p:cNvPr id="148" name="Заголовок 1"/>
          <p:cNvSpPr/>
          <p:nvPr/>
        </p:nvSpPr>
        <p:spPr>
          <a:xfrm>
            <a:off x="323640" y="5301360"/>
            <a:ext cx="82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…. eyes  and …. 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251640" y="551736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green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http://farm3.static.flickr.com/2582/4007593080_a5f479dee9.jpg"/>
          <p:cNvPicPr/>
          <p:nvPr/>
        </p:nvPicPr>
        <p:blipFill>
          <a:blip r:embed="rId1"/>
          <a:stretch/>
        </p:blipFill>
        <p:spPr>
          <a:xfrm>
            <a:off x="251640" y="188640"/>
            <a:ext cx="5292720" cy="5017320"/>
          </a:xfrm>
          <a:prstGeom prst="rect">
            <a:avLst/>
          </a:prstGeom>
          <a:ln w="0">
            <a:noFill/>
          </a:ln>
        </p:spPr>
      </p:pic>
      <p:sp>
        <p:nvSpPr>
          <p:cNvPr id="151" name="Заголовок 1"/>
          <p:cNvSpPr/>
          <p:nvPr/>
        </p:nvSpPr>
        <p:spPr>
          <a:xfrm>
            <a:off x="107640" y="5517360"/>
            <a:ext cx="892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rown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07640" y="551736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…. hair and …..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impowerage.com/wp-content/uploads/2010/07/attractive-older-woman.jpg"/>
          <p:cNvPicPr/>
          <p:nvPr/>
        </p:nvPicPr>
        <p:blipFill>
          <a:blip r:embed="rId1"/>
          <a:stretch/>
        </p:blipFill>
        <p:spPr>
          <a:xfrm>
            <a:off x="1403640" y="836640"/>
            <a:ext cx="6728040" cy="4464000"/>
          </a:xfrm>
          <a:prstGeom prst="rect">
            <a:avLst/>
          </a:prstGeom>
          <a:ln w="0">
            <a:noFill/>
          </a:ln>
        </p:spPr>
      </p:pic>
      <p:sp>
        <p:nvSpPr>
          <p:cNvPr id="154" name="Заголовок 1"/>
          <p:cNvSpPr/>
          <p:nvPr/>
        </p:nvSpPr>
        <p:spPr>
          <a:xfrm>
            <a:off x="179640" y="5373360"/>
            <a:ext cx="3816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251640" y="5301360"/>
            <a:ext cx="88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white hair and blue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07640" y="188640"/>
            <a:ext cx="885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смотри на картинку и заверши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  <Words>230</Words>
  <Paragraphs>34</Paragraphs>
  <Company>Space Research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3:34:31Z</dcterms:created>
  <dc:creator>Marina</dc:creator>
  <dc:description/>
  <dc:language>en-US</dc:language>
  <cp:lastModifiedBy>учитель</cp:lastModifiedBy>
  <dcterms:modified xsi:type="dcterms:W3CDTF">2019-04-16T08:40:3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