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017FB-A6A2-4C9A-B2F0-14F6BB15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9C1C35-4846-45F5-B6B1-74E73134EA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176-03D5-4EF6-87C3-8C46351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2FC-84FD-4C25-86FA-BFD4A188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902-5B3E-40D5-957B-FCD747EE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F17-A01E-4FF1-AD41-D40FE42E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BAB4-28B2-4E75-BA5F-591019A6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1304-2E08-43F6-BEBE-031B87A2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A81-5861-4B5E-8A0D-84D7A79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996B-DEE4-4399-B904-E137CA4D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44C-6166-4A04-9FCB-01D1EA7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96EA-F735-411F-B99B-2380E25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4712-ED7D-486B-9532-E0D3042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09F-8BFB-48E9-949D-25788A3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1F6-B2BB-4FC8-8C7E-AB7C40A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E36-AA2C-4A0F-82A3-A3BFCF39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CE68-89C6-4341-97F7-72B8C89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DAA5-2DA3-4E27-B59D-125F775B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D008-6829-4608-AFC2-5AA0AD7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C771-51C1-4752-8AD5-C62A1D1D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25B5-8D76-479F-8124-26F6E0A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E7D7-688A-40D0-ADDB-E9F2B4E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29FC-AA1A-4B46-A7C8-496D677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CE48-3417-459C-9E22-775050C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B84-D035-40FC-8867-E848D85C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E643-78D6-42B6-941F-577FAC3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9737-744A-4691-8FB1-BEA8C85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2F02-B58A-4951-B8F5-E11E034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6402-0463-4027-9AB7-5BDE20D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1F05-1F92-464D-9A10-1F8F8713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87C6-F7C9-410D-B6E2-F43B3EF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7971-DF3A-42F8-AE9F-8BDF209B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342-890B-4655-BAC7-0DC3A2A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495-54C5-4E5A-8B10-59565E3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A9B-5DFF-40E0-B278-6134EA78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A12-231F-4E6C-9803-811B8FAD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80F-0D5A-426E-9997-D3B60CD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7E1-2304-49D4-88A3-5FA4161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A39A2D-6962-4CC6-99BE-32AE246921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8CD76C-9E70-41FB-B9DB-D6EECA94E4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21DB78-7155-41EA-935B-9A5772FEE1B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08640"/>
            <a:ext cx="7772040" cy="43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9600" spc="-1" strike="noStrike">
                <a:solidFill>
                  <a:srgbClr val="0070c0"/>
                </a:solidFill>
                <a:latin typeface="Calibri"/>
              </a:rPr>
              <a:t>SHE’S GOT BLUE EYES…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favim.com/orig/201105/11/beautiful-blue-eyes-boy-coisa-mais-lida-deeeeus-cute-cute-pretty-Favim.com-41116.jpg"/>
          <p:cNvPicPr/>
          <p:nvPr/>
        </p:nvPicPr>
        <p:blipFill>
          <a:blip r:embed="rId1"/>
          <a:stretch/>
        </p:blipFill>
        <p:spPr>
          <a:xfrm>
            <a:off x="179640" y="260640"/>
            <a:ext cx="6120360" cy="406368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1"/>
          <p:cNvSpPr/>
          <p:nvPr/>
        </p:nvSpPr>
        <p:spPr>
          <a:xfrm>
            <a:off x="251640" y="5301360"/>
            <a:ext cx="88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hair and blue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251640" y="5445360"/>
            <a:ext cx="4104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А теперь расскажи о себе и о своих близких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ITC Avant Garde Gothic"/>
              </a:rPr>
              <a:t>I’ve got …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2060"/>
                </a:solidFill>
                <a:latin typeface="ITC Avant Garde Gothic"/>
              </a:rPr>
              <a:t>My mum has got …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7933c"/>
              </a:buClr>
              <a:buFont typeface="Arial"/>
              <a:buChar char="•"/>
            </a:pPr>
            <a:r>
              <a:rPr b="1" lang="en-US" sz="3200" spc="-1" strike="noStrike">
                <a:solidFill>
                  <a:schemeClr val="accent3">
                    <a:lumMod val="75000"/>
                  </a:schemeClr>
                </a:solidFill>
                <a:latin typeface="ITC Avant Garde Gothic"/>
              </a:rPr>
              <a:t>My dad has got ….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1f497d"/>
                </a:solidFill>
                <a:latin typeface="ITC Avant Garde Gothic"/>
              </a:rPr>
              <a:t>My sister/brother has got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ITC Avant Garde Gothic"/>
              </a:rPr>
              <a:t>My grandma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f0"/>
                </a:solidFill>
                <a:latin typeface="ITC Avant Garde Gothic"/>
              </a:rPr>
              <a:t>My grandpa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66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66"/>
                </a:solidFill>
                <a:latin typeface="ITC Avant Garde Gothic"/>
              </a:rPr>
              <a:t>My friend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640" y="1484640"/>
            <a:ext cx="837324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ITC Avant Garde Gothic"/>
              </a:rPr>
              <a:t>GOOD JOB!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TC Avant Garde Gothic"/>
              </a:rPr>
              <a:t>THE END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acidcow.com/pics/20100909/beautiful_children_36.jpg"/>
          <p:cNvPicPr/>
          <p:nvPr/>
        </p:nvPicPr>
        <p:blipFill>
          <a:blip r:embed="rId1"/>
          <a:stretch/>
        </p:blipFill>
        <p:spPr>
          <a:xfrm>
            <a:off x="1547640" y="1268640"/>
            <a:ext cx="5634360" cy="39276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07640" y="188640"/>
            <a:ext cx="885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смотри на картинку, прочти предложение  и выбери правиль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67640" y="5517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6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rown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67640" y="5517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rown/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2.bp.blogspot.com/_ytBushe4UVM/TUT5IkzJlbI/AAAAAAAAAgM/h8-l_5SO5TI/s1600/Lee%2BFamily%2BPortraits%2B%25287%2529.jpg"/>
          <p:cNvPicPr/>
          <p:nvPr/>
        </p:nvPicPr>
        <p:blipFill>
          <a:blip r:embed="rId1"/>
          <a:stretch/>
        </p:blipFill>
        <p:spPr>
          <a:xfrm>
            <a:off x="179640" y="188640"/>
            <a:ext cx="5976360" cy="47862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green/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25.media.tumblr.com/tumblr_m1udvo8U9S1qz7deoo1_500.jpg"/>
          <p:cNvPicPr/>
          <p:nvPr/>
        </p:nvPicPr>
        <p:blipFill>
          <a:blip r:embed="rId1"/>
          <a:stretch/>
        </p:blipFill>
        <p:spPr>
          <a:xfrm>
            <a:off x="179640" y="332640"/>
            <a:ext cx="5664960" cy="4597560"/>
          </a:xfrm>
          <a:prstGeom prst="rect">
            <a:avLst/>
          </a:prstGeom>
          <a:ln w="0">
            <a:noFill/>
          </a:ln>
        </p:spPr>
      </p:pic>
      <p:sp>
        <p:nvSpPr>
          <p:cNvPr id="138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rown/grey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323640" y="5085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grey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sweden.se/upload/Sweden_se/english/articles/SI/2008/Pippi%20Longstocking_republished/Pippi-Longstocking_jacob-forsell_Image%20Bank.jpg"/>
          <p:cNvPicPr/>
          <p:nvPr/>
        </p:nvPicPr>
        <p:blipFill>
          <a:blip r:embed="rId1"/>
          <a:stretch/>
        </p:blipFill>
        <p:spPr>
          <a:xfrm>
            <a:off x="179640" y="260640"/>
            <a:ext cx="7128360" cy="446832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1"/>
          <p:cNvSpPr/>
          <p:nvPr/>
        </p:nvSpPr>
        <p:spPr>
          <a:xfrm>
            <a:off x="1475640" y="5157360"/>
            <a:ext cx="655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red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1475640" y="5157360"/>
            <a:ext cx="655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red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www.beccabondphotography.com/blog/wp-content/uploads/2010/08/IMG_3332.jpg"/>
          <p:cNvPicPr/>
          <p:nvPr/>
        </p:nvPicPr>
        <p:blipFill>
          <a:blip r:embed="rId1"/>
          <a:stretch/>
        </p:blipFill>
        <p:spPr>
          <a:xfrm>
            <a:off x="1259640" y="980640"/>
            <a:ext cx="6408360" cy="42796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79640" y="188640"/>
            <a:ext cx="871272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Посмотри на картинку и назови цвет глаз и волос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179640" y="5589360"/>
            <a:ext cx="87847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663300"/>
                </a:solidFill>
                <a:latin typeface="ITC Avant Garde Gothic"/>
              </a:rPr>
              <a:t>She’s got …</a:t>
            </a:r>
            <a:r>
              <a:rPr b="1" lang="ru-RU" sz="4000" spc="-1" strike="noStrike">
                <a:solidFill>
                  <a:srgbClr val="663300"/>
                </a:solidFill>
                <a:latin typeface="ITC Avant Garde Gothic"/>
              </a:rPr>
              <a:t>.</a:t>
            </a:r>
            <a:r>
              <a:rPr b="1" lang="en-US" sz="4000" spc="-1" strike="noStrike">
                <a:solidFill>
                  <a:srgbClr val="663300"/>
                </a:solidFill>
                <a:latin typeface="ITC Avant Garde Gothic"/>
              </a:rPr>
              <a:t> eyes  and ….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179640" y="5517360"/>
            <a:ext cx="871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lue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gnet.gs/blogger/green-eyes.png"/>
          <p:cNvPicPr/>
          <p:nvPr/>
        </p:nvPicPr>
        <p:blipFill>
          <a:blip r:embed="rId1"/>
          <a:stretch/>
        </p:blipFill>
        <p:spPr>
          <a:xfrm>
            <a:off x="179640" y="116640"/>
            <a:ext cx="5443200" cy="510228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1"/>
          <p:cNvSpPr/>
          <p:nvPr/>
        </p:nvSpPr>
        <p:spPr>
          <a:xfrm>
            <a:off x="323640" y="5301360"/>
            <a:ext cx="82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…. eyes  and …. 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251640" y="551736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green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http://farm3.static.flickr.com/2582/4007593080_a5f479dee9.jpg"/>
          <p:cNvPicPr/>
          <p:nvPr/>
        </p:nvPicPr>
        <p:blipFill>
          <a:blip r:embed="rId1"/>
          <a:stretch/>
        </p:blipFill>
        <p:spPr>
          <a:xfrm>
            <a:off x="251640" y="188640"/>
            <a:ext cx="5292720" cy="5017320"/>
          </a:xfrm>
          <a:prstGeom prst="rect">
            <a:avLst/>
          </a:prstGeom>
          <a:ln w="0">
            <a:noFill/>
          </a:ln>
        </p:spPr>
      </p:pic>
      <p:sp>
        <p:nvSpPr>
          <p:cNvPr id="151" name="Заголовок 1"/>
          <p:cNvSpPr/>
          <p:nvPr/>
        </p:nvSpPr>
        <p:spPr>
          <a:xfrm>
            <a:off x="107640" y="5517360"/>
            <a:ext cx="892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rown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07640" y="551736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…. hair and …..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impowerage.com/wp-content/uploads/2010/07/attractive-older-woman.jpg"/>
          <p:cNvPicPr/>
          <p:nvPr/>
        </p:nvPicPr>
        <p:blipFill>
          <a:blip r:embed="rId1"/>
          <a:stretch/>
        </p:blipFill>
        <p:spPr>
          <a:xfrm>
            <a:off x="1403640" y="836640"/>
            <a:ext cx="6728040" cy="4464000"/>
          </a:xfrm>
          <a:prstGeom prst="rect">
            <a:avLst/>
          </a:prstGeom>
          <a:ln w="0">
            <a:noFill/>
          </a:ln>
        </p:spPr>
      </p:pic>
      <p:sp>
        <p:nvSpPr>
          <p:cNvPr id="154" name="Заголовок 1"/>
          <p:cNvSpPr/>
          <p:nvPr/>
        </p:nvSpPr>
        <p:spPr>
          <a:xfrm>
            <a:off x="179640" y="5373360"/>
            <a:ext cx="3816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51640" y="5301360"/>
            <a:ext cx="88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white hair and blue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07640" y="188640"/>
            <a:ext cx="885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смотри на картинку и заверши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  <Words>230</Words>
  <Paragraphs>34</Paragraphs>
  <Company>Space Research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3:34:31Z</dcterms:created>
  <dc:creator>Marina</dc:creator>
  <dc:description/>
  <dc:language>en-US</dc:language>
  <cp:lastModifiedBy>учитель</cp:lastModifiedBy>
  <dcterms:modified xsi:type="dcterms:W3CDTF">2019-04-16T08:40:3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